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76520" y="304560"/>
            <a:ext cx="73152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71600"/>
            <a:ext cx="7975440" cy="0"/>
          </a:xfrm>
          <a:prstGeom prst="line">
            <a:avLst/>
          </a:prstGeom>
          <a:ln w="5076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86868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54080" y="1440"/>
            <a:ext cx="121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BS Version 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619120" y="6734160"/>
            <a:ext cx="689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B15FBDB-062A-4EB9-8577-3820969FA69C}" type="slidenum"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6320" y="76320"/>
          <a:ext cx="1247760" cy="123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76320"/>
                    <a:ext cx="12477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tandard Work Breakdown Structure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157440" y="5854680"/>
            <a:ext cx="632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Leg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00800" y="6102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59840" y="6105600"/>
            <a:ext cx="2196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Decomposes to lower level WBS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35114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8480" y="3054240"/>
            <a:ext cx="977760" cy="113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01760" y="2819520"/>
            <a:ext cx="600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29200" y="2825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41972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59160" y="3054240"/>
            <a:ext cx="977760" cy="113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lution 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9880" y="2825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41972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72200" y="41972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48520" y="2825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20880" y="3054240"/>
            <a:ext cx="825480" cy="113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ssion Analy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87560" y="3054240"/>
            <a:ext cx="825480" cy="113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vestment Analy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2825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41972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41972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40440" y="3054240"/>
            <a:ext cx="825480" cy="113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s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41972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2825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7440" y="3054240"/>
            <a:ext cx="901800" cy="113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-Service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2978280"/>
            <a:ext cx="0" cy="25779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62400" y="5084640"/>
            <a:ext cx="1305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oject Specific Activ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51800" y="5084640"/>
            <a:ext cx="1068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e-Project Activit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825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59160" y="1911240"/>
            <a:ext cx="21207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andard Work Breakdown Structure (WB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24447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3.7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19400" y="2139840"/>
            <a:ext cx="146052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35280" y="3222720"/>
            <a:ext cx="825480" cy="11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7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est and Measurement Equipment Acqui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01760" y="2971800"/>
            <a:ext cx="684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09680" y="29782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00600" y="26733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25640" y="3206880"/>
            <a:ext cx="825480" cy="113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7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pport and Handling Equipment Acqui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16360" y="3206880"/>
            <a:ext cx="901800" cy="113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7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cilities Construction / Conversion / Expan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83040" y="3206880"/>
            <a:ext cx="901800" cy="113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7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pport Equipment Acquisition / Modif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412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50080" y="3206880"/>
            <a:ext cx="825480" cy="113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7.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pport Facilities and Equipment Mainten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32448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940440" y="3206880"/>
            <a:ext cx="749520" cy="113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7.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itial Spares and Repair Parts Acqui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23888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854840" y="3206880"/>
            <a:ext cx="673200" cy="113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7.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itial Tr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15328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20880" y="3222720"/>
            <a:ext cx="749160" cy="11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7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istics Support Plan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95280" y="29782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4.0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90800" y="1763640"/>
            <a:ext cx="1460520" cy="592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8240" y="2743200"/>
            <a:ext cx="768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95680" y="2403360"/>
            <a:ext cx="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157440" y="5861160"/>
            <a:ext cx="2498760" cy="609480"/>
            <a:chOff x="6157440" y="5861160"/>
            <a:chExt cx="2498760" cy="609480"/>
          </a:xfrm>
        </p:grpSpPr>
        <p:sp>
          <p:nvSpPr>
            <p:cNvPr id="225" name=""/>
            <p:cNvSpPr/>
            <p:nvPr/>
          </p:nvSpPr>
          <p:spPr>
            <a:xfrm>
              <a:off x="6157440" y="5861160"/>
              <a:ext cx="632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00800" y="610236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460200" y="6111720"/>
              <a:ext cx="21960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= Decomposes to lower level WBS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35080" y="2994120"/>
            <a:ext cx="977760" cy="11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gram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27496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41972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59360" y="4578480"/>
            <a:ext cx="105408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stallation and Check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14600" y="27496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50080" y="2978280"/>
            <a:ext cx="977760" cy="113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mmissioning / Close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40440" y="4578480"/>
            <a:ext cx="120672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elecommun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00800" y="27496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467480" y="2749680"/>
            <a:ext cx="0" cy="18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86400" y="2749680"/>
            <a:ext cx="0" cy="18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007480" y="2994120"/>
            <a:ext cx="977760" cy="11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mplementation Tr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458200" y="27496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49480" y="4578480"/>
            <a:ext cx="90144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87560" y="2994120"/>
            <a:ext cx="1054080" cy="11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vironmental and Occupational Safety and Health Compli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78280" y="4578480"/>
            <a:ext cx="97776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te Selection and Acqui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68640" y="2994120"/>
            <a:ext cx="978120" cy="11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str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2749680"/>
            <a:ext cx="0" cy="18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505320" y="2749680"/>
            <a:ext cx="0" cy="18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495680" y="27496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4.1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ogram Managemen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62200" y="2139840"/>
            <a:ext cx="146052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gram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44760" y="3222720"/>
            <a:ext cx="825480" cy="103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ork Planning, Authorization and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01960" y="2971800"/>
            <a:ext cx="273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95480" y="29782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67080" y="26733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16360" y="3206880"/>
            <a:ext cx="82548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1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gram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264280" y="3206880"/>
            <a:ext cx="82548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1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act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3868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6708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5.0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-Service Managemen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87760" y="1835280"/>
            <a:ext cx="135900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-Service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25970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25440" y="3054240"/>
            <a:ext cx="8254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if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444760" y="3054240"/>
            <a:ext cx="67320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echnical Tea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5960" y="4425840"/>
            <a:ext cx="8254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rrective Mainten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2440" y="3054240"/>
            <a:ext cx="8254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ventive Maintenance / Certif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35280" y="4425840"/>
            <a:ext cx="8254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intenance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01960" y="4425840"/>
            <a:ext cx="90180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hift Augm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264200" y="4425840"/>
            <a:ext cx="83484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87760" y="3054240"/>
            <a:ext cx="8254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gram 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9640" y="2819520"/>
            <a:ext cx="768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2825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66680" y="2825640"/>
            <a:ext cx="0" cy="15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76520" y="2825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19520" y="2825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2825640"/>
            <a:ext cx="0" cy="15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352680" y="2825640"/>
            <a:ext cx="0" cy="15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2520" y="2825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09680" y="2825640"/>
            <a:ext cx="0" cy="15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807080" y="3054240"/>
            <a:ext cx="74916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-Service Tr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81480" y="2825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157440" y="5861160"/>
            <a:ext cx="2498760" cy="609480"/>
            <a:chOff x="6157440" y="5861160"/>
            <a:chExt cx="2498760" cy="609480"/>
          </a:xfrm>
        </p:grpSpPr>
        <p:sp>
          <p:nvSpPr>
            <p:cNvPr id="280" name=""/>
            <p:cNvSpPr/>
            <p:nvPr/>
          </p:nvSpPr>
          <p:spPr>
            <a:xfrm>
              <a:off x="6157440" y="5861160"/>
              <a:ext cx="632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00800" y="610236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460200" y="6111720"/>
              <a:ext cx="21960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= Decomposes to lower level WBS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4038480" y="39686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416560" y="4425840"/>
            <a:ext cx="8254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cond Level Engine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91320" y="2825640"/>
            <a:ext cx="0" cy="15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53402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51520" y="3054240"/>
            <a:ext cx="8254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frastructure 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637320" y="4425840"/>
            <a:ext cx="8254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light Inspections and SIAP 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70840" y="3054240"/>
            <a:ext cx="8254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ystem Performance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856640" y="4425840"/>
            <a:ext cx="8254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ystem Oper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00800" y="39686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324480" y="2825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010280" y="2825640"/>
            <a:ext cx="0" cy="15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543800" y="2825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229600" y="2825640"/>
            <a:ext cx="0" cy="15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5.7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ogram Suppor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62200" y="2139840"/>
            <a:ext cx="146052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gram 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444760" y="3222720"/>
            <a:ext cx="825480" cy="103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7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ork Planning, Authorization and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01960" y="2971800"/>
            <a:ext cx="273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95480" y="29782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67080" y="26733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16360" y="3206880"/>
            <a:ext cx="82548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7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gram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4280" y="3206880"/>
            <a:ext cx="82548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7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act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63868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6708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5.8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44960" y="2292480"/>
            <a:ext cx="67320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063880" y="3664080"/>
            <a:ext cx="74916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8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pply 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359160" y="3664080"/>
            <a:ext cx="74916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8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pa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78480" y="3664080"/>
            <a:ext cx="90144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8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pport Equipment Mainten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444760" y="3505320"/>
            <a:ext cx="394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438280" y="35114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733920" y="35114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029200" y="35114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43400" y="30542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50080" y="3664080"/>
            <a:ext cx="90144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8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arranty Track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35114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5.11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frastructure Suppor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121280" y="2521080"/>
            <a:ext cx="90144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frastructure 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073160" y="3892680"/>
            <a:ext cx="90180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1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azardous Materials Hand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444760" y="3892680"/>
            <a:ext cx="105408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11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tilities, Building and Grounds Upkeep and Mainten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645160" y="3892680"/>
            <a:ext cx="97776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11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uilding and Infrastructure Improv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30360" y="3733920"/>
            <a:ext cx="608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523880" y="37400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95480" y="37400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5880" y="37400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0" y="328284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968640" y="3892680"/>
            <a:ext cx="120672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11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elecommun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0" y="37400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169040" y="3892680"/>
            <a:ext cx="97812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11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al Estate Acquisition and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620120" y="37400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6.0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sposition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21280" y="2063880"/>
            <a:ext cx="97776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s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8240" y="3359160"/>
            <a:ext cx="97812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gram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063880" y="3359160"/>
            <a:ext cx="113004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commissio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511440" y="3359160"/>
            <a:ext cx="97812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01760" y="3124080"/>
            <a:ext cx="661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5280" y="3130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34120" y="3130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648320" y="26733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807080" y="3359160"/>
            <a:ext cx="97776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vironmen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590920" y="3130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3130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102360" y="3359160"/>
            <a:ext cx="97776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smantle / Remov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924680" y="3130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97640" y="3359160"/>
            <a:ext cx="97812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.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te Restoration / Close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629400" y="3130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1.0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ission Analysi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14840" y="2521080"/>
            <a:ext cx="146052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ssion Analy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87560" y="3679920"/>
            <a:ext cx="901800" cy="80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dentify Projected Demand for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44760" y="3429000"/>
            <a:ext cx="410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38280" y="34354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9720" y="3089160"/>
            <a:ext cx="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82840" y="3700440"/>
            <a:ext cx="911160" cy="789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dentify Technological Opportunit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54440" y="3679920"/>
            <a:ext cx="978120" cy="80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dentify Projected Supply of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02360" y="3679920"/>
            <a:ext cx="901800" cy="80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ssion Needs Analysis and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33920" y="34354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05520" y="34354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53080" y="34354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2.0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vestment Analysi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14840" y="2068560"/>
            <a:ext cx="1460520" cy="592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vestment Analy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92480" y="3298680"/>
            <a:ext cx="825480" cy="103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quirements Defin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3360" y="3048120"/>
            <a:ext cx="303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708280"/>
            <a:ext cx="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58960" y="4883040"/>
            <a:ext cx="825480" cy="97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itial Requirements Defin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01960" y="4883040"/>
            <a:ext cx="825480" cy="97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1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nalize Requir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264280" y="3298680"/>
            <a:ext cx="901440" cy="103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ternatives Identification and Analy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305424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45784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7080" y="4883040"/>
            <a:ext cx="825480" cy="97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2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ternatives Identif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26040" y="4883040"/>
            <a:ext cx="825480" cy="97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2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ternatives Analy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305424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52680" y="45784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9840" y="4572000"/>
            <a:ext cx="120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66880" y="43498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45784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45784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7960" y="4572000"/>
            <a:ext cx="120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43498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3.0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olution Developmen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67120" y="2144880"/>
            <a:ext cx="1460520" cy="591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lution 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9480" y="3375000"/>
            <a:ext cx="825480" cy="103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gram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6680" y="3124080"/>
            <a:ext cx="6083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313056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27496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16160" y="3359160"/>
            <a:ext cx="82548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ystem Engine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06880" y="3375000"/>
            <a:ext cx="825480" cy="103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W / SW Design, Development and Pro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40240" y="3375000"/>
            <a:ext cx="749520" cy="103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est and Evalu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3130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13056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15000" y="313056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54640" y="3375000"/>
            <a:ext cx="901800" cy="103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629400" y="313056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157440" y="5861160"/>
            <a:ext cx="2498760" cy="609480"/>
            <a:chOff x="6157440" y="5861160"/>
            <a:chExt cx="2498760" cy="609480"/>
          </a:xfrm>
        </p:grpSpPr>
        <p:sp>
          <p:nvSpPr>
            <p:cNvPr id="119" name=""/>
            <p:cNvSpPr/>
            <p:nvPr/>
          </p:nvSpPr>
          <p:spPr>
            <a:xfrm>
              <a:off x="6157440" y="5861160"/>
              <a:ext cx="632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00800" y="610236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60200" y="6111720"/>
              <a:ext cx="21960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= Decomposes to lower level WBS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600200" y="44258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90920" y="44258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57600" y="44258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15000" y="44258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19880" y="3375000"/>
            <a:ext cx="750960" cy="103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94640" y="313056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96080" y="44258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97240" y="3375000"/>
            <a:ext cx="978120" cy="103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cilities and Physical Infrastructure Design and 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313056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48320" y="44258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3.1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ogram Managemen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62200" y="2139840"/>
            <a:ext cx="146052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gram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44760" y="3222720"/>
            <a:ext cx="825480" cy="103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ork Planning, Authorization and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01960" y="2971800"/>
            <a:ext cx="273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5480" y="29782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26733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16360" y="3206880"/>
            <a:ext cx="82548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1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gram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64280" y="3206880"/>
            <a:ext cx="82548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1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act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3868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3.2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ystem Engineering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19400" y="2216160"/>
            <a:ext cx="14605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ystem Engine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8240" y="3298680"/>
            <a:ext cx="825480" cy="96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2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ystem Requirements and Defin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25440" y="3048120"/>
            <a:ext cx="692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305424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24280" y="27496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35280" y="3282840"/>
            <a:ext cx="672840" cy="97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2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alysis, Design, and Integ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9680" y="3282840"/>
            <a:ext cx="749160" cy="97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2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alue Engine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3054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40040" y="3282840"/>
            <a:ext cx="978120" cy="97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2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pportability, Maintainability, and Reliability Engine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91120" y="3054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33720" y="3054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59360" y="3298680"/>
            <a:ext cx="673200" cy="96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2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Quality Assurance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305424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73760" y="3298680"/>
            <a:ext cx="825480" cy="96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2.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figuration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305424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940440" y="3282840"/>
            <a:ext cx="673200" cy="97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2.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uman Fa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7232400" y="3054240"/>
            <a:ext cx="1404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854840" y="3282840"/>
            <a:ext cx="673200" cy="97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2.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8146800" y="3054240"/>
            <a:ext cx="1404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3.3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W/SW Design, Development and Production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67120" y="1987560"/>
            <a:ext cx="146052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W/SW Design, Development and Pro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5960" y="3222720"/>
            <a:ext cx="1054080" cy="73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3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sign and 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9480" y="2971800"/>
            <a:ext cx="669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9782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26733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92480" y="3222720"/>
            <a:ext cx="1130040" cy="73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3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ftware Design and 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29782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8640" y="3222720"/>
            <a:ext cx="1206720" cy="73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3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W/SW Integration, Assembly, Test and Check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29782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21680" y="3222720"/>
            <a:ext cx="1054080" cy="73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3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48720" y="2978280"/>
            <a:ext cx="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21480" y="3206880"/>
            <a:ext cx="105408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3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duction Enginee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7220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3.4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ilities and Physical Infrastructure Design and Developmen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38520" y="2292480"/>
            <a:ext cx="1460520" cy="67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cilities and Physical Infrastructure Design and 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9840" y="3527280"/>
            <a:ext cx="1054080" cy="73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4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cility Planning and Des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73360" y="3276720"/>
            <a:ext cx="349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66880" y="328284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29782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16360" y="3527280"/>
            <a:ext cx="1130400" cy="73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4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al Est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19720" y="328284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92880" y="3527280"/>
            <a:ext cx="1206360" cy="73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4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hysical Infra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72200" y="328284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BS Element 3.5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est and Evaluation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38520" y="2063880"/>
            <a:ext cx="14605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est and Evalu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16160" y="2971800"/>
            <a:ext cx="440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19720" y="26733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58960" y="3206880"/>
            <a:ext cx="82548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5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ystem Development Test and Evalu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01960" y="3206880"/>
            <a:ext cx="74916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5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ystem Operational Test and Evalu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68640" y="3206880"/>
            <a:ext cx="90180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5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ystem Independent Software Verification and Valid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0968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254640" y="3206880"/>
            <a:ext cx="74952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5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dependent Operational Test and Evalu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1972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87960" y="3222720"/>
            <a:ext cx="749160" cy="1038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5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te Acceptance Tes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297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20T11:21:02Z</dcterms:created>
  <dc:creator>Authorized Gateway Customer</dc:creator>
  <dc:description/>
  <dc:language>en-US</dc:language>
  <cp:lastModifiedBy>Alice Harball</cp:lastModifiedBy>
  <cp:lastPrinted>1998-07-21T17:32:18Z</cp:lastPrinted>
  <dcterms:modified xsi:type="dcterms:W3CDTF">1998-07-21T17:39:28Z</dcterms:modified>
  <cp:revision>3</cp:revision>
  <dc:subject/>
  <dc:title>WBS - 1st Level</dc:title>
</cp:coreProperties>
</file>