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12B1-9B6D-40FB-BA69-F729CE69A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D7AE-4D57-43BB-8499-1576027DA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C8F4-C03E-4890-9488-B4315C67E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2979-8A19-485C-B2DF-FB90B23B8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C6131-660F-4BB7-87DD-5DCE0E83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22149-AFE9-4115-B782-6CBBA65B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5CBFF-EDF0-488F-9940-127C68AC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ABCDE-CC4E-4E68-88B0-88D65F50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C7EDE-F6E8-4D81-8D9A-380FFD2F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AE0ED-B047-41E0-BFAB-DFF365F3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5ADC1-5D30-482C-9B14-B4E47890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38A9-3615-4775-8C25-BF7AE9191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D84B8-F072-4EAC-BA14-732DA21C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F0AD7-AD19-496B-B541-3717C88B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DF477-E588-4F30-9151-8EB98F2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8E648-8B14-4326-980A-3F2A07FD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C984F-83B8-4E7C-AAA3-601D4872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CB09-CC81-41C7-B6E1-A2290C24B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5F5F-A9E7-412B-9585-CC007CFF2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48C7-56DB-4269-AD7B-A2A1A722E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2449-23C5-4737-9509-E452F8CFC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590F-D6A9-46A8-9E95-13B8DFA0F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E6FB-6A89-42F7-A7D2-C927700DE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06EF-3598-4DB6-BA65-3BF56DB1A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BA04-6A8C-411B-86E0-3B32737C7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AB58-8E72-43D6-9CC1-C3DE1B61F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Fig9-2.mpp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ig9-3.mpp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Fig9-4.htm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Communications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8945B-5CA9-4A57-B33C-AE04AE81BC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formance Repor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ance reporting keeps stakeholders informed about how resources are being used to achieve project objectiv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us reports describe where the project stands at a specific point in tim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gress reports describe what the project team has accomplished during a certain period of tim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ject forecasting predicts future project status and progress based on past information and trend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us review meetings often include performance reporti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1832-5E6B-4C54-A8C6-ACCD4368D4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ministrative Clos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roject or phase of a project requires closu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dministrative closure produ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archiv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mal accepta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4493-2F8D-4869-BB66-378E448F08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ggestions for Improving Project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lve conflicts effectivel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 better communication skil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un effective meeting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e templates for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D57F-FB45-41CE-96D4-ABDA08E2D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flict Handling Modes, in Preference Ord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frontation or problem-solving: directly face a confli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romise: use a give-and-take approac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moothing: de-emphasize areas of differences and emphasize areas of agre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cing: the win-lose approac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ithdrawal: retreat or withdraw from an actual or potential disagre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7073-C052-42DB-97FA-EF901F528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9-2. Sample Template for a Project Descrip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33520"/>
            <a:ext cx="80773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Describe the objective of the project in one or two sentences.  Focus on the business benefits of doing the projec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cope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Briefly describe the scope of the project.  What business functions are involved, and what are the main products the project will produ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Assumptions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Summarize the most critical assumptions for the projec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ost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Provide the total estimated cost of the project.  If desired, list the total cost each year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chedule: 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Provide summary information from the project’s Gantt chart as shown.  Focus on summary tasks and milestone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8105760" cy="2459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0320" y="6095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D007-78DD-4A20-9792-17929243BA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2. Sample Template for a Monthly Progress Re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38080" y="1554120"/>
          <a:ext cx="8305920" cy="417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54120"/>
                    <a:ext cx="830592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6C00-A21B-4D96-A5A8-D887388BD4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ble 9-3. Sample Template for a Letter of Agreement for a Class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43000" y="1281240"/>
          <a:ext cx="769608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81240"/>
                    <a:ext cx="76960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C755-73DB-4F12-A791-A073F3A27E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4. Outline for a Final Project Re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14400" y="1920960"/>
          <a:ext cx="8229600" cy="339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20960"/>
                    <a:ext cx="822960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7327-1B9F-4546-89A3-E61622DD02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5. Final Project Documentation I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1487520"/>
          <a:ext cx="7772400" cy="43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87520"/>
                    <a:ext cx="77724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A094-5E6B-4CB9-90CE-5C73CAB214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9-3.  Gantt Chart Template for a Class Proj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6280" y="60199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82720" y="533520"/>
            <a:ext cx="8261280" cy="53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7B44-A184-42D5-BF78-5E69D0B994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Good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greatest threat to many projects is a failure to communic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ur culture does not portray IT professionals as being good communica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earch shows that IT professionals must be able to communicate effectively to succeed in their posi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rong verbal skills are a key factor in career advancement for IT profession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9E7D-76C9-4213-846A-06131A147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 9-6. Guidance for Student’s Lessons Learned Re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289160"/>
            <a:ext cx="76960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very two weeks or after a major event in your group project, write a brief journal entry describing what happened and how you felt about it. At the end of the term, write a 2-3 page paper describing your lessons learned based on your group project. Answer the following questions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were your roles and responsibilities on the team? How were they decided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ike/dislike about the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earn about project management and yourself by doing the group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earn about teamwork and yourself by doing the group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would you have done differently? What will you remember to do on the next project you work on after this experience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83702-AA59-41C0-B659-6B0D473087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8390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Communications Infrastru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845820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communications infrastructure is a set of tools, techniques, and principles that provide a foundation for the effective transfer of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ools include e-mail, project management software, groupware, fax machines, telephones, teleconferencing systems, document management systems, and word processo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echniques include reporting guidelines and templates, meeting ground rules and procedures, decision-making processes, problem-solving approaches, and conflict resolution and negotiation techniqu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inciples include using open dialog and an agreed upon work ethic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D472-1BF1-4DD0-A8D1-CF9F051588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Software to Assist in Project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many software tools to aid in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What Went Right? Example describes several new web-based and wireless communications too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icrosoft Project 98 includes several features to enhance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DDB4-C92B-410F-B52C-FAC026FAE5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9-4.  MS Project 98 Information Saved as HTML F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742000" cy="5803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12600" y="6095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2EEE-7EE2-4B8F-A925-9F9CA5A278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56880" y="3805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1085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examples of media that poke fun at the communications skills of technical professionals. How does poking fun at technical professionals' communications skills impact the industry and educational program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the advantages and disadvantages of different ways to distribute project information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w can software assist in project communications? How can it hurt project communication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160A-2969-480B-B762-70D4E76D0F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Communications Management Proce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munications planning: determining the information and communications needs of the stakehol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ormation distribution: making needed information available in a timely mann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ance reporting: collecting and disseminating performance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dministrative closure: generating, gathering, and disseminating information to formalize phase or project comple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7D58-16F7-46D7-BDE8-D1F2B984D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s Plan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 project should include some type of communications management plan, a document that guides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reating a stakeholder analysis for project communications also aids in communications plann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449F-3E6A-4B5D-BE4F-77EC72D535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s Management Plan Cont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description of a collection and filing structure for gathering and storing various types of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distribution structure describing what information goes to whom, when, and how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format for communicating key project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project schedule for producing th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ccess methods for obtaining th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method for updating the communications management plans as the project progresses and develop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stakeholder communications analys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FF10-04BF-42E2-AACD-9AC724F5C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ble 9-1. Sample Stakeholder Analysis for Project Commun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66680" y="1143000"/>
          <a:ext cx="7162920" cy="52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716292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3C8C-85E7-431B-B999-AD350888B7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Distrib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etting the right information to the right people at the right time and in a useful format is just as important as developing the information in the first pla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ortant consideration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ing technology to enhance information distribu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mal and informal methods for distributing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3ACB1-B8F4-45FC-A5E4-38BA13EE65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ent Wrong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7621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well publicized example of misuse of e-mail comes from the 1998 Justice Department's high profile, antitrust suit against Microsoft. E-mail emerged as a star witness in the case. Many executives sent messages that should never have been put in writing. The court used e-mail as evidence, even though the senders of the notes said the information was being interpreted out of context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ome companies, such as Amazon.com, have established policies to encourage employees to watch their use of e-mail and delete it often. Their "Sweep and Clean" program instructed employees to purge e-mails that were no longer required for business or legal purposes. They even offered free café lattes to employees who complied immediately. 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6400" y="6243480"/>
            <a:ext cx="49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Harmon, Amy, "E-mail comes back to haunt companies," November 29, 1998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6C5D-F474-498D-A314-66FE364837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9-1. The Impact of the Number of People on Communications Channe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689960" cy="49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1246-5D3C-4862-9142-DE33D1F36E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8-16T19:01:19Z</cp:lastPrinted>
  <dcterms:modified xsi:type="dcterms:W3CDTF">1999-08-16T19:19:49Z</dcterms:modified>
  <cp:revision>146</cp:revision>
  <dc:subject/>
  <dc:title>No Slide Title</dc:title>
</cp:coreProperties>
</file>