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687AAD-8A29-49A7-85B3-784E1108D3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D10CA5-4641-4FD8-A0EB-AEA6519B1F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DBD557-D842-46B5-8EED-60B93F16CE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9A1755-D46B-4023-9A2B-41536C9D4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026875-0D37-404D-A5CE-A8B8602AF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619A2-C06E-4588-BF87-BD8BF6508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18CF5-4A7C-4C81-B4F7-680F74940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6C7C0-C37A-482E-8315-0EF7FD85D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1B6AE-66DD-471C-8A7A-F5A23E5D6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0EF37-A85C-46AE-BC1A-3848438C6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7ACFB-F19D-41E6-9BBA-517D00C06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D6C1B4-FA8A-48B5-8875-FACBFFB73E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CCD8A-432E-495B-9F32-2F6BD2669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CDCDB-6005-40FE-9CE5-613508DB6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03089B-D8FC-4719-8EAC-AB7FE18AD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59D6D6-FEFC-4874-B8E7-95BCCCB074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605CFB-7A62-4F59-9614-3FF1C1CFC7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EF0CBB-6F63-4DE1-978B-011830F51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E8C677-4823-4F41-9946-03208BE5FB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5E8BA1-7F52-4C53-AE9D-17E39F5CF2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DD17EC-DBF3-4A30-AAFF-0461791BB7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AF52A7-7676-4E3C-9646-031AA92D03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D96FCA-A0C8-48C3-A892-4F089F206F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F8A0E2-F09F-4642-BEE4-FE9A4266C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55A6-0839-4035-B9FB-0867FF0AE8A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2059-1203-4B1D-B1E7-BFAD4213D12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6:</a:t>
            </a:r>
            <a:br>
              <a:rPr sz="4800"/>
            </a:br>
            <a:r>
              <a:rPr b="1" lang="en-US" sz="4800" spc="-1" strike="noStrike">
                <a:solidFill>
                  <a:srgbClr val="000000"/>
                </a:solidFill>
                <a:latin typeface="Times New Roman"/>
              </a:rPr>
              <a:t>Clos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D9A52C69-A593-48F8-A4B7-27FF16BA0D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1.  Selling Impact of ResNet</a:t>
            </a:r>
            <a:endParaRPr b="1" lang="en-US" sz="3600" spc="-1" strike="noStrike">
              <a:solidFill>
                <a:srgbClr val="000000"/>
              </a:solidFill>
              <a:latin typeface="Times New Roman"/>
            </a:endParaRPr>
          </a:p>
        </p:txBody>
      </p:sp>
      <p:pic>
        <p:nvPicPr>
          <p:cNvPr id="197" name="" descr=""/>
          <p:cNvPicPr/>
          <p:nvPr/>
        </p:nvPicPr>
        <p:blipFill>
          <a:blip r:embed="rId1"/>
          <a:stretch/>
        </p:blipFill>
        <p:spPr>
          <a:xfrm>
            <a:off x="914400" y="838080"/>
            <a:ext cx="7848720" cy="5015160"/>
          </a:xfrm>
          <a:prstGeom prst="rect">
            <a:avLst/>
          </a:prstGeom>
          <a:ln w="0">
            <a:noFill/>
          </a:ln>
        </p:spPr>
      </p:pic>
      <p:sp>
        <p:nvSpPr>
          <p:cNvPr id="198" name=""/>
          <p:cNvSpPr/>
          <p:nvPr/>
        </p:nvSpPr>
        <p:spPr>
          <a:xfrm>
            <a:off x="3440520" y="457200"/>
            <a:ext cx="57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rect sales greatly exceeded expectations!</a:t>
            </a:r>
            <a:endParaRPr b="0" lang="en-US" sz="2400" spc="-1" strike="noStrike">
              <a:solidFill>
                <a:srgbClr val="333300"/>
              </a:solidFill>
              <a:latin typeface="Times New Roman"/>
            </a:endParaRPr>
          </a:p>
        </p:txBody>
      </p:sp>
      <p:sp>
        <p:nvSpPr>
          <p:cNvPr id="199" name=""/>
          <p:cNvSpPr/>
          <p:nvPr/>
        </p:nvSpPr>
        <p:spPr>
          <a:xfrm flipV="1">
            <a:off x="3505320" y="914040"/>
            <a:ext cx="685800" cy="30492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2798EF6-2680-4749-96E2-DB09CB6A7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Methodology</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udit methodology showed the amount of rigor that NWA put into its project audits and benefits measurement (see What Went Righ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analyzed historical information and ensured that data was not bias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atistical techniques were used to develop and measure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DDC6A55-CEC9-4E86-ADE4-20AD80BAC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Final Recognition Party and Personnel Transition</a:t>
            </a:r>
            <a:endParaRPr b="1" lang="en-US" sz="4400" spc="-1" strike="noStrike">
              <a:solidFill>
                <a:srgbClr val="000000"/>
              </a:solidFill>
              <a:latin typeface="Times New Roman"/>
            </a:endParaRPr>
          </a:p>
        </p:txBody>
      </p:sp>
      <p:sp>
        <p:nvSpPr>
          <p:cNvPr id="203" name="PlaceHolder 2"/>
          <p:cNvSpPr>
            <a:spLocks noGrp="1"/>
          </p:cNvSpPr>
          <p:nvPr>
            <p:ph/>
          </p:nvPr>
        </p:nvSpPr>
        <p:spPr>
          <a:xfrm>
            <a:off x="762120" y="1447920"/>
            <a:ext cx="81532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his team knew how important strong starts were, and they also wanted to have a strong finish</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inal recognition party celebrated everyone’s achievements on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gain authorized funds to hire actors to help organize fun events like the ResNet Rap performa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A35E8B-29BB-49B2-BCA8-AA856BCD3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0"/>
            <a:ext cx="8305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2.  ResNet Developers’ Rap*</a:t>
            </a:r>
            <a:endParaRPr b="1" lang="en-US" sz="3600" spc="-1" strike="noStrike">
              <a:solidFill>
                <a:srgbClr val="000000"/>
              </a:solidFill>
              <a:latin typeface="Times New Roman"/>
            </a:endParaRPr>
          </a:p>
        </p:txBody>
      </p:sp>
      <p:sp>
        <p:nvSpPr>
          <p:cNvPr id="205" name=""/>
          <p:cNvSpPr/>
          <p:nvPr/>
        </p:nvSpPr>
        <p:spPr>
          <a:xfrm>
            <a:off x="767520" y="6248520"/>
            <a:ext cx="180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Times New Roman"/>
              </a:rPr>
              <a:t>* Written by Nancy Desch</a:t>
            </a:r>
            <a:endParaRPr b="0" lang="en-US" sz="1200" spc="-1" strike="noStrike">
              <a:solidFill>
                <a:srgbClr val="333300"/>
              </a:solidFill>
              <a:latin typeface="Times New Roman"/>
            </a:endParaRPr>
          </a:p>
        </p:txBody>
      </p:sp>
      <p:graphicFrame>
        <p:nvGraphicFramePr>
          <p:cNvPr id="206" name=""/>
          <p:cNvGraphicFramePr/>
          <p:nvPr/>
        </p:nvGraphicFramePr>
        <p:xfrm>
          <a:off x="2590920" y="457200"/>
          <a:ext cx="5362560" cy="6172200"/>
        </p:xfrm>
        <a:graphic>
          <a:graphicData uri="http://schemas.openxmlformats.org/presentationml/2006/ole">
            <p:oleObj progId="Word.Document.12" r:id="rId1" spid="">
              <p:embed/>
              <p:pic>
                <p:nvPicPr>
                  <p:cNvPr id="207" name="" descr=""/>
                  <p:cNvPicPr/>
                  <p:nvPr/>
                </p:nvPicPr>
                <p:blipFill>
                  <a:blip r:embed="rId2"/>
                  <a:stretch/>
                </p:blipFill>
                <p:spPr>
                  <a:xfrm>
                    <a:off x="2590920" y="457200"/>
                    <a:ext cx="536256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A1FA624-FCE6-4339-A99C-D495080B6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9" name=""/>
          <p:cNvSpPr/>
          <p:nvPr/>
        </p:nvSpPr>
        <p:spPr>
          <a:xfrm>
            <a:off x="838080" y="68580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WA still struggles with transferring people, roles, and responsibilities between projects and on-going operations.  For example, there were problems after completing the Computer Telephony Integration (CTI) work for ResNet 1996.  This new technology provided better call handling by having customers respond to telephone prompts before talking to a sales agent.  When the ResNet team had completed the work, the functional group that should have taken over support for it did not understand or willingly accept their new roles and responsibilities.  NWA also did not budget enough people to support this new technology.  This lack of transition planning caused several conflicts after the ResNet project ended.  Senior management had to intervene to resolve these conflict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D0D1261-BE8F-4B75-B3DF-17E088127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s Learned</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87000"/>
          </a:bodyPr>
          <a:p>
            <a:pPr marL="298440" indent="-2984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lthough the ResNet team did not write any formal lessons learned, Peeter, Kathy, and Arvid shared the following advic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t workers have fun</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ginnings are importa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op management support is critical</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aging change is 50% of project manageme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e management reviews interactiv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t realistic milestone dates, and then stick to the schedule as much as possibl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lan at a workable leve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A22046A-38DD-4B47-ACE2-B880494BF5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Next For ResNet?</a:t>
            </a:r>
            <a:endParaRPr b="1" lang="en-US" sz="4400" spc="-1" strike="noStrike">
              <a:solidFill>
                <a:srgbClr val="000000"/>
              </a:solidFill>
              <a:latin typeface="Times New Roman"/>
            </a:endParaRPr>
          </a:p>
        </p:txBody>
      </p:sp>
      <p:sp>
        <p:nvSpPr>
          <p:cNvPr id="21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siness and market forces have added new requirement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athy Christenson is leading the ResNet+ project to add more capabilitie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is focusing on business needs as the basis for the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44655C6-D01B-4333-A00E-A016EDF17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3. Business Need for ResNet+</a:t>
            </a:r>
            <a:endParaRPr b="1" lang="en-US" sz="3600" spc="-1" strike="noStrike">
              <a:solidFill>
                <a:srgbClr val="000000"/>
              </a:solidFill>
              <a:latin typeface="Times New Roman"/>
            </a:endParaRPr>
          </a:p>
        </p:txBody>
      </p:sp>
      <p:pic>
        <p:nvPicPr>
          <p:cNvPr id="215" name="" descr=""/>
          <p:cNvPicPr/>
          <p:nvPr/>
        </p:nvPicPr>
        <p:blipFill>
          <a:blip r:embed="rId1"/>
          <a:stretch/>
        </p:blipFill>
        <p:spPr>
          <a:xfrm>
            <a:off x="2133720" y="685800"/>
            <a:ext cx="4792680" cy="5791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CFDB985-1427-4582-9166-BCB3D54EDA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7"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view the goals of the ResNet final audit report.  What was the focus of the audit?  Why was it important to document the methodology assumptions?  What other questions could be included in a final project audit?</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Peeter, Kathy, and Arvid will most likely use on future project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will be hardest to replicate on future projects?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6C52B97-F933-4E57-B84E-A93957CC9CD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los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processes include gaining stakeholder acceptance of the final product and bringing the project or phase to an orderly en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verifies that all of the deliverables have been complet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audit is often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4380442-0A6B-4B29-B4EE-FE0F084A20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on Planning</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plan for and execute a smooth transition of the project into the normal operations of the compan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projects produce results that are integrated into the existing organizational structur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require the addition of new organizational structure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end by extinction or starv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12665BE-6427-4E76-A5A7-5D04384B07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6-1. Closing Processes and Outputs</a:t>
            </a:r>
            <a:endParaRPr b="1" lang="en-US" sz="4400" spc="-1" strike="noStrike">
              <a:solidFill>
                <a:srgbClr val="000000"/>
              </a:solidFill>
              <a:latin typeface="Times New Roman"/>
            </a:endParaRPr>
          </a:p>
        </p:txBody>
      </p:sp>
      <p:graphicFrame>
        <p:nvGraphicFramePr>
          <p:cNvPr id="183" name=""/>
          <p:cNvGraphicFramePr/>
          <p:nvPr/>
        </p:nvGraphicFramePr>
        <p:xfrm>
          <a:off x="762120" y="1905120"/>
          <a:ext cx="8381880" cy="1931760"/>
        </p:xfrm>
        <a:graphic>
          <a:graphicData uri="http://schemas.openxmlformats.org/presentationml/2006/ole">
            <p:oleObj progId="Word.Document.12" r:id="rId1" spid="">
              <p:embed/>
              <p:pic>
                <p:nvPicPr>
                  <p:cNvPr id="184" name="" descr=""/>
                  <p:cNvPicPr/>
                  <p:nvPr/>
                </p:nvPicPr>
                <p:blipFill>
                  <a:blip r:embed="rId2"/>
                  <a:stretch/>
                </p:blipFill>
                <p:spPr>
                  <a:xfrm>
                    <a:off x="762120" y="1905120"/>
                    <a:ext cx="8381880" cy="1931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E65EE49-7786-48F4-AB15-E14EA1209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nistrative Closure</a:t>
            </a:r>
            <a:endParaRPr b="1" lang="en-US" sz="4400" spc="-1" strike="noStrike">
              <a:solidFill>
                <a:srgbClr val="000000"/>
              </a:solidFill>
              <a:latin typeface="Times New Roman"/>
            </a:endParaRPr>
          </a:p>
        </p:txBody>
      </p:sp>
      <p:sp>
        <p:nvSpPr>
          <p:cNvPr id="186" name="PlaceHolder 2"/>
          <p:cNvSpPr>
            <a:spLocks noGrp="1"/>
          </p:cNvSpPr>
          <p:nvPr>
            <p:ph/>
          </p:nvPr>
        </p:nvSpPr>
        <p:spPr>
          <a:xfrm>
            <a:off x="804960" y="914040"/>
            <a:ext cx="833904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ministrative closure involves</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verifying and documenting project results to formalize acceptance of the products produced</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llecting project record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products meet specification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yzing whether the project was successful and effectiv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project information for future use</a:t>
            </a:r>
            <a:endParaRPr b="1" lang="en-US" sz="28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had several reviews of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4BB342C-C499-400B-99C1-FDD75F2325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6-2. ResNet Benefits Results from March 1996 Benefits Review</a:t>
            </a:r>
            <a:endParaRPr b="1" lang="en-US" sz="4000" spc="-1" strike="noStrike">
              <a:solidFill>
                <a:srgbClr val="000000"/>
              </a:solidFill>
              <a:latin typeface="Times New Roman"/>
            </a:endParaRPr>
          </a:p>
        </p:txBody>
      </p:sp>
      <p:graphicFrame>
        <p:nvGraphicFramePr>
          <p:cNvPr id="188" name=""/>
          <p:cNvGraphicFramePr/>
          <p:nvPr/>
        </p:nvGraphicFramePr>
        <p:xfrm>
          <a:off x="152280" y="1981080"/>
          <a:ext cx="8991720" cy="1451160"/>
        </p:xfrm>
        <a:graphic>
          <a:graphicData uri="http://schemas.openxmlformats.org/presentationml/2006/ole">
            <p:oleObj progId="Word.Document.12" r:id="rId1" spid="">
              <p:embed/>
              <p:pic>
                <p:nvPicPr>
                  <p:cNvPr id="189" name="" descr=""/>
                  <p:cNvPicPr/>
                  <p:nvPr/>
                </p:nvPicPr>
                <p:blipFill>
                  <a:blip r:embed="rId2"/>
                  <a:stretch/>
                </p:blipFill>
                <p:spPr>
                  <a:xfrm>
                    <a:off x="152280" y="1981080"/>
                    <a:ext cx="8991720" cy="1451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222E2EF-C66D-4903-8816-3CDDD67BC5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Audit</a:t>
            </a:r>
            <a:endParaRPr b="1" lang="en-US" sz="4400" spc="-1" strike="noStrike">
              <a:solidFill>
                <a:srgbClr val="000000"/>
              </a:solidFill>
              <a:latin typeface="Times New Roman"/>
            </a:endParaRPr>
          </a:p>
        </p:txBody>
      </p:sp>
      <p:sp>
        <p:nvSpPr>
          <p:cNvPr id="191"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ormal audit was completed on December 10, 1996</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main questions address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benefits, in terms of selling and call handle time, have been realized by the Reservations Department as a result of ResNe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do those real results compare with projected results in the PR2 pla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B6FDE16-811A-43BB-8352-60D65F342D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Answers to Questions</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90720"/>
            <a:ext cx="7958160" cy="4790880"/>
          </a:xfrm>
          <a:prstGeom prst="rect">
            <a:avLst/>
          </a:prstGeom>
          <a:noFill/>
          <a:ln w="0">
            <a:noFill/>
          </a:ln>
        </p:spPr>
        <p:txBody>
          <a:bodyPr lIns="92160" rIns="92160" tIns="46080" bIns="46080" anchor="t">
            <a:normAutofit fontScale="94000"/>
          </a:bodyPr>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ervations Department has significantly increased selling as a result of management leadership, the market environment, and the opportunities provided by ResNet as a selling tool</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ile increased selling, new hires, E-ticket sales, and other factors have increased Reservations' average call handle time for 1996, statistics support a handle time benefit from ResNet conversion  </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f the two items audited, the higher than expected increase in selling compensated for the shortfall in call handle time, resulting in a net gain of $0.8 million to Northwest Airlines in 1996 versus the PR-2 projections.</a:t>
            </a:r>
            <a:endParaRPr b="1" lang="en-US" sz="2400" spc="-1" strike="noStrike">
              <a:solidFill>
                <a:srgbClr val="3333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38974CD-ABE0-4507-803E-E28AF5BDF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al Audit Report Resul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greatly surpassed expect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creased direct sales by 17.7% versus the planned 5.5%</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s increase in direct sales meant an additional $2.3 million in 1996 commission saving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its first year of operation, ResNet saved Northwest Airlines over $15 million, and savings were over $33 million in the second yea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AC9A017-C5CB-434A-ABE5-C443D6741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0:27:08Z</cp:lastPrinted>
  <dcterms:modified xsi:type="dcterms:W3CDTF">1999-08-17T20:28:34Z</dcterms:modified>
  <cp:revision>294</cp:revision>
  <dc:subject/>
  <dc:title>No Slide Title</dc:title>
</cp:coreProperties>
</file>