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F69C-0EDF-490C-B4BE-CFDE18103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1F22-18BF-4AAA-A7C5-2E8A6FFED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C939-B5A1-484A-A05B-76CBDDD1A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5179-00EC-4B03-A57B-FA05BDF58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564F1-0960-4AD4-B2E8-3ACBECBF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4C8CB-CA40-4D98-8632-EE5B2B44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1AFE8-E4E9-48C0-BF89-C8D89DB3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2C53-09DE-4603-975E-AF5CA202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4F482-CE7A-4D83-B73A-6FD64822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FF817-718B-4118-B675-73B2291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E7261-96E6-4E35-B009-D38D248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083A-0D08-4205-A2CE-28BB08F3B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177BF-5828-4D84-8A6E-7C293149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F193-1E85-4787-A61F-2A87933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1600A-7931-43F3-B351-8C07AB7D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59481-982C-4C4F-87E4-57F6A204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28BAE-3B01-484F-91EA-689F4EE9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C2E6-4961-45CD-86DE-018E492C1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B9DF-68D7-495D-9F7E-EA9EB86F7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F73D-9AA9-4DE0-97FB-4DE32596A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D5B8-4A43-4B5A-885C-E6EB3E175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FFDF-B542-45CE-B9AB-96056E43C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D72B-C415-4562-A7AF-8D4B4E919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3CAE-ECB4-4EB0-8F29-8BD986409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610-F80D-448E-89AD-59AA0D42C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2DD-8866-4D10-94B4-3616482D4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hyperlink" Target="file:///Fig8-6.xls" TargetMode="Externa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8-7.mpp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keirsey.com/" TargetMode="External"/><Relationship Id="rId2" Type="http://schemas.openxmlformats.org/officeDocument/2006/relationships/hyperlink" Target="http://www.keirsey.com/" TargetMode="External"/><Relationship Id="rId3" Type="http://schemas.openxmlformats.org/officeDocument/2006/relationships/hyperlink" Target="http://www.keirsey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Human Resource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1CA8B-E83A-4972-8C9A-5D12C72D03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ys to Influence that Help and Hurt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succeed when project managers influence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i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challen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fail when project managers rely too heavily 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uthor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ne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nal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7F54-919E-45E8-8312-55A626D8F3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wer is the potential ability to influence behavior to get people to do things they would not otherwise d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ypes of power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erciv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gitim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wa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fer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2689-25CE-4B46-BCD5-119289D439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Effectiveness - Covey’s 7 Habi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rs can apply Covey’s 7 habits to improve effectiveness on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 proactiv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gin with the end in min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t first things firs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 win/w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ek first to understand, then to be understoo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ynergiz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harpen the sa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095A-838A-48BF-87A0-0B0F96E17A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pathic Listening and Rap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rs are empathic listeners; they listen with the intent to understan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efore you can communicate with others, you have to have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rroring is a technique to help establish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fessionals often need to develop empathic listening and other people skills to improve relationships with users and other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A3E8-C311-48F3-8102-6D37990B2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Relationships Between Users and Develop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require business people, not IT people, to take the lead in determining and justifying investments in new computer syste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IOs push their staff to recognize that the needs of the business must drive all technology decis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reshape their IT units to look and perform like consulting fir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7188-5B3E-4B87-A7B9-9328AF8E7A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al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rganizational planning involves identifying, documenting, and assigning project roles, responsibilities, and reporting relationshi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puts and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organizational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definition and assignment proc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ponsibility assignment matrix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ource hist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1534-B333-4C5B-B77A-0AB098FD7B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ure 8-2. Sample Organizational Chart for a Large IT Proje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22960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2F21-4FC3-4764-8CB3-ADABECB69F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3. Work Definition and Assignment Proces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514520"/>
            <a:ext cx="8301240" cy="42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2B06-5938-4268-8CDA-5CA1CD974C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4. Sample Responsibility Assignment Matrix (RAM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14400" y="1666800"/>
            <a:ext cx="822492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1237-3A56-42B3-B1AD-D84B1E91F1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5. RAM Showing Stakeholder Ro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848720" cy="48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DD4C-9536-40E1-B4FD-54637E2769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Importance of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ople determine the success and failure of organizations and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shortage of good IT workers makes human resource management even more challenging for IT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AA calculated that there were over 345,000 openings for IT jobs - about 10% of programmer, systems analysts, and computer engineering positions are op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70% of CEOs in high-tech firms listed the lack of highly skilled, trained workers as the number one barrier to growth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057E-7CBA-4D98-813C-F6F147B611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6. Sample Resource Histogram for a Large IT Projec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38080" y="1371600"/>
          <a:ext cx="830592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83059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1430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Excel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C7CE-4CB7-41E9-B111-8FCBE0B599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sues in Project Staff Acquisition and Team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ffing plans and good hiring procedures are important in staff acquisition, as are incentives for recruiting and reten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give their employees one dollar for every hour a new person they helped hire wor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allow people to work from home as an incentiv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9FD9-8890-47C9-A3E3-4BFAFF372E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oading and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oading refers to the amount of individual resources an existing project schedule requires during specific time perio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histograms show resource load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-allocation means more resources than are available are assigned to perform work at a given ti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D167-F1BA-4309-A898-32DF0E812B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7. Sample Histogram Showing an Over-allocated Individu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50280" cy="4764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73080" y="59850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1A4E-41DE-415C-AE2B-E70B906966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eveling is a technique for resolving resource conflicts by delaying tas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main purpose of resource leveling is to create a smoother distribution of resource usage and reduce over-alloc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9D2F-EDC0-4515-A8A8-1E5780D794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8. Resource Leveling 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1038240"/>
            <a:ext cx="655344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3F0E-E45F-49BC-B10A-C9B04F22CE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m Develop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takes teamwork to successfully complete mos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raining can help people understand themselves, each other, and how to work better in tea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 building activiti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hysical challeng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sychological preference indicator too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5402-138E-4271-83C7-8AD38499BA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yers-Briggs Type Indicator (MBTI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56880" y="8377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BTI is a popular tool for determining personality preferences and helping teammates understand each other (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keirsey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com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ur dimensions include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xtrovert/Introvert (E/I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nsation/Intuition (S/N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ing/Feeling (T/F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dgment/Perception (J/P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st IT professionals are NTs or rat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ary most from general population in not being extroverted or sen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AC5B-096A-45A2-962E-F098E43A03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ick Team Development Exercise*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600200"/>
            <a:ext cx="748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ank from 1 to 5 which figures you like the bes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47760" y="2819520"/>
            <a:ext cx="961920" cy="91440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7360" y="2819520"/>
            <a:ext cx="549360" cy="121896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9360" y="2819520"/>
            <a:ext cx="893520" cy="990360"/>
          </a:xfrm>
          <a:prstGeom prst="ellipse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9960" y="2819520"/>
            <a:ext cx="103032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786440" y="2819520"/>
            <a:ext cx="13788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816680" y="2819160"/>
            <a:ext cx="41292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748640" y="2819520"/>
            <a:ext cx="480960" cy="6094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786800" y="3123720"/>
            <a:ext cx="823680" cy="3049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854480" y="3124080"/>
            <a:ext cx="755640" cy="5335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839000" y="3504960"/>
            <a:ext cx="619200" cy="1522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115480" y="3505320"/>
            <a:ext cx="342720" cy="3045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107200" y="3733560"/>
            <a:ext cx="274680" cy="759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4520" y="572940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ellinger, Susan, Psycho-Geometrics, Prentice Hall, 1989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574C-A539-4643-825F-0F8BD92C1A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havioral Style Differences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6840" y="6248520"/>
            <a:ext cx="35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avid Merril and Larry Wilso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828800" y="716040"/>
          <a:ext cx="5638680" cy="55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16040"/>
                    <a:ext cx="563868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B974-B2F6-438A-92C7-800F3F4264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ng Hours and Stereotypes of IT Workers Hurt Recrui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y people are struggling with how to increase the IT labor pool.  Noted problem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fact that many IT professionals work long hours and must constantly stay abreast of changes in the fiel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desirable stereotypes that keep certain people away from the career field, like women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better human resource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0DD7-618A-4AA8-B252-FA23C2C06C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ward and Recognition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-based reward and recognition systems can promote team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rewarding teams for achieving specific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low time for team members to mentor and help each other to meet project goals and develop human resour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C9FF-8C06-440F-B74F-229CB78434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 Advice on Tea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meeting project objectives and producing positive resul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x the problem instead of blaming peop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stablish regular,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urture team members and encourage them to help each oth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knowledge individual and group accomplishmen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1C19-8C8D-427E-B55A-4BEE27BF77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can help in producing RAMS and resource histogram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software includes several features related to human resource management such a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iewing resource usag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dentifying under and over-allocated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veling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D88E-5ECB-4281-A1A2-AA79BABC08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evidence pointing to a shortage of IT workers. How has Y2K affected the labor shortage? Why are there not more students majoring in computer science or MIS if there is such a labor shortage? Speculate about whether the IT labor shortage will continue into the first decade of the 21st century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ive examples of different ways to have influence on projects. Which do you think would be most effective with you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BF0DD-215B-49E6-A379-93ECF4D73C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Human Resource Managem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human resource management includes the processes required to make the most effective use of the people involved with a project.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ganizational plan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ff acquis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am develop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A7B6-5A23-4AC8-B836-3825ABE7EC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s to Managing Peo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sychologists and management theorists have devoted much research and thought to the field of managing people at 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areas related to project management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luence and pow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E0D4-B2E5-433B-9F6D-787DA8ECC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raham Maslow developed a hierarchy of needs to illustrate his theory that people’s behaviors are guided by a sequence of nee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slow argued that humans possess unique qualities that enable them to make independent choices, thus giving them control of their destin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55B1-61C2-44BE-9008-290A40237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1. Maslow’s Hierarchy of Nee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8153640" cy="44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D92F-A71C-429F-9BDC-5DE90E7E3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zberg’s Motivational and Hygiene Facto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ederick Herzberg wrote several famous books and articles about worker motivation.  He distinguished betwee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otivational factors: achievement, recognition, the work itself, responsibility, advancement, and growth, which produce job satisfac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ygiene factors: cause dissatisfaction if not present, but do not motivate workers to do more.  Examples include larger salaries, more supervision, and a more attractive work environ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6B2D-7E6F-42E4-AD59-5BF771B7D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mhain and Wilemon’s Ways to Have Influence on Proje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. Authority: the legitimate hierarchical right to issue ord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2. Assignment: the project manager's perceived ability to influence a worker's later work assignmen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3. Budget: the project manager's perceived ability to authorize others' use of discretionary fund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4. Promotion: the ability to improve a worker's position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5. Money: the ability to increase a worker's pay and benefi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6. Penalty: the project manager's perceived ability to dispense or cause punishme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7. Work challenge: the ability to assign work that capitalizes on a worker's enjoyment of doing a particular task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8. Expertise: the project manager's perceived special knowledge that others deem importa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9. Friendship: the ability to establish friendly personal relationships between the project manager and oth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7FEA-3733-4AAF-9F71-54B34572F7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10-27T18:37:22Z</dcterms:modified>
  <cp:revision>148</cp:revision>
  <dc:subject/>
  <dc:title>No Slide Title</dc:title>
</cp:coreProperties>
</file>