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77B0-7C82-4ADC-B37D-AFABD2C9F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9D72-8AC7-4141-AA9E-6EEC50728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9AC3-870F-44ED-809C-0FF040918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3847-6E7A-44F4-A3D8-F05F23E03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545B-FB02-4781-8FBC-5C4EEA0D2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7300E-631C-4E32-B978-B5B5D0632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46C6F-CE59-47AD-B9F4-46EC31419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A010D-55D1-4711-9FE0-769C10730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F7DA3-FA7E-40A5-8E33-6F2FD8EE09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5B16-EDC7-4F05-AB3C-A3B7A387C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A8E84-ABB5-49D4-8E99-B41A3DA71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E594-CBBA-4D7C-BB63-10772A4B8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03768-2F6D-428A-9BA1-6A3B5B3D41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4843C-D3C1-4EE8-81AB-0BB1BCB751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425F9-2F1E-46F0-80C2-5732C797F8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F19D5-F789-4237-BE56-50B69CE44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07D3-ED18-445F-A537-E159869FE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D2FA-5376-40B2-8EAB-7C32233D6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460A-EC81-40B2-821B-C2395C483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278A-8C99-466B-B22B-025B7D351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AC4E-20D4-416C-8882-50D0F3CDE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3CC8-F9C5-4E6A-BBF1-2F981769B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66A8-988E-4D0F-80E0-8D061AD33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C2B2-5719-47D0-BC60-0251D530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38720" y="6424200"/>
            <a:ext cx="304920" cy="2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912-AC73-4FA6-857D-5821AD169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5D0-BD80-4019-AD27-732706AB7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5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11430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crosoft Project 98 to Assist in Managing Information Technology (IT)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Kathy Schwalbe, Ph.D., PMP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ociate Professor, Business/M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gsburg College, Minneapolis, M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esented 3/26/99 at CTI Con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chwalbe@augsburg.ed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ww.augsburg.edu/ppages/schwalb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A11C4-1B70-4D54-B358-E052E1C1E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Key P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network diagram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(also referred to as a PERT chart) shows the sequence in which tasks must be perform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critical path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the longest path through a network diagram that determines the earliest completion of a project.  It has no slack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baselin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a project plan that serves as the basis for measuring perform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A951-9C97-426C-B526-75A0B16A0D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S for Intranet Project in Chart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7960" y="1920960"/>
          <a:ext cx="889668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20960"/>
                    <a:ext cx="88966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91A1-28BB-4965-9EB8-5006589EC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ranet WBS and Gantt Chart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47120" y="5958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6880" y="574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2680" y="5745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1297-D183-4352-9623-B30FB5E7C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S and Gantt Chart for Software Launch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7648560" cy="5322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62600" y="62485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8307-EFA5-4096-A687-103412745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Network Diagram or PER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848720" cy="305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26920" y="51465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of th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ake longer than planned, the whole project will slip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less something is don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8160" y="91440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ach box is a project task fro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WBS.  Arrows show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pendencies between task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908F-7C18-487A-9D38-56FD08DD84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Microsoft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990360"/>
            <a:ext cx="7372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98 is the clear leader in the desktop market for PM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Gartner Group estimates it accounts for 2/3 of sa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cent survey of 1,000 PMs found it was used by 48% of the respondents.  Next listed tool only used by 13.8% of respondents*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C Magazine gave it the Editor’s Choice award in 6/30/98 issu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2160" y="5942160"/>
            <a:ext cx="60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Fox, Terry L. and Spence, J. Wayne, "Tools of the Tra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A Survey of Project Management Tools," Project Managemen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Journal, September 199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BFDE-BD7F-4425-9472-A33BD3100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rrors in Using Project 98 or other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ople do not understan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 WBS is, and they are hard to cre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link tasks or know what a critical path 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set a baseline in order to track progr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at Project 98 is a powerful and complicated tool, and training is need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DED9-E91C-46F4-A49F-22333AE145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By-Step Exampl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rst I’ll show help information and basics about th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n I’ll create a new file for a project to create a project tracking databa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62720" y="5867280"/>
          <a:ext cx="15238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867280"/>
                    <a:ext cx="1523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4B93-2CD8-4A24-8B76-F2C349D371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Sampl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ject 98 comes with sample files that should be loaded in Program Files/Microsoft Office, Templates, Microsoft Project.  The Intranet and Software Launch files are sample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ral vendors provide sample files, and many companies keep a repository of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vides links to Y2K and IT template files (next slid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C69F-79E3-4E0E-8019-D5D24720C9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ww.microsoft.com/products/msoffice/project/download/template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220760"/>
            <a:ext cx="7467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4DB4-86A7-42DF-B5D8-2E200DE43C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udience background and interest in this topi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sonal background on IT projects and using Microsoft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roduction to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view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ep-by-step examp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re to get sample fi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F5AA-A714-477B-B304-B427F44FAC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ject Management (P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1676520"/>
            <a:ext cx="72201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M Body of Knowledge (PMBOK), 1996, p. 6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09840" y="5562720"/>
            <a:ext cx="635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e Project Management Institute (PMI) is an internat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fessional society.  Their web site is www.pmi.org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486F-CD80-4EE3-AB88-F94E33950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71800"/>
            <a:ext cx="6248520" cy="1371600"/>
          </a:xfrm>
          <a:prstGeom prst="rightArrow">
            <a:avLst>
              <a:gd name="adj1" fmla="val 50000"/>
              <a:gd name="adj2" fmla="val 113891"/>
            </a:avLst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200" y="3352680"/>
            <a:ext cx="44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roject Management Integ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78680" y="327672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5040" y="2133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5080" y="213372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2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6640" y="213372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1800" y="219564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1337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734800">
            <a:off x="2323440" y="2888280"/>
            <a:ext cx="451080" cy="239760"/>
          </a:xfrm>
          <a:prstGeom prst="rightArrow">
            <a:avLst>
              <a:gd name="adj1" fmla="val 50000"/>
              <a:gd name="adj2" fmla="val 47035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734800">
            <a:off x="3479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34800">
            <a:off x="454572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734800">
            <a:off x="5765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463392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7320" y="457200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m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6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032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isk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4633920"/>
            <a:ext cx="11271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457200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rocur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609000">
            <a:off x="2323440" y="418392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609000">
            <a:off x="3479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609000">
            <a:off x="454572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609000">
            <a:off x="5765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8720" y="12952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9 Knowledge Areas</a:t>
            </a:r>
            <a:br>
              <a:rPr sz="2800"/>
            </a:b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Cor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644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acilitating 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20" y="2666880"/>
            <a:ext cx="1600200" cy="1228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96252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takeholde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eeds and expecta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5600" y="3276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ools an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echniqu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gantt" descr=""/>
          <p:cNvPicPr/>
          <p:nvPr/>
        </p:nvPicPr>
        <p:blipFill>
          <a:blip r:embed="rId2"/>
          <a:stretch/>
        </p:blipFill>
        <p:spPr>
          <a:xfrm>
            <a:off x="7089840" y="2743200"/>
            <a:ext cx="99036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470720" y="4038480"/>
          <a:ext cx="511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0720" y="4038480"/>
                    <a:ext cx="511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908000" y="1295280"/>
            <a:ext cx="4724640" cy="48006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290F-B105-48CC-9DD4-48CE39410F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151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rojects Have a Terrible Track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2960" y="1447560"/>
            <a:ext cx="72201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“success” is often defined as meeting project scope on time and within budg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Standish Group’s famous “CHAOS” reports* document the horrible IT track recor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nly 16% of IT projects were successful from 1995 CHAOS survey (up to 26% in 1998 stud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31% of IT projects were cancelled in 1995, costing the U.S. over $81 bill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81AE-E101-4642-B157-AE25CB870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, Cost, and Scope Problems of IT Project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2600" y="1676160"/>
            <a:ext cx="6991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schedule overrun for IT projects was 222%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cost overrun was 189%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rge companies’ IT projects have 42% of the originally-proposed features and func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170F-E5E4-488F-BB08-AC5184BCB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Can Hel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 Success If Used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sitive leadership is the most significant factor associated with successful project manager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ing software is just one tool of project management.  You must understand several PM concepts before using PM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B36F-6C37-424A-9DB7-16F6A3FFA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ing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alone can not improve projects, but it can hel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e and manage the scope of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 and manage project schedu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e resources and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ilitate communic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B5CE-26ED-4826-83FA-2BB086523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M Concepts Needed Befor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Work Breakdown Structure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(WBS) is an outcome-oriented structure that defines the total scope of the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Gantt chart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is a tool for communicating project schedules using a calendar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39E8-9F38-4BC4-8F16-6258A36E2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8:49:01Z</dcterms:created>
  <dc:creator>Scott Schwalbe</dc:creator>
  <dc:description/>
  <dc:language>en-US</dc:language>
  <cp:lastModifiedBy>Scott Schwalbe</cp:lastModifiedBy>
  <cp:lastPrinted>1999-03-02T12:24:43Z</cp:lastPrinted>
  <dcterms:modified xsi:type="dcterms:W3CDTF">1999-03-02T12:26:29Z</dcterms:modified>
  <cp:revision>78</cp:revision>
  <dc:subject/>
  <dc:title>Using Microsoft Project 98 to Assist in Managing Information Technology (IT) Pro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conferen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