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B4273-5270-4FCA-89B9-DA40382AC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73E04-1A25-46F6-B557-6E99B3ADB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5B66B-B218-4450-8572-02EDD7FEA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7016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4020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07016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4020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9165D-BE25-49B3-B3ED-84C11D77A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E2B58-BDEF-4851-9873-FFEBF9593A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9340C-D1C3-48B7-9441-8496DB4FF4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CDB59-109E-44DF-9B03-7972EE1A62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7E0A7-B826-46F8-BEC8-74D5B15322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33DF9-D660-4ADC-AF23-E531127D91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B6F6B-80E0-4DF5-8254-5744A9E261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2DA51-640C-4F91-945A-1BEFC14782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74030-FBEB-4876-AFF8-4F0399006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8174D-EAFC-4E5A-BCDD-C2335CAE14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7326A-72FF-425C-BCE4-0AE81040C6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4C124-2ABA-4E14-A0C2-1853856329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72C7F-952F-4679-89E5-5B7B77A40D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7016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4020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07016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64020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9207E-6696-44A9-86E5-06B3D771AF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AF193-696C-4D3A-A7C7-2AC8B7012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1CC7A-0147-4316-8760-527D43D6D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6A7CD-D67D-47DF-8F59-C5AB47AB9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769E3-9F8C-49B2-8EA6-5744DC5FD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1AFE7-6EDF-40CD-88DD-7AB454417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1489E-6B32-4524-9F93-FD1440FB9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62739-018C-45C8-AA1C-DB8A46943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77840" y="6319800"/>
            <a:ext cx="201924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838720" y="6424200"/>
            <a:ext cx="304920" cy="2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A7EE-2E5D-486C-A68E-677FAC1FF4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5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4" name=""/>
          <p:cNvSpPr/>
          <p:nvPr/>
        </p:nvSpPr>
        <p:spPr>
          <a:xfrm>
            <a:off x="1676520" y="342900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35" name=""/>
          <p:cNvGrpSpPr/>
          <p:nvPr/>
        </p:nvGrpSpPr>
        <p:grpSpPr>
          <a:xfrm>
            <a:off x="8248680" y="6186600"/>
            <a:ext cx="609480" cy="592200"/>
            <a:chOff x="8248680" y="6186600"/>
            <a:chExt cx="609480" cy="592200"/>
          </a:xfrm>
        </p:grpSpPr>
        <p:sp>
          <p:nvSpPr>
            <p:cNvPr id="36" name=""/>
            <p:cNvSpPr/>
            <p:nvPr/>
          </p:nvSpPr>
          <p:spPr>
            <a:xfrm>
              <a:off x="824868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0772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35884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9" name="">
            <a:hlinkClick r:id="" action="ppaction://hlinkshowjump?jump=nextslide"/>
          </p:cNvPr>
          <p:cNvSpPr/>
          <p:nvPr/>
        </p:nvSpPr>
        <p:spPr>
          <a:xfrm rot="5400000">
            <a:off x="8426160" y="630864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7380360" y="6186600"/>
            <a:ext cx="609480" cy="592200"/>
            <a:chOff x="7380360" y="6186600"/>
            <a:chExt cx="609480" cy="592200"/>
          </a:xfrm>
        </p:grpSpPr>
        <p:sp>
          <p:nvSpPr>
            <p:cNvPr id="41" name=""/>
            <p:cNvSpPr/>
            <p:nvPr/>
          </p:nvSpPr>
          <p:spPr>
            <a:xfrm>
              <a:off x="738036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43940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9052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4" name="">
            <a:hlinkClick r:id="" action="ppaction://hlinkshowjump?jump=previousslide"/>
          </p:cNvPr>
          <p:cNvSpPr/>
          <p:nvPr/>
        </p:nvSpPr>
        <p:spPr>
          <a:xfrm flipH="1" rot="16200000">
            <a:off x="7481520" y="631008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3"/>
          </p:nvPr>
        </p:nvSpPr>
        <p:spPr>
          <a:xfrm>
            <a:off x="3362040" y="6319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4"/>
          </p:nvPr>
        </p:nvSpPr>
        <p:spPr>
          <a:xfrm>
            <a:off x="6400800" y="633096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032F-5919-4F3D-9518-05818C8DBB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85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15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18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4" name=""/>
          <p:cNvGrpSpPr/>
          <p:nvPr/>
        </p:nvGrpSpPr>
        <p:grpSpPr>
          <a:xfrm>
            <a:off x="8178840" y="6073920"/>
            <a:ext cx="669960" cy="650880"/>
            <a:chOff x="8178840" y="6073920"/>
            <a:chExt cx="669960" cy="650880"/>
          </a:xfrm>
        </p:grpSpPr>
        <p:sp>
          <p:nvSpPr>
            <p:cNvPr id="135" name=""/>
            <p:cNvSpPr/>
            <p:nvPr/>
          </p:nvSpPr>
          <p:spPr>
            <a:xfrm>
              <a:off x="8178840" y="6073920"/>
              <a:ext cx="669960" cy="65088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244000" y="6135480"/>
              <a:ext cx="539640" cy="52740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00160" y="6189120"/>
              <a:ext cx="426960" cy="4197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38" name="">
            <a:hlinkClick r:id="" action="ppaction://hlinkshowjump?jump=nextslide"/>
          </p:cNvPr>
          <p:cNvSpPr/>
          <p:nvPr/>
        </p:nvSpPr>
        <p:spPr>
          <a:xfrm rot="5400000">
            <a:off x="8380440" y="6240240"/>
            <a:ext cx="323640" cy="30168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tandishgroup.com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andishgroup.com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7920" y="1143000"/>
            <a:ext cx="6404040" cy="23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Microsoft Project 98 to Assist in Managing Information Technology (IT)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523520" y="4114800"/>
            <a:ext cx="5715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Kathy Schwalbe, Ph.D., PMP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ssociate Professor, Business/MI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ugsburg College, Minneapolis, M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resented 3/26/99 at CTI Conferenc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chwalbe@augsburg.edu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www.augsburg.edu/ppages/schwalb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9B86A-5722-4B0A-9F66-8DE5AC4A6C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Key PM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network diagram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(also referred to as a PERT chart) shows the sequence in which tasks must be performe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critical path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is the longest path through a network diagram that determines the earliest completion of a project.  It has no slack tim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baseline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is a project plan that serves as the basis for measuring performanc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CEF3C-B830-4DF6-B1F9-E66582DFAE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BS for Intranet Project in Chart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37960" y="1920960"/>
          <a:ext cx="8896680" cy="31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1920960"/>
                    <a:ext cx="8896680" cy="31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FAD5B-46FB-485C-99E1-A0DF0B6B3F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2960" y="-360"/>
            <a:ext cx="7601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mple Intranet WBS and Gantt Chart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7562880" cy="4838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347120" y="5958000"/>
            <a:ext cx="443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*This template file comes with Project 98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76880" y="57456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B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32680" y="57456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Gantt Char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9254D-232D-451E-BB97-A8E537AC8E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42960" y="-360"/>
            <a:ext cx="76010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BS and Gantt Chart for Software Launch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343160" y="838080"/>
            <a:ext cx="7648560" cy="53229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362600" y="6248520"/>
            <a:ext cx="450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*This template file comes with Project 98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57400" y="4572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B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5720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Gantt Char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40D1A-97C9-4333-8E2A-DA2279772E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Network Diagram or PERT C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848720" cy="3059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726920" y="5146560"/>
            <a:ext cx="689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 tasks in red are on the critical path.  If any of them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ake longer than planned, the whole project will slip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unless something is done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68160" y="914400"/>
            <a:ext cx="39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ach box is a project task from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 WBS.  Arrows show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pendencies between task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B0B6B-2D17-4CB5-A22F-EB7B1F3C4A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37760" y="-360"/>
            <a:ext cx="780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of Microsoft Project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23520" y="990360"/>
            <a:ext cx="7372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ject 98 is the clear leader in the desktop market for PM softwar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Gartner Group estimates it accounts for 2/3 of sale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recent survey of 1,000 PMs found it was used by 48% of the respondents.  Next listed tool only used by 13.8% of respondents*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C Magazine gave it the Editor’s Choice award in 6/30/98 issu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42160" y="5942160"/>
            <a:ext cx="606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Fox, Terry L. and Spence, J. Wayne, "Tools of the Trade: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A Survey of Project Management Tools," Project Managemen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Journal, September 1998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56EE0-216B-49BE-8634-D60816F669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Errors in Using Project 98 or other P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eople do not understand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hat a WBS is, and they are hard to creat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need to link tasks or know what a critical path i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need to set a baseline in order to track progres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at Project 98 is a powerful and complicated tool, and training is neede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B375E-9BE4-42B3-97AA-B913DCA8EB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-By-Step Example Using Project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152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rst I’ll show help information and basics about the softwar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n I’ll create a new file for a project to create a project tracking databas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562720" y="5867280"/>
          <a:ext cx="152388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5867280"/>
                    <a:ext cx="152388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69F24-A35C-4DE9-AABB-8528F0B845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Get Sample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icrosoft Project 98 comes with sample files that should be loaded in Program Files/Microsoft Office, Templates, Microsoft Project.  The Intranet and Software Launch files are sample fil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veral vendors provide sample files, and many companies keep a repository of fil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icrosoft provides links to Y2K and IT template files (next slide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20BB4-5B1C-4C69-8CCA-9A827B6AD2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ww.microsoft.com/products/msoffice/project/download/template.ht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447920" y="1220760"/>
            <a:ext cx="7467480" cy="563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4BD97-0A71-4509-A2DE-D6F8681169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2960" y="-36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of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99036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udience background and interest in this topic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ersonal background on IT projects and using Microsoft Projec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ntroduction to project managemen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Overview of Project 98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tep-by-step example using Project 98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here to get sample fil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61E5D-4125-42F5-A259-EC51F0409E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Project Management (P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2960" y="1676520"/>
            <a:ext cx="722016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ject management is “the application of knowledge, skills, tools, and techniques to project activities in order to meet or exceed stakeholder needs and expectations from a project” (PMI*, PM Body of Knowledge (PMBOK), 1996, p. 6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09840" y="5562720"/>
            <a:ext cx="6355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*The Project Management Institute (PMI) is an international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professional society.  Their web site is www.pmi.org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0D13B-C5FD-4B97-B823-4C1C82DC2E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Management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8000" y="2971800"/>
            <a:ext cx="6248520" cy="1371600"/>
          </a:xfrm>
          <a:prstGeom prst="rightArrow">
            <a:avLst>
              <a:gd name="adj1" fmla="val 50000"/>
              <a:gd name="adj2" fmla="val 113891"/>
            </a:avLst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6200" y="3352680"/>
            <a:ext cx="446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Project Management Integ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78680" y="3276720"/>
            <a:ext cx="116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Pro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00160" y="2195640"/>
            <a:ext cx="99072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5040" y="2133720"/>
            <a:ext cx="81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Scop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19480" y="2195640"/>
            <a:ext cx="99072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5080" y="2133720"/>
            <a:ext cx="74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62480" y="2195640"/>
            <a:ext cx="99072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46640" y="2133720"/>
            <a:ext cx="69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ost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81800" y="2195640"/>
            <a:ext cx="99036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4880" y="213372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Quality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2734800">
            <a:off x="2323440" y="2888280"/>
            <a:ext cx="451080" cy="239760"/>
          </a:xfrm>
          <a:prstGeom prst="rightArrow">
            <a:avLst>
              <a:gd name="adj1" fmla="val 50000"/>
              <a:gd name="adj2" fmla="val 47035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2734800">
            <a:off x="3479040" y="292500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2734800">
            <a:off x="4545720" y="292500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2734800">
            <a:off x="5765040" y="292500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24200" y="4633920"/>
            <a:ext cx="99036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8000" y="4572000"/>
            <a:ext cx="69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HR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43160" y="4633920"/>
            <a:ext cx="99072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7320" y="4572000"/>
            <a:ext cx="98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omm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86160" y="4633920"/>
            <a:ext cx="99072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0320" y="4572000"/>
            <a:ext cx="69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Risk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05480" y="4633920"/>
            <a:ext cx="112716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90000" y="4572000"/>
            <a:ext cx="112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Procure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8609000">
            <a:off x="2323440" y="418392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8609000">
            <a:off x="3479040" y="422028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8609000">
            <a:off x="4545720" y="422028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8609000">
            <a:off x="5765040" y="422028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98720" y="1295280"/>
            <a:ext cx="3505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9 Knowledge Areas</a:t>
            </a:r>
            <a:br>
              <a:rPr sz="2800"/>
            </a:b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    Core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Function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6440" y="5410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Facilitating Function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55520" y="2666880"/>
            <a:ext cx="1600200" cy="12286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3962520"/>
            <a:ext cx="18288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takeholder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eeds and expectation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55600" y="3276720"/>
            <a:ext cx="127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Tools and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techniques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6" name="gantt" descr=""/>
          <p:cNvPicPr/>
          <p:nvPr/>
        </p:nvPicPr>
        <p:blipFill>
          <a:blip r:embed="rId2"/>
          <a:stretch/>
        </p:blipFill>
        <p:spPr>
          <a:xfrm>
            <a:off x="7089840" y="2743200"/>
            <a:ext cx="990360" cy="40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7470720" y="4038480"/>
          <a:ext cx="5112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70720" y="4038480"/>
                    <a:ext cx="5112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1908000" y="1295280"/>
            <a:ext cx="4724640" cy="480060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D6D06-FCD9-4BB9-A679-9AAA8D7F88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00120" y="15192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Projects Have a Terrible Track Rec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42960" y="1447560"/>
            <a:ext cx="72201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roject “success” is often defined as meeting project scope on time and within budge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Standish Group’s famous “CHAOS” reports* document the horrible IT track record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Only 16% of IT projects were successful from 1995 CHAOS survey (up to 26% in 1998 study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31% of IT projects were cancelled in 1995, costing the U.S. over $81 bill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52160" y="6134040"/>
            <a:ext cx="48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* 1995 report available at </a:t>
            </a:r>
            <a:r>
              <a:rPr b="0" lang="en-US" sz="18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www.standishgroup.com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81AD8-0B94-4DFC-BDC9-B0BE46D5C6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, Cost, and Scope Problems of IT Projects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42600" y="1676160"/>
            <a:ext cx="6991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verage schedule overrun for IT projects was 222%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verage cost overrun was 189%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Large companies’ IT projects have 42% of the originally-proposed features and function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52160" y="6134040"/>
            <a:ext cx="48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* 1995 report available at </a:t>
            </a:r>
            <a:r>
              <a:rPr b="0" lang="en-US" sz="18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www.standishgroup.com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189CA-A3A4-4BF6-877C-C606DA4C2C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Management Can Hel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rove Success If Used W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ositive leadership is the most significant factor associated with successful project managers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Using software is just one tool of project management.  You must understand several PM concepts before using PM softwar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BA689-2052-4EA4-B249-3B9BFD762C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ing P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oftware alone can not improve projects, but it can help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efine and manage the scope of projec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reate and manage project schedul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anage resources and cos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acilitate communication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74D2D-456D-41DB-8C18-57ED663576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PM Concepts Needed Before Using Project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240" y="1752120"/>
            <a:ext cx="7543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Work Breakdown Structure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(WBS) is an outcome-oriented structure that defines the total scope of the projec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Gantt chart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is a tool for communicating project schedules using a calendar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469AD-70F1-4B66-BC36-63635709E6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0T18:49:01Z</dcterms:created>
  <dc:creator>Scott Schwalbe</dc:creator>
  <dc:description/>
  <dc:language>en-US</dc:language>
  <cp:lastModifiedBy>Scott Schwalbe</cp:lastModifiedBy>
  <cp:lastPrinted>1999-03-02T12:24:43Z</cp:lastPrinted>
  <dcterms:modified xsi:type="dcterms:W3CDTF">1999-03-02T12:26:29Z</dcterms:modified>
  <cp:revision>78</cp:revision>
  <dc:subject/>
  <dc:title>Using Microsoft Project 98 to Assist in Managing Information Technology (IT) Projec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schwalbe@augsburg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Kathy\conferences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