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FC8D-2C7C-4BB7-A9F1-7B9EC99AF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8E81-271C-4250-BC94-22B6265A7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11FF-DBE2-4423-B937-8BE623DD1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93E0-AA80-4F83-A439-E9E26BE20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5FAE1-5CEF-46DC-838D-CE687157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B519A-4AB3-4E9C-B31A-B34B8D39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E03F9-7E1B-4BC1-892F-9152C392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3566F-5802-418D-95E5-BC2630C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9EA49-BB88-4E57-A14F-6C4A3504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2B900-7035-4613-A945-7FAB274F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E3340-C01C-4975-974B-3BB7C192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AE67-984E-4360-8704-4ACFA0CAE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E573D-E8F2-467A-879E-ED43765A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A5FCD-CFFD-410A-8A4C-4A7166E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16E45-7A70-461D-A33C-BAE3543C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773C0-C947-4884-BB78-0FA584A8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5A251-EEB3-45C8-A4DF-A8CBC60D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42DE-FF9E-499A-8BD1-21161160B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160B-23C0-41FA-8C13-087B9D6FF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A0B2-76EB-4206-A8D0-6C74797AA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4789-8606-4DB1-BA7C-62DA69E14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EDFF-6E91-4955-BDE2-2F2EA91B2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7D2B-48BA-4EFF-96E1-92A5C5B81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6581-04E3-48EB-B6E2-0F602D9F1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E09D-C433-4C01-BE64-4DEF5518C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A04F-5DE9-46BE-88CA-544E29650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ppendix A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uide to Using Microsoft Project 98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740B9-CDC4-4D07-A4F4-7937EF73DD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icrosoft Project is the clear market leader among desktop project management appl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ccording to the Gartner Group, it accounts for about two-thirds of all project management software sa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survey of 1,000 project managers showed that Project was by far the most used computerized project management too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0727-DAA8-4210-9435-A2023FDAFB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s of Project 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n with its popularity, however, Project is not nearly as widespread in its use as products like Word or Exc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December 1998 Microsoft press release stated that they had reached the 3 millionth-customer ma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 must understand basic project management concepts befor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D2CA-81A9-4B04-BBC3-16DB26E249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vice on Using Appendix 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pendix A is meant to be read and followed whi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r text should include a 120-day copy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oad Project 98 and follow the steps in Appendix A to learn how to use this powerful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99E5-1EED-4B03-AC13-4701F07638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8-17T20:27:08Z</cp:lastPrinted>
  <dcterms:modified xsi:type="dcterms:W3CDTF">1999-08-17T21:44:23Z</dcterms:modified>
  <cp:revision>297</cp:revision>
  <dc:subject/>
  <dc:title>No Slide Title</dc:title>
</cp:coreProperties>
</file>