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AF725-A5F4-47E9-9DFB-28C3A75FDA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914040" y="3950280"/>
            <a:ext cx="818676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3C2B1-EDDC-4352-BCC2-3D1F5A78B0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04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912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9EBB5-040C-4054-9631-7C2015170C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82080" y="144792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450120" y="144792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914040" y="395028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82080" y="395028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450120" y="395028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C8128-E106-4B63-9BA8-E0AAE36700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3D8380-09AE-45BB-A8B0-5459B7485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11D7BF-1F1B-4E77-8B55-5B70DE6B8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2960B7-B62E-4718-97BD-0606ADB18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FAAC9E-10E8-4FC0-AA7A-07B361A1F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85CC82-0E73-42ED-A4CA-86516D3EB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82296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2A7F44-CEB3-41F9-BFD6-3DC26015D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91404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F5A139-0BA7-4DB2-91A9-CBDB26547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48736-A9F4-4ECB-9B28-6D3D90239F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10912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C1E2CF-BD90-41B2-9121-CD9532C6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914040" y="3950280"/>
            <a:ext cx="818676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9808BF-D530-4C53-BB1A-6D3A032C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914040" y="3950280"/>
            <a:ext cx="818676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1F9A98-7201-4410-BC13-41F913D9C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04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510912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F062C6-D1B3-4012-935E-2616DB4B1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682080" y="144792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450120" y="144792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914040" y="395028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682080" y="395028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450120" y="395028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478E08-08B5-4546-A1DD-7B4B2DCB5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260BD-0491-4F4C-94BC-2D9DB0AD9A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EA05F-E048-4F41-994F-AA7C657C05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07716-A7F0-4D95-ADA6-29C0DDD648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82296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522A5-5F57-4B88-881D-ADE10E3204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91404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F8EFB-66FE-46A5-B702-4556E4A0E7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912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5A242-5A2C-42F6-86E8-EE69D3CAF5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040" y="3950280"/>
            <a:ext cx="818676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F8E36-19D5-4280-8DC1-F4C7501E31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90720" y="6416640"/>
            <a:ext cx="266688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5866920" y="6424560"/>
            <a:ext cx="1481400" cy="4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7D858-040D-43BF-A0AA-971B81A085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0"/>
            <a:ext cx="914040" cy="6878520"/>
            <a:chOff x="0" y="0"/>
            <a:chExt cx="914040" cy="6878520"/>
          </a:xfrm>
        </p:grpSpPr>
        <p:sp>
          <p:nvSpPr>
            <p:cNvPr id="5" name=""/>
            <p:cNvSpPr/>
            <p:nvPr/>
          </p:nvSpPr>
          <p:spPr>
            <a:xfrm>
              <a:off x="422280" y="3423960"/>
              <a:ext cx="10584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3423960"/>
              <a:ext cx="2059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06640" y="3423960"/>
              <a:ext cx="21528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28480" y="3438360"/>
              <a:ext cx="19008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06640" y="4194000"/>
              <a:ext cx="32040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06640" y="4625640"/>
              <a:ext cx="32040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06640" y="5033880"/>
              <a:ext cx="32040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6640" y="5438520"/>
              <a:ext cx="32040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06640" y="5846760"/>
              <a:ext cx="32040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80440" y="6251400"/>
              <a:ext cx="24696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06640" y="3765240"/>
              <a:ext cx="32040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06640" y="3423960"/>
              <a:ext cx="3225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22280" y="4680"/>
              <a:ext cx="10584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0" y="4680"/>
              <a:ext cx="2059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06640" y="4680"/>
              <a:ext cx="21528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28480" y="4680"/>
              <a:ext cx="19008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206640" y="798480"/>
              <a:ext cx="32040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06640" y="1206360"/>
              <a:ext cx="32040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206640" y="1612800"/>
              <a:ext cx="32040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206640" y="2019240"/>
              <a:ext cx="32040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06640" y="2425680"/>
              <a:ext cx="32040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04120" y="6642000"/>
              <a:ext cx="32508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6640" y="344160"/>
              <a:ext cx="32040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06640" y="4680"/>
              <a:ext cx="3225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08800" y="0"/>
              <a:ext cx="14328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06640" y="2860560"/>
              <a:ext cx="32040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718560" y="9360"/>
              <a:ext cx="19548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256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01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4" name=""/>
          <p:cNvSpPr/>
          <p:nvPr/>
        </p:nvSpPr>
        <p:spPr>
          <a:xfrm>
            <a:off x="1676520" y="3429000"/>
            <a:ext cx="539280" cy="5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365" y="21585"/>
                </a:moveTo>
                <a:arcTo wR="10800" hR="10800" stAng="5220000" swAng="10980000"/>
                <a:lnTo>
                  <a:pt x="10800" y="10800"/>
                </a:lnTo>
                <a:close/>
              </a:path>
              <a:path fill="none" w="21600" h="21600">
                <a:moveTo>
                  <a:pt x="11365" y="21585"/>
                </a:moveTo>
                <a:arcTo wR="10800" hR="10800" stAng="5220000" swAng="10980000"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grpSp>
        <p:nvGrpSpPr>
          <p:cNvPr id="35" name=""/>
          <p:cNvGrpSpPr/>
          <p:nvPr/>
        </p:nvGrpSpPr>
        <p:grpSpPr>
          <a:xfrm>
            <a:off x="8248680" y="6186600"/>
            <a:ext cx="609480" cy="592200"/>
            <a:chOff x="8248680" y="6186600"/>
            <a:chExt cx="609480" cy="592200"/>
          </a:xfrm>
        </p:grpSpPr>
        <p:sp>
          <p:nvSpPr>
            <p:cNvPr id="36" name=""/>
            <p:cNvSpPr/>
            <p:nvPr/>
          </p:nvSpPr>
          <p:spPr>
            <a:xfrm>
              <a:off x="8248680" y="6186600"/>
              <a:ext cx="609480" cy="59220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307720" y="6242400"/>
              <a:ext cx="491040" cy="479880"/>
            </a:xfrm>
            <a:prstGeom prst="ellipse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8358840" y="6291360"/>
              <a:ext cx="388440" cy="38196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9" name="">
            <a:hlinkClick r:id="" action="ppaction://hlinkshowjump?jump=nextslide"/>
          </p:cNvPr>
          <p:cNvSpPr/>
          <p:nvPr/>
        </p:nvSpPr>
        <p:spPr>
          <a:xfrm rot="5400000">
            <a:off x="8426160" y="6308640"/>
            <a:ext cx="304920" cy="333360"/>
          </a:xfrm>
          <a:prstGeom prst="triangle">
            <a:avLst>
              <a:gd name="adj" fmla="val 50000"/>
            </a:avLst>
          </a:prstGeom>
          <a:solidFill>
            <a:srgbClr val="e5d58a"/>
          </a:solidFill>
          <a:ln cap="sq" w="1260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grpSp>
        <p:nvGrpSpPr>
          <p:cNvPr id="40" name=""/>
          <p:cNvGrpSpPr/>
          <p:nvPr/>
        </p:nvGrpSpPr>
        <p:grpSpPr>
          <a:xfrm>
            <a:off x="7380360" y="6186600"/>
            <a:ext cx="609480" cy="592200"/>
            <a:chOff x="7380360" y="6186600"/>
            <a:chExt cx="609480" cy="592200"/>
          </a:xfrm>
        </p:grpSpPr>
        <p:sp>
          <p:nvSpPr>
            <p:cNvPr id="41" name=""/>
            <p:cNvSpPr/>
            <p:nvPr/>
          </p:nvSpPr>
          <p:spPr>
            <a:xfrm>
              <a:off x="7380360" y="6186600"/>
              <a:ext cx="609480" cy="59220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7439400" y="6242400"/>
              <a:ext cx="491040" cy="479880"/>
            </a:xfrm>
            <a:prstGeom prst="ellipse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7490520" y="6291360"/>
              <a:ext cx="388440" cy="38196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44" name="">
            <a:hlinkClick r:id="" action="ppaction://hlinkshowjump?jump=previousslide"/>
          </p:cNvPr>
          <p:cNvSpPr/>
          <p:nvPr/>
        </p:nvSpPr>
        <p:spPr>
          <a:xfrm flipH="1" rot="16200000">
            <a:off x="7481520" y="6310080"/>
            <a:ext cx="304920" cy="333360"/>
          </a:xfrm>
          <a:prstGeom prst="triangle">
            <a:avLst>
              <a:gd name="adj" fmla="val 50000"/>
            </a:avLst>
          </a:prstGeom>
          <a:solidFill>
            <a:srgbClr val="e5d58a"/>
          </a:solidFill>
          <a:ln cap="sq" w="1260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38160" y="1380600"/>
            <a:ext cx="640404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2819160" y="54100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4"/>
          </p:nvPr>
        </p:nvSpPr>
        <p:spPr>
          <a:xfrm>
            <a:off x="3362040" y="6319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400800" y="6330960"/>
            <a:ext cx="1481040" cy="4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DCDA4-909A-46C0-A3A8-E1D586B462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86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16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19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20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5" name=""/>
          <p:cNvGrpSpPr/>
          <p:nvPr/>
        </p:nvGrpSpPr>
        <p:grpSpPr>
          <a:xfrm>
            <a:off x="8178840" y="6073920"/>
            <a:ext cx="669960" cy="650880"/>
            <a:chOff x="8178840" y="6073920"/>
            <a:chExt cx="669960" cy="650880"/>
          </a:xfrm>
        </p:grpSpPr>
        <p:sp>
          <p:nvSpPr>
            <p:cNvPr id="136" name=""/>
            <p:cNvSpPr/>
            <p:nvPr/>
          </p:nvSpPr>
          <p:spPr>
            <a:xfrm>
              <a:off x="8178840" y="6073920"/>
              <a:ext cx="669960" cy="65088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244000" y="6135480"/>
              <a:ext cx="539640" cy="527400"/>
            </a:xfrm>
            <a:prstGeom prst="ellipse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300160" y="6189120"/>
              <a:ext cx="426960" cy="41976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139" name="">
            <a:hlinkClick r:id="" action="ppaction://hlinkshowjump?jump=nextslide"/>
          </p:cNvPr>
          <p:cNvSpPr/>
          <p:nvPr/>
        </p:nvSpPr>
        <p:spPr>
          <a:xfrm rot="5400000">
            <a:off x="8380440" y="6240240"/>
            <a:ext cx="323640" cy="301680"/>
          </a:xfrm>
          <a:prstGeom prst="triangle">
            <a:avLst>
              <a:gd name="adj" fmla="val 50000"/>
            </a:avLst>
          </a:prstGeom>
          <a:solidFill>
            <a:srgbClr val="e5d58a"/>
          </a:solidFill>
          <a:ln cap="sq" w="1260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738160" y="1380600"/>
            <a:ext cx="640404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ppendix A: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uide to Using Microsoft Project 98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83A3E4-27D1-48D5-90B1-68A084337F4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56880" y="1066320"/>
            <a:ext cx="8186760" cy="479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Microsoft Project is the clear market leader among desktop project management application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According to the Gartner Group, it accounts for about two-thirds of all project management software sale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A survey of 1,000 project managers showed that Project was by far the most used computerized project management too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C0F46-F682-42B1-A3E6-FB85A4AEB07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rs of Project 98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Even with its popularity, however, Project is not nearly as widespread in its use as products like Word or Exc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A December 1998 Microsoft press release stated that they had reached the 3 millionth-customer mark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You must understand basic project management concepts before using Project 98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1E9A7-8431-4D88-8FDE-38A28782DF6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vice on Using Appendix 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Appendix A is meant to be read and followed while using Project 98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Your text should include a 120-day copy of Project 98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Load Project 98 and follow the steps in Appendix A to learn how to use this powerful softwar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DB196-1ED6-4167-97B4-99FB99BCF7E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5T15:22:49Z</dcterms:created>
  <dc:creator>Scott Schwalbe</dc:creator>
  <dc:description/>
  <dc:language>en-US</dc:language>
  <cp:lastModifiedBy>Scott Schwalbe</cp:lastModifiedBy>
  <cp:lastPrinted>1999-08-17T20:27:08Z</cp:lastPrinted>
  <dcterms:modified xsi:type="dcterms:W3CDTF">1999-08-17T21:44:23Z</dcterms:modified>
  <cp:revision>297</cp:revision>
  <dc:subject/>
  <dc:title>No Slide Title</dc:title>
</cp:coreProperties>
</file>