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DBD42D-664D-454C-8CDC-DA672206E2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3C7B18-853E-4648-84F0-3E164E533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91FCA0-62F3-40AD-9C4A-16014948A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F03ECB-A883-49E6-A92C-8B239FC96D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7B75E5-DF27-4E97-9903-705B0C5A5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6B6163-F69C-4E98-B892-AE092DC37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92DE54-EC37-4EEA-9EE0-1BB044DB8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7C29C-24E7-4EEF-B570-C869A5DE7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A7B9B-18E4-4CBE-AA4B-387905F3B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03946E-198F-4BA3-9CA8-4D79FD09E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DA50A-E72D-43B7-B604-000A92F11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E1CD21-222A-47F0-9A68-799AB5628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C697C-DCE7-408C-BB7E-0F3D6678A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5AC1F-353C-4CD3-BFE9-74EC7895A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BA8D5-FA18-49B6-A455-C60D1785E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D79048-082E-490F-9D18-599C4AE7B5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24284E-AD82-47BB-ABB8-F39419B810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D14BA3-752B-4FAC-AB36-E79AE926D2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7D96C0-820C-4870-90AE-1802EDEB4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3A4BE-7759-45D1-AA2A-256F021104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5736FF-C554-4A41-9407-A0733A1AA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893B8-7918-4AEF-8CC7-D484C7A81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EBF0C-90ED-4777-953E-0417C06FE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0398D-37D3-4FCF-9478-C2B0D3A5B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2521-4CF1-4560-B213-F672558FED7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BBBF-E9B9-4E4C-9422-B4F0EE99480E}"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unset.usc.edu/COCOMOII/affiliates/affiliate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6-2&amp;3.xls" TargetMode="External"/><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hyperlink" Target="file:///Fig6-2&amp;3.xl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6:</a:t>
            </a:r>
            <a:br>
              <a:rPr sz="4800"/>
            </a:br>
            <a:r>
              <a:rPr b="1" lang="en-US" sz="4800" spc="-1" strike="noStrike">
                <a:solidFill>
                  <a:srgbClr val="000000"/>
                </a:solidFill>
                <a:latin typeface="Times New Roman"/>
              </a:rPr>
              <a:t>Project Cos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1D44B8F6-011F-4A09-8FEC-35572636B3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 Planning</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nature of the project and the organization will affect resource planning</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questions to consider:</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difficult will it be to do specific tasks on the project?</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s there anything unique in this project’s scope statement that will affect resource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the organization’s history in doing similar task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oes the organization have or can they acquire the people, equipment, and materials that are capable and available for performing the work?</a:t>
            </a:r>
            <a:endParaRPr b="1" lang="en-US" sz="2400" spc="-1" strike="noStrike">
              <a:solidFill>
                <a:srgbClr val="33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D744B0-FEE5-4AA2-BCFB-39A3363C3E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Estimating</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output of project cost management is a cost estimat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re are several types of cost estimates and tools and techniques to help create th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also important to develop a cost management plan that describes how cost variances will be managed on the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90D1DD8-0DD3-4862-BBC0-0F000DFE9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2. Types of Cost Estimates</a:t>
            </a:r>
            <a:endParaRPr b="1" lang="en-US" sz="4400" spc="-1" strike="noStrike">
              <a:solidFill>
                <a:srgbClr val="000000"/>
              </a:solidFill>
              <a:latin typeface="Times New Roman"/>
            </a:endParaRPr>
          </a:p>
        </p:txBody>
      </p:sp>
      <p:graphicFrame>
        <p:nvGraphicFramePr>
          <p:cNvPr id="201" name=""/>
          <p:cNvGraphicFramePr/>
          <p:nvPr/>
        </p:nvGraphicFramePr>
        <p:xfrm>
          <a:off x="838080" y="1836720"/>
          <a:ext cx="8077320" cy="3444840"/>
        </p:xfrm>
        <a:graphic>
          <a:graphicData uri="http://schemas.openxmlformats.org/presentationml/2006/ole">
            <p:oleObj progId="Word.Document.12" r:id="rId1" spid="">
              <p:embed/>
              <p:pic>
                <p:nvPicPr>
                  <p:cNvPr id="202" name="" descr=""/>
                  <p:cNvPicPr/>
                  <p:nvPr/>
                </p:nvPicPr>
                <p:blipFill>
                  <a:blip r:embed="rId2"/>
                  <a:stretch/>
                </p:blipFill>
                <p:spPr>
                  <a:xfrm>
                    <a:off x="838080" y="1836720"/>
                    <a:ext cx="8077320" cy="344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F04BE6E-6BE5-4FBF-A8E4-7275601DC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 Estimation Tools and Techniques</a:t>
            </a:r>
            <a:endParaRPr b="1" lang="en-US" sz="3600" spc="-1" strike="noStrike">
              <a:solidFill>
                <a:srgbClr val="000000"/>
              </a:solidFill>
              <a:latin typeface="Times New Roman"/>
            </a:endParaRPr>
          </a:p>
        </p:txBody>
      </p:sp>
      <p:sp>
        <p:nvSpPr>
          <p:cNvPr id="204"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4 basic tools and techniques for cost estimates:</a:t>
            </a:r>
            <a:endParaRPr b="1" lang="en-US" sz="32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ogous or top-down: use the actual cost of a previous, similar project as the basis for the new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ottom-up: estimate individual work items and sum them to get a total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ametric: use project characteristics in a mathematical model to estimate costs</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mputerized tools: use spreadsheets, project management software, or other software to help estimate cost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6BE8D60-D3C5-41C5-A8D8-9966F4E80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ve Cost Model (COCOMO)</a:t>
            </a:r>
            <a:endParaRPr b="1" lang="en-US" sz="4400" spc="-1" strike="noStrike">
              <a:solidFill>
                <a:srgbClr val="000000"/>
              </a:solidFill>
              <a:latin typeface="Times New Roman"/>
            </a:endParaRPr>
          </a:p>
        </p:txBody>
      </p:sp>
      <p:sp>
        <p:nvSpPr>
          <p:cNvPr id="20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arry Boehm helped develop the COCOMO models for estimating software development cos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ameters include source lines of code or function poi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9933"/>
                </a:solidFill>
                <a:uFillTx/>
                <a:latin typeface="Arial"/>
                <a:hlinkClick r:id="rId1"/>
              </a:rPr>
              <a:t>COCOMO II</a:t>
            </a:r>
            <a:r>
              <a:rPr b="1" lang="en-US" sz="3200" spc="-1" strike="noStrike" u="sng">
                <a:solidFill>
                  <a:srgbClr val="333300"/>
                </a:solidFill>
                <a:uFillTx/>
                <a:latin typeface="Arial"/>
              </a:rPr>
              <a:t> is a computerized model available on the web</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oehm suggest that only parametric models do not suffer from the limits of human decision-mak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984692A-80C6-40DD-84A9-0812998D3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ical Problems with IT Cost Estimates</a:t>
            </a:r>
            <a:endParaRPr b="1" lang="en-US" sz="4400" spc="-1" strike="noStrike">
              <a:solidFill>
                <a:srgbClr val="000000"/>
              </a:solidFill>
              <a:latin typeface="Times New Roman"/>
            </a:endParaRPr>
          </a:p>
        </p:txBody>
      </p:sp>
      <p:sp>
        <p:nvSpPr>
          <p:cNvPr id="20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veloping an estimate for a large software project is a complex task requiring a significant amount of effort.  Remember that estimates are done at various stages of the project</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y people doing estimates have little experience doing them.  Try to provide training and mentoring</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eople have a bias toward underestimation.  Review estimates and ask important questions to make sure estimates are not biased</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agement wants a number for a bid, not a real estimate.  Project managers must negotiate with project sponsors to create realistic cost estimat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8F959E1-5613-4343-8A9B-7C6961A16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6-3. Business Systems Replacement Project Cost Estimate Overview</a:t>
            </a:r>
            <a:endParaRPr b="1" lang="en-US" sz="3200" spc="-1" strike="noStrike">
              <a:solidFill>
                <a:srgbClr val="000000"/>
              </a:solidFill>
              <a:latin typeface="Times New Roman"/>
            </a:endParaRPr>
          </a:p>
        </p:txBody>
      </p:sp>
      <p:graphicFrame>
        <p:nvGraphicFramePr>
          <p:cNvPr id="210" name=""/>
          <p:cNvGraphicFramePr/>
          <p:nvPr/>
        </p:nvGraphicFramePr>
        <p:xfrm>
          <a:off x="1219320" y="1143000"/>
          <a:ext cx="6087960" cy="5234040"/>
        </p:xfrm>
        <a:graphic>
          <a:graphicData uri="http://schemas.openxmlformats.org/presentationml/2006/ole">
            <p:oleObj progId="Word.Document.12" r:id="rId1" spid="">
              <p:embed/>
              <p:pic>
                <p:nvPicPr>
                  <p:cNvPr id="211" name="" descr=""/>
                  <p:cNvPicPr/>
                  <p:nvPr/>
                </p:nvPicPr>
                <p:blipFill>
                  <a:blip r:embed="rId2"/>
                  <a:stretch/>
                </p:blipFill>
                <p:spPr>
                  <a:xfrm>
                    <a:off x="1219320" y="1143000"/>
                    <a:ext cx="6087960" cy="52340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5380A1C-1D89-47F8-970E-93D446FE8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4. Business Systems Replacement Project Cash Flow Analysis</a:t>
            </a:r>
            <a:endParaRPr b="1" lang="en-US" sz="3600" spc="-1" strike="noStrike">
              <a:solidFill>
                <a:srgbClr val="000000"/>
              </a:solidFill>
              <a:latin typeface="Times New Roman"/>
            </a:endParaRPr>
          </a:p>
        </p:txBody>
      </p:sp>
      <p:graphicFrame>
        <p:nvGraphicFramePr>
          <p:cNvPr id="213" name=""/>
          <p:cNvGraphicFramePr/>
          <p:nvPr/>
        </p:nvGraphicFramePr>
        <p:xfrm>
          <a:off x="1371600" y="1066680"/>
          <a:ext cx="5931000" cy="5510160"/>
        </p:xfrm>
        <a:graphic>
          <a:graphicData uri="http://schemas.openxmlformats.org/presentationml/2006/ole">
            <p:oleObj progId="Word.Document.12" r:id="rId1" spid="">
              <p:embed/>
              <p:pic>
                <p:nvPicPr>
                  <p:cNvPr id="214" name="" descr=""/>
                  <p:cNvPicPr/>
                  <p:nvPr/>
                </p:nvPicPr>
                <p:blipFill>
                  <a:blip r:embed="rId2"/>
                  <a:stretch/>
                </p:blipFill>
                <p:spPr>
                  <a:xfrm>
                    <a:off x="1371600" y="1066680"/>
                    <a:ext cx="593100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2F563DC-CD43-42F3-BCB8-9424C24387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Budgeting</a:t>
            </a:r>
            <a:endParaRPr b="1" lang="en-US" sz="4400" spc="-1" strike="noStrike">
              <a:solidFill>
                <a:srgbClr val="000000"/>
              </a:solidFill>
              <a:latin typeface="Times New Roman"/>
            </a:endParaRPr>
          </a:p>
        </p:txBody>
      </p:sp>
      <p:sp>
        <p:nvSpPr>
          <p:cNvPr id="216"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budget involves allocating the project cost estimate to individual work items and providing a cost baseline</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example, in the Business Systems Replacement project, there was a total purchased costs estimate for FY97 of $600,000 and another $1.2 million for Information Services and Technology</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se amounts were allocated to appropriate budgets as shown in Table 6-5</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22979B7-EB80-49A2-BDFC-E2DE6D62A2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6-5. Business Systems Replacement Project Budget Estimates for FY97 and Explanations</a:t>
            </a:r>
            <a:endParaRPr b="1" lang="en-US" sz="2800" spc="-1" strike="noStrike">
              <a:solidFill>
                <a:srgbClr val="000000"/>
              </a:solidFill>
              <a:latin typeface="Times New Roman"/>
            </a:endParaRPr>
          </a:p>
        </p:txBody>
      </p:sp>
      <p:graphicFrame>
        <p:nvGraphicFramePr>
          <p:cNvPr id="218" name=""/>
          <p:cNvGraphicFramePr/>
          <p:nvPr/>
        </p:nvGraphicFramePr>
        <p:xfrm>
          <a:off x="1981080" y="1143000"/>
          <a:ext cx="5187960" cy="5361120"/>
        </p:xfrm>
        <a:graphic>
          <a:graphicData uri="http://schemas.openxmlformats.org/presentationml/2006/ole">
            <p:oleObj progId="Word.Document.12" r:id="rId1" spid="">
              <p:embed/>
              <p:pic>
                <p:nvPicPr>
                  <p:cNvPr id="219" name="" descr=""/>
                  <p:cNvPicPr/>
                  <p:nvPr/>
                </p:nvPicPr>
                <p:blipFill>
                  <a:blip r:embed="rId2"/>
                  <a:stretch/>
                </p:blipFill>
                <p:spPr>
                  <a:xfrm>
                    <a:off x="1981080" y="1143000"/>
                    <a:ext cx="5187960" cy="53611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2C775C4-C71C-4D04-973A-FEFF53718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Cos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projects have a poor track record for meeting cost go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cost overrun was 189% of the original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5, cancelled IT projects cost the U.S. over $81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DD13B3F-6751-4C12-BE5F-B81FED61BA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Control</a:t>
            </a:r>
            <a:endParaRPr b="1" lang="en-US" sz="4400" spc="-1" strike="noStrike">
              <a:solidFill>
                <a:srgbClr val="000000"/>
              </a:solidFill>
              <a:latin typeface="Times New Roman"/>
            </a:endParaRPr>
          </a:p>
        </p:txBody>
      </p:sp>
      <p:sp>
        <p:nvSpPr>
          <p:cNvPr id="22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control includes</a:t>
            </a:r>
            <a:endParaRPr b="1" lang="en-US" sz="32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cost performanc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that only appropriate project changes are included in a revised cost baselin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forming project stakeholders of authorized changes to the project that will affect costs</a:t>
            </a:r>
            <a:endParaRPr b="1" lang="en-US" sz="28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arned value analysis is an important tool for cost control</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C6EE9D3-196A-42B7-8FB2-B76305FF95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EVA)</a:t>
            </a:r>
            <a:endParaRPr b="1" lang="en-US" sz="4400" spc="-1" strike="noStrike">
              <a:solidFill>
                <a:srgbClr val="000000"/>
              </a:solidFill>
              <a:latin typeface="Times New Roman"/>
            </a:endParaRPr>
          </a:p>
        </p:txBody>
      </p:sp>
      <p:sp>
        <p:nvSpPr>
          <p:cNvPr id="223"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A is a project performance measurement technique that integrates scope, time, and cost data</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n a baseline (original plan plus approved changes), you can determine how well the project is meeting its goal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information periodically to use EVA.  Figure 6-1 shows a sample form for collecting inform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5813A03-C0C5-4841-AB9A-331222F7EF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0"/>
            <a:ext cx="80773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1.  Cost Control Input Form for Business Systems Replacement Project</a:t>
            </a:r>
            <a:endParaRPr b="1" lang="en-US" sz="3200" spc="-1" strike="noStrike">
              <a:solidFill>
                <a:srgbClr val="000000"/>
              </a:solidFill>
              <a:latin typeface="Times New Roman"/>
            </a:endParaRPr>
          </a:p>
        </p:txBody>
      </p:sp>
      <p:graphicFrame>
        <p:nvGraphicFramePr>
          <p:cNvPr id="225" name=""/>
          <p:cNvGraphicFramePr/>
          <p:nvPr/>
        </p:nvGraphicFramePr>
        <p:xfrm>
          <a:off x="838080" y="1093680"/>
          <a:ext cx="8305920" cy="5235840"/>
        </p:xfrm>
        <a:graphic>
          <a:graphicData uri="http://schemas.openxmlformats.org/presentationml/2006/ole">
            <p:oleObj progId="Word.Document.12" r:id="rId1" spid="">
              <p:embed/>
              <p:pic>
                <p:nvPicPr>
                  <p:cNvPr id="226" name="" descr=""/>
                  <p:cNvPicPr/>
                  <p:nvPr/>
                </p:nvPicPr>
                <p:blipFill>
                  <a:blip r:embed="rId2"/>
                  <a:stretch/>
                </p:blipFill>
                <p:spPr>
                  <a:xfrm>
                    <a:off x="838080" y="1093680"/>
                    <a:ext cx="8305920" cy="5235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5F2098F-0232-4554-A46D-79FF60A6E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Term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scheduled (BCWS), also called the budget, is that portion of the approved total cost estimate planned to be spent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ual cost of work performed (ACWP), also called actual cost, are the total direct and indirect costs incurred in accomplishing work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performed (BCWP), also called earned value, is the percentage of work actually completed multiplied by the planned cost (or BCWS)</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61AD25D-7B98-4929-85D4-5408F647E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6. Earned Value Calculations for One Activity After Week One</a:t>
            </a:r>
            <a:endParaRPr b="1" lang="en-US" sz="3600" spc="-1" strike="noStrike">
              <a:solidFill>
                <a:srgbClr val="000000"/>
              </a:solidFill>
              <a:latin typeface="Times New Roman"/>
            </a:endParaRPr>
          </a:p>
        </p:txBody>
      </p:sp>
      <p:graphicFrame>
        <p:nvGraphicFramePr>
          <p:cNvPr id="230" name=""/>
          <p:cNvGraphicFramePr/>
          <p:nvPr/>
        </p:nvGraphicFramePr>
        <p:xfrm>
          <a:off x="838080" y="1752480"/>
          <a:ext cx="8153640" cy="3537000"/>
        </p:xfrm>
        <a:graphic>
          <a:graphicData uri="http://schemas.openxmlformats.org/presentationml/2006/ole">
            <p:oleObj progId="Word.Document.12" r:id="rId1" spid="">
              <p:embed/>
              <p:pic>
                <p:nvPicPr>
                  <p:cNvPr id="231" name="" descr=""/>
                  <p:cNvPicPr/>
                  <p:nvPr/>
                </p:nvPicPr>
                <p:blipFill>
                  <a:blip r:embed="rId2"/>
                  <a:stretch/>
                </p:blipFill>
                <p:spPr>
                  <a:xfrm>
                    <a:off x="838080" y="1752480"/>
                    <a:ext cx="8153640" cy="35370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2CC262B-FEFD-4730-BDD2-1F870B4BA3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7. Earned Value Formulas</a:t>
            </a:r>
            <a:endParaRPr b="1" lang="en-US" sz="4400" spc="-1" strike="noStrike">
              <a:solidFill>
                <a:srgbClr val="000000"/>
              </a:solidFill>
              <a:latin typeface="Times New Roman"/>
            </a:endParaRPr>
          </a:p>
        </p:txBody>
      </p:sp>
      <p:graphicFrame>
        <p:nvGraphicFramePr>
          <p:cNvPr id="233" name=""/>
          <p:cNvGraphicFramePr/>
          <p:nvPr/>
        </p:nvGraphicFramePr>
        <p:xfrm>
          <a:off x="838080" y="2133720"/>
          <a:ext cx="8153640" cy="2052360"/>
        </p:xfrm>
        <a:graphic>
          <a:graphicData uri="http://schemas.openxmlformats.org/presentationml/2006/ole">
            <p:oleObj progId="Word.Document.12" r:id="rId1" spid="">
              <p:embed/>
              <p:pic>
                <p:nvPicPr>
                  <p:cNvPr id="234" name="" descr=""/>
                  <p:cNvPicPr/>
                  <p:nvPr/>
                </p:nvPicPr>
                <p:blipFill>
                  <a:blip r:embed="rId2"/>
                  <a:stretch/>
                </p:blipFill>
                <p:spPr>
                  <a:xfrm>
                    <a:off x="838080" y="2133720"/>
                    <a:ext cx="8153640" cy="205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16BD833-D406-489E-B3EA-74406DCD50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ules of Thumb for EVA Numbers</a:t>
            </a:r>
            <a:endParaRPr b="1" lang="en-US" sz="4400" spc="-1" strike="noStrike">
              <a:solidFill>
                <a:srgbClr val="000000"/>
              </a:solidFill>
              <a:latin typeface="Times New Roman"/>
            </a:endParaRPr>
          </a:p>
        </p:txBody>
      </p:sp>
      <p:sp>
        <p:nvSpPr>
          <p:cNvPr id="23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egative numbers for cost and schedule variance indicate problems in those areas.  The project is costing more than planned or taking longer than plann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I and SPI less than 100% indicate problem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B504AD8-8ACB-49E3-97BA-57C896EECC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1, p. 169</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EA5DE5A-24F8-4178-B0F4-5B101E3AD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2.</a:t>
            </a:r>
            <a:r>
              <a:rPr b="1" lang="en-US" sz="3600" spc="-1" strike="noStrike">
                <a:solidFill>
                  <a:srgbClr val="000000"/>
                </a:solidFill>
                <a:latin typeface="Times New Roman"/>
              </a:rPr>
              <a:t> </a:t>
            </a:r>
            <a:r>
              <a:rPr b="1" lang="en-US" sz="3200" spc="-1" strike="noStrike">
                <a:solidFill>
                  <a:srgbClr val="000000"/>
                </a:solidFill>
                <a:latin typeface="Times New Roman"/>
              </a:rPr>
              <a:t>Earned Value Calculations for a One-Year Project After Five Months</a:t>
            </a:r>
            <a:endParaRPr b="1" lang="en-US" sz="3200" spc="-1" strike="noStrike">
              <a:solidFill>
                <a:srgbClr val="000000"/>
              </a:solidFill>
              <a:latin typeface="Times New Roman"/>
            </a:endParaRPr>
          </a:p>
        </p:txBody>
      </p:sp>
      <p:pic>
        <p:nvPicPr>
          <p:cNvPr id="240" name="" descr=""/>
          <p:cNvPicPr/>
          <p:nvPr/>
        </p:nvPicPr>
        <p:blipFill>
          <a:blip r:embed="rId1"/>
          <a:stretch/>
        </p:blipFill>
        <p:spPr>
          <a:xfrm>
            <a:off x="762120" y="1371600"/>
            <a:ext cx="8381880" cy="3579840"/>
          </a:xfrm>
          <a:prstGeom prst="rect">
            <a:avLst/>
          </a:prstGeom>
          <a:ln w="0">
            <a:noFill/>
          </a:ln>
        </p:spPr>
      </p:pic>
      <p:sp>
        <p:nvSpPr>
          <p:cNvPr id="241" name=""/>
          <p:cNvSpPr/>
          <p:nvPr/>
        </p:nvSpPr>
        <p:spPr>
          <a:xfrm>
            <a:off x="1065240" y="57150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Excel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A22AE83-A07D-472C-8D85-C42241FED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6-3. Earned Value Chart for Project After Five Months</a:t>
            </a:r>
            <a:endParaRPr b="1" lang="en-US" sz="4000" spc="-1" strike="noStrike">
              <a:solidFill>
                <a:srgbClr val="000000"/>
              </a:solidFill>
              <a:latin typeface="Times New Roman"/>
            </a:endParaRPr>
          </a:p>
        </p:txBody>
      </p:sp>
      <p:graphicFrame>
        <p:nvGraphicFramePr>
          <p:cNvPr id="243" name=""/>
          <p:cNvGraphicFramePr/>
          <p:nvPr/>
        </p:nvGraphicFramePr>
        <p:xfrm>
          <a:off x="990720" y="1295280"/>
          <a:ext cx="7848360" cy="4435560"/>
        </p:xfrm>
        <a:graphic>
          <a:graphicData uri="http://schemas.openxmlformats.org/presentationml/2006/ole">
            <p:oleObj progId="Excel.Sheet.12" r:id="rId1" spid="">
              <p:embed/>
              <p:pic>
                <p:nvPicPr>
                  <p:cNvPr id="244" name="" descr=""/>
                  <p:cNvPicPr/>
                  <p:nvPr/>
                </p:nvPicPr>
                <p:blipFill>
                  <a:blip r:embed="rId2"/>
                  <a:stretch/>
                </p:blipFill>
                <p:spPr>
                  <a:xfrm>
                    <a:off x="990720" y="1295280"/>
                    <a:ext cx="7848360" cy="4435560"/>
                  </a:xfrm>
                  <a:prstGeom prst="rect">
                    <a:avLst/>
                  </a:prstGeom>
                  <a:ln w="0">
                    <a:noFill/>
                  </a:ln>
                </p:spPr>
              </p:pic>
            </p:oleObj>
          </a:graphicData>
        </a:graphic>
      </p:graphicFrame>
      <p:sp>
        <p:nvSpPr>
          <p:cNvPr id="245" name=""/>
          <p:cNvSpPr/>
          <p:nvPr/>
        </p:nvSpPr>
        <p:spPr>
          <a:xfrm>
            <a:off x="989280" y="5943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3"/>
              </a:rPr>
              <a:t>Excel file</a:t>
            </a:r>
            <a:endParaRPr b="0" lang="en-US" sz="2400" spc="-1" strike="noStrike">
              <a:solidFill>
                <a:srgbClr val="333300"/>
              </a:solidFill>
              <a:latin typeface="Times New Roman"/>
            </a:endParaRPr>
          </a:p>
        </p:txBody>
      </p:sp>
      <p:sp>
        <p:nvSpPr>
          <p:cNvPr id="246" name=""/>
          <p:cNvSpPr/>
          <p:nvPr/>
        </p:nvSpPr>
        <p:spPr>
          <a:xfrm>
            <a:off x="8479440" y="9144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AC</a:t>
            </a:r>
            <a:endParaRPr b="0" lang="en-US" sz="1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0539BA9-1BFA-40D0-9C84-8D43AD235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1" name=""/>
          <p:cNvSpPr/>
          <p:nvPr/>
        </p:nvSpPr>
        <p:spPr>
          <a:xfrm>
            <a:off x="762120" y="1143000"/>
            <a:ext cx="8229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ccording to the San Francisco Chronicle front-page story, "Computer Bumbling Costs the State $1 Billion," the state of California had a series of expensive IT project failures in the late 1990s, costing taxpayers nearly $1 billion.  Some of the poorly managed projects included the Department of Motor Vehicles vehicle registration and driver's license databases, a statewide child support database, the State Automated Welfare System, and a Department of Corrections system for tracking inmates.  Senator John Vasconcellos thought it was ironic that the state which leads in creation of computers is the state most behind in using computer technology to improve state services.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lso consider the Internal Revenue Service's expensive reengineering and IT project failures.  The Internal Revenue Service (IRS) managed a series of project failures that cost taxpayers over $50 billion a year—roughly as much money as the annual net profit of the entire computer industry.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D436EB3-DA16-47AC-8C41-A2581D1460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Cost Management</a:t>
            </a:r>
            <a:endParaRPr b="1" lang="en-US" sz="4400" spc="-1" strike="noStrike">
              <a:solidFill>
                <a:srgbClr val="000000"/>
              </a:solidFill>
              <a:latin typeface="Times New Roman"/>
            </a:endParaRPr>
          </a:p>
        </p:txBody>
      </p:sp>
      <p:sp>
        <p:nvSpPr>
          <p:cNvPr id="2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are a common tool for resource planning, cost estimating, cost budgeting, and cost contro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mpanies use more sophisticated and centralized financial applications software for cost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has many cost-related featur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7906B89-BC1F-4120-AB24-D543F810E0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0000"/>
          </a:bodyPr>
          <a:p>
            <a:pPr lvl="2" marL="10285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most colleges and companies provide adequate education and training in cost management for IT project managers?  Give examples to support your answer.</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ive an example of using the following techniques for creating a cost estimate:  analogous, parametric, bottom-up, and computerized tools.</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is earned value analysis?  Why is it the preferred method for measuring project performance?  Why isn't it used more often?</a:t>
            </a:r>
            <a:endParaRPr b="1" lang="en-US" sz="2800" spc="-1" strike="noStrike">
              <a:solidFill>
                <a:srgbClr val="3333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04585DF-7E47-45FB-AFFD-A3B449AB4E6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st and Project Cost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56880" y="1371240"/>
            <a:ext cx="8186760" cy="479124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is a resource sacrificed or fore-gone to achieve a specific objective or something given up in exchan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s are usually measured in monetary units like dolla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management includes the processes required to ensure that the project is completed within an approved budg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1BA52C6-FCC0-4AAF-A059-AAB709A2EC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64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ject Cost Management Processes</a:t>
            </a:r>
            <a:endParaRPr b="1" lang="en-US" sz="4000" spc="-1" strike="noStrike">
              <a:solidFill>
                <a:srgbClr val="000000"/>
              </a:solidFill>
              <a:latin typeface="Times New Roman"/>
            </a:endParaRPr>
          </a:p>
        </p:txBody>
      </p:sp>
      <p:sp>
        <p:nvSpPr>
          <p:cNvPr id="18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ource planning: determining what resources and quantities of them should be used</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estimating: developing an estimate of the costs and resources needed to complete a project</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budgeting: allocating the overall cost estimate to individual work items to establish a baseline for measuring performanc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control: controlling changes to the project budge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FAB0173-AF1B-4B75-9E9E-C46FD32F7F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ck Quiz on Cost Concept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sell 10 widgets per day on average, and the average cost per widget is $10.  If you sold 11 widgets on day, what would the affect on profi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were buying 10 PCs for your new business.  What would some of the life cycle cos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 examples of “tangible” vs. “intangible” benefits of a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E36BC37-D933-47D2-A486-77FE79342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Principles of Cost Manag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st CEOs and boards know a lot more about finance than IT, IT project managers must speak their language</a:t>
            </a:r>
            <a:endParaRPr b="1" lang="en-US" sz="28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fits are revenues minus expenses</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Life cycle costing is estimating the cost of a project over its entire life</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ash flow analysis is determining the estimated annual costs and benefits for a proj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enefits and costs can be tangible or intangible, direct or indir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unk cost should not be a criteria in project selection</a:t>
            </a:r>
            <a:endParaRPr b="1" lang="en-US" sz="24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4E4E6A5-0889-4CF9-9117-0ADE6F905F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1. Cost of Software Defects</a:t>
            </a:r>
            <a:endParaRPr b="1" lang="en-US" sz="4400" spc="-1" strike="noStrike">
              <a:solidFill>
                <a:srgbClr val="000000"/>
              </a:solidFill>
              <a:latin typeface="Times New Roman"/>
            </a:endParaRPr>
          </a:p>
        </p:txBody>
      </p:sp>
      <p:graphicFrame>
        <p:nvGraphicFramePr>
          <p:cNvPr id="191" name=""/>
          <p:cNvGraphicFramePr/>
          <p:nvPr/>
        </p:nvGraphicFramePr>
        <p:xfrm>
          <a:off x="914400" y="1600200"/>
          <a:ext cx="8229600" cy="1814400"/>
        </p:xfrm>
        <a:graphic>
          <a:graphicData uri="http://schemas.openxmlformats.org/presentationml/2006/ole">
            <p:oleObj progId="Word.Document.12" r:id="rId1" spid="">
              <p:embed/>
              <p:pic>
                <p:nvPicPr>
                  <p:cNvPr id="192" name="" descr=""/>
                  <p:cNvPicPr/>
                  <p:nvPr/>
                </p:nvPicPr>
                <p:blipFill>
                  <a:blip r:embed="rId2"/>
                  <a:stretch/>
                </p:blipFill>
                <p:spPr>
                  <a:xfrm>
                    <a:off x="914400" y="1600200"/>
                    <a:ext cx="8229600" cy="1814400"/>
                  </a:xfrm>
                  <a:prstGeom prst="rect">
                    <a:avLst/>
                  </a:prstGeom>
                  <a:ln w="0">
                    <a:noFill/>
                  </a:ln>
                </p:spPr>
              </p:pic>
            </p:oleObj>
          </a:graphicData>
        </a:graphic>
      </p:graphicFrame>
      <p:sp>
        <p:nvSpPr>
          <p:cNvPr id="193" name=""/>
          <p:cNvSpPr/>
          <p:nvPr/>
        </p:nvSpPr>
        <p:spPr>
          <a:xfrm>
            <a:off x="1071000" y="3352680"/>
            <a:ext cx="715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It is important to spend money up-front on IT</a:t>
            </a:r>
            <a:endParaRPr b="0" lang="en-US" sz="28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projects to avoid spending a lot more later.</a:t>
            </a:r>
            <a:endParaRPr b="0" lang="en-US" sz="2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8E153B5-1405-4EC7-BF4E-553FA8D5A4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95" name=""/>
          <p:cNvSpPr/>
          <p:nvPr/>
        </p:nvSpPr>
        <p:spPr>
          <a:xfrm>
            <a:off x="990720" y="1143000"/>
            <a:ext cx="7848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Ford Motor Company had great success with its Taurus/Sable project.  Ford excels in team product development and seeks to remove barriers among design, engineering, production, marketing, sales, and purchasing.  However, the Taurus team went far beyond that by creating a car that excelled in design and quality at half the typical development cost.  They brought together all the relevant disciplines as a team and took the various steps in designing, producing, marketing, and selling the cars simultaneously as well as sequentially.  Ford even included people outside the company for advice—car dealerships, insurance companies, and suppliers.  One supplier even offered the services of its own drafting department to prepare initial designs for Ford's approval.  Bringing together all the key players provided extremely valuable ideas at the conceptual stage, when changes can be made without much extra cost.  "Not only were there substantial savings in cost and design time, but major production contracts were being negotiated and set up some three years ahead of production, with the duration of the contract some five years.  This also led to cost economi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177B53A-DD19-4130-B9CC-C275558F8D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8-02T16:43:45Z</cp:lastPrinted>
  <dcterms:modified xsi:type="dcterms:W3CDTF">1999-09-15T16:14:17Z</dcterms:modified>
  <cp:revision>151</cp:revision>
  <dc:subject/>
  <dc:title>No Slide Title</dc:title>
</cp:coreProperties>
</file>