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07D-C309-49AD-B8E9-2C110D61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CEA-2953-4A65-B111-B978AE80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6FF-37D0-439A-996A-DD5D8363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733-90A0-431E-824F-087E5568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D9B1-3B7F-44FE-86DD-F7EC283F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7549-79ED-4713-90F0-5D258AF3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99B5-A3FB-4A81-9A0B-DDD1B29B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6BCB-5523-46FE-97BA-DDA9CCCF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46BE-5FE2-4D0B-A0AE-071C5CBE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CB69-367E-4418-A91E-C70A3688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83C2-1F46-4961-A441-20D467C7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2CE-2CD4-46BC-B29A-2D91BE86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298-6F75-472C-A4FE-F9078293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9661-E2A0-4EDB-9227-E8E0D9D1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BFED-08E5-443B-B6C1-DBD9F3BF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1780-23E4-453E-853D-40DF6F27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2AF0-7A40-4368-BB6C-82117121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039-9CDF-42D5-A433-67D96146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BCD-5196-4CC9-A020-709E3BE8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AB7-C075-44FE-B88F-C5DFCDF3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D9B-D7AE-4593-B274-A8BA9EEF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171-9DA5-4DE7-8E42-2BA46AEB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C66-F39B-4D64-B4BC-5C742D29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2D5-57A8-4A35-966F-ACB88347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066680"/>
            <a:ext cx="8596440" cy="10188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839080" y="9907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7D5D-F39A-47DF-9E88-DB049898A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20001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650D-42EA-47A2-91F3-D7D6D648C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Fig4-2.xls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Fig4-3.xls" TargetMode="Externa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Fig4-4.xls" TargetMode="Externa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Fig4-5.xls" TargetMode="Externa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Fig4-7.mpp" TargetMode="Externa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722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hapter 4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ject Scope Manage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32" name="magnify" descr=""/>
          <p:cNvPicPr/>
          <p:nvPr/>
        </p:nvPicPr>
        <p:blipFill>
          <a:blip r:embed="rId1"/>
          <a:stretch/>
        </p:blipFill>
        <p:spPr>
          <a:xfrm>
            <a:off x="5029200" y="0"/>
            <a:ext cx="4076640" cy="4495680"/>
          </a:xfrm>
          <a:prstGeom prst="rect">
            <a:avLst/>
          </a:prstGeom>
          <a:ln w="0">
            <a:noFill/>
          </a:ln>
        </p:spPr>
      </p:pic>
      <p:pic>
        <p:nvPicPr>
          <p:cNvPr id="133" name="bd06662_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2195280" cy="19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0FE0-C348-481D-A545-393080D0AD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ocusing on Broad Organizational Need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often difficult to provide strong justification for many IT projects, but everyone agrees they have a high valu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better to measure gold roughly than to count pennies precisely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ree important criteria for projects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 is a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need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 the proje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 are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fund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availab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’s a strong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to make the project succe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906-03BB-44A2-BD19-3B01E9C22D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42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e categorization is whether the project address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proble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 opportunity, o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directi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categorization is how long it will take to do and when it is need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is the overall priority of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8D1-61F8-4E51-9F59-3CADA210DE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79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nancial Analysis of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al considerations are often an important consideration in selecting projec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ree primary methods for determining the projected financial value of project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t present value (NPV)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urn on investment (ROI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ayback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61B-469D-463C-967F-FF5ABD7547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79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Net Present Value Analysi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t present value (NPV) analysis is a method of calculating the expected net monetary gain or loss from a project by discounting all expected future cash inflows and outflows to the present point in ti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s with a positive NPV should be considered if financial value is a key criter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higher the NPV, the bett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532-4B31-47AD-ABFA-B5E930EF81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93840"/>
            <a:ext cx="78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2.  Net Present Value Exampl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8880" y="1038240"/>
            <a:ext cx="8080200" cy="4781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17880" y="58672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518-F717-45F0-A4C3-8EBECEB22F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2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Return on Invest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turn on investment (ROI) is income divided by investmen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I = (total discounted benefits - total discounted costs) / discounted cos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higher the ROI, the bett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ny organizations have a required rate of return or minimum acceptable rate of return on investment for proj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F79-485A-4284-A60C-9EBF5C2424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2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ayback Analysi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important financial consideration is payback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ayback period is the amount of time it will take to recoup, in the form of net cash inflows, the net dollars invested in a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ayback occurs when the cumulative discounted benefits and costs are greater than zer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organizations want IT projects to have a fairly short payback perio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E40-E6E0-48C4-B444-AB45A5E27B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3920" y="-8280"/>
            <a:ext cx="74725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gure 4-3. NPV, ROI, and Payback Analysis for Project 1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3821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25720" y="52992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E2C-4AA8-4580-9FE3-C8AAFD0F66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gure 4-4. NPV, ROI, and Payback Analysis for Project 2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3805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73440" y="54514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BA8-1FBB-481E-BAA6-CB0208E3FB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18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Weighted Scoring Model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weighted scoring model is a tool that provides a systematic process for selecting projects based on many criteri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rst identify criteria important to the project selection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n assign weights (percentages) to each criterion so they add up to 100%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n assign scores to each criterion for each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ultiply the scores by the weights and get the total weighted sc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higher the weighted score, the bett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 “What Went Right?” for a description of how a mortgage finance agency uses a weighted scoring model for IT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F5F-3913-4157-BEE1-B08B5DE5ED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Importance of Good Project Scope Managemen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995 CHAOS study cited user involvement, a clear project mission, a clear statement of requirements, and proper planning as being important for project succ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rogram manager of Keller Graduate School of Management cites proper project definition and scope as the main reasons projects fai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CB1-7F83-4C0C-AB43-B407B75807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4280" y="118080"/>
            <a:ext cx="77011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5. Sample Weighted Scoring Model for Project Selectio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89280" y="61722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B76-EA19-4A40-B447-3806481359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ass Activity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 a weighted scoring model for selecting a m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termine 4-5 important criteria, then determine their we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ck a few candidate mates and apply scoring mod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lculate weighted sco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928-CE1E-470C-B84C-BAB1C8B5B0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166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ject Charter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fter deciding what project to work on, it is important to formalize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project charter is a document that formally recognizes the existence of a project and provides direction on the project’s objectives and manage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ey project stakeholders should sign a project charter to acknowledge agreement on the need and intent of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64D-B76D-4AC0-805B-08EADA51E2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8465-148C-4A97-846E-90A4CBF2C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-1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Arial Black"/>
              </a:rPr>
              <a:t>Table 4-2. Sample Project Charter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90720" y="1371600"/>
          <a:ext cx="8153280" cy="36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815328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730B-F258-4B11-A03B-DB364D0D0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-2520"/>
            <a:ext cx="8153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Arial Black"/>
              </a:rPr>
              <a:t>Table 4-2. Sample Project Charter (continued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9164520" cy="55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916452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061640" y="114300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es and Responsibiliti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-122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Scope Planning and the Scope State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scope statement is a document used to develop and confirm a common understanding of the project scope.  It should inclu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project justific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brief description of the project’s produ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summary of all project deliverabl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statement of what determines project suc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CCF-3F60-4229-81E7-C0E36D364E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Scope Planning and the Work Breakdown Structur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fter completing scope planning, the next step is to further define the work by breaking it into manageable pie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od scope defini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lps improve the accuracy of time, cost, and resource estim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fines a baseline for performance measurement and project contro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ids in communicating clear work responsibil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F5F-34F3-4094-9A6D-6A3D61C029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The Work Breakdown Structure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work breakdown structure (WBS) is an outcome-oriented analysis of the work involved in a project that defines the total scope of the projec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is a foundation document in project management because it provides the basis for planning and managing project schedules, costs, and chang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ED3-33CC-4D05-969A-CD79CF3783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6a. Sample Intranet WBS Organized by Product 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381880" cy="28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725-B2D9-4B4F-9A5F-0F3324CD4E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6b. Sample Intranet WBS Organized by Phas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528-CA66-4C82-8CAE-AAD51DF5B2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-12420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What is Project Scope Management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8640" y="1066320"/>
            <a:ext cx="841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refers to all the work involved in creating the products of the project and the processes used to create th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 scope management includes the processes involved in defining and controlling wha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or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is no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ncluded in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roject team and stakeholders must have the same understanding of what products will be produces as a result of a project and what processes will be used in producing th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50A-3795-45F2-8EE2-08C8E35A14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-124920"/>
            <a:ext cx="83822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able 4-3. Intranet WBS in Tabular Form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219320"/>
            <a:ext cx="6908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 Evaluate current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 Define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1 Define user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2 Define content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3 Define system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4 Define server owner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 Define specific functio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4 Define risks and risk management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5 Develop project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6 Brief web development 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 Web Sit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0 Web Site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0 Roll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0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AB3-9812-40C2-BD9C-6CBB5F31FD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87000" y="149760"/>
            <a:ext cx="71787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7. Intranet WBS and Gantt Chart in Project 98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99288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8880" y="121932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28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93480" y="54100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77E-88BF-4481-85CB-863F64F4E8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-154080"/>
            <a:ext cx="784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Approaches to Developing WBS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56880" y="1294920"/>
            <a:ext cx="81867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ing guidelines: Some organizations, like the DOD, provide guidelines for preparing WB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analogy approach: It often helps to review WBSs of similar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top-down approach: Start with the largest items of the project and keep breaking them dow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bottoms-up approach: Start with the detailed tasks and roll them up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84F-4D12-4CBC-851C-ACE1635716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56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Basic Principles for Creating WBSs*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56880" y="1371600"/>
            <a:ext cx="81867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. A unit of work should appear at only one place in the WBS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. The work content of a WBS item is the sum of the WBS items below it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. A WBS item is the responsibility of only one individual, even though many people may be working on it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. The WBS must be consistent with the way in which work is actually going to be performed; it should serve the project team first and other purposes only if practical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. Project team members should be involved in developing the WBS to ensure consistency and buy-in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. Each WBS item must be documented to ensure accurate understanding of the scope of work included and not included in that item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. The WBS must be a flexible tool to accommodate inevitable changes while properly maintaining control of the work content in the project according to the scope statement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6035760"/>
            <a:ext cx="807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land, David I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roject Management:  Strategic Design and Implementation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45C-E0B7-44C9-8F85-0977ED48A5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ass Exercis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 a WBS for building a dream hous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t into groups of 3-4 and have one person describe his/her dream hom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oup decide how to organize the work involved in making the home a reali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ake one WBS item down to level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9ED-3D46-4042-8FC1-5CFD7A8587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Scope Verification and Scope Change Control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very difficult to create a good scope statement and WBS for a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even more difficult to verify project scope and minimize scope cha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IT projects suffer from scope creep and poor scope verifica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xMeyer Drug filed for bankruptcy after scope creep on a robotic warehou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gineers at Grumman called a system “Naziware” and refused to use i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B66-EBF1-4D59-80A9-FCD34F20CC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3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33EB-FFF6-49EF-BE29-033AC89E1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6d9a"/>
                </a:solidFill>
                <a:latin typeface="Arial Black"/>
              </a:rPr>
              <a:t>Table 4-4. Factors Causing IT Project Problems*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600200"/>
          <a:ext cx="8153280" cy="31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815328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066680" y="518148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Johnson, Jim, "CHAOS:  The Dollar Drain of IT Project Failures," Application Development Trends, January 1995, www.stadishgroup.com/chaos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-122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Suggestions for Improving User Inpu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sist that all projects have a sponsor from the user organiz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e users on the project tea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e regular meeting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liver something to project users and sponsor on a regular ba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-locate users with the develop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D8B-34C1-4AAD-967A-9310FF8EB4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-1080"/>
            <a:ext cx="80773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uggestions for Reducing Incomplete and Changing Requirement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velop and follow a requirements management pro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ploy techniques such as prototyping, use case modeling, and Joint Application Design to thoroughly understand user requiremen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ut all requirements in writing and curren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reate a requirements management databa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vide adequate tes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Use a process for reviewing requested changes from a systems perspecti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phasize completion d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B96-7BB6-407A-8458-DCCA908A86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scussion Question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ive examples of IT projects and why they were or were not selected for implementation.  What type of project selection process did the organization use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scuss the theory and practice behind using project charters, scope statements, and WBS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scribe a project that suffered from scope creep.  Could it have been avoided?  How?  Can scope creep be a good thing?  Whe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95C-869C-4D50-92F0-39B80DB966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461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roject Scope Management Processe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itiation: beginning a project or continuing to the next phas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planning: developing documents to provide the basis for future project decis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definition: subdividing the major project deliverables into smaller, more manageable compon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verification: formalizing acceptance of the project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change control: controlling changes to project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3CA-9864-4E0D-8138-78373BEAB1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Project Initiation: Strategic Planning and Project Selection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first step in initiating projects is to look at the big picture or strategic plan of an organ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trategic planning involves determining long-term business objectiv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projects should support strategic and financial business objectiv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907-F20C-4945-80CD-4D7F19B4C5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able 4-1. Why Firms Invest in Information Technology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676520"/>
          <a:ext cx="8305920" cy="45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830592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69A-C37A-4A67-9C36-4761EBA36B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Identifying Potential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organizations follow a planning process for selecting IT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rst develop an IT strategic plan based on the organization’s overall strategic pla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perform a business area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define potential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select IT projects and assign resour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F8D-0F5D-4D67-9124-2DB8412961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1. Information Technology Planning Proces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7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23D-27E6-4D10-80F5-61235D339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Methods for Selecting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re are usually more projects than available time and resources to implement the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is important to follow a logical process for selecting IT projects to work 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ethods include focusing on broad needs, categorizing projects, financial methods, and weighted scoring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61E-8D87-4730-9F11-72C47336B0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Kathy Schwalbe</cp:lastModifiedBy>
  <cp:lastPrinted>1999-03-08T14:43:06Z</cp:lastPrinted>
  <dcterms:modified xsi:type="dcterms:W3CDTF">1999-09-10T14:58:53Z</dcterms:modified>
  <cp:revision>225</cp:revision>
  <dc:subject/>
  <dc:title>No Slide Title</dc:title>
</cp:coreProperties>
</file>