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2034-66B9-4D67-B0D5-638F31C78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7A89-5FA0-4A79-B8E1-475301DE3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42ED-0266-4E54-8F0A-72A3E2BFE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9C69-E6FE-4D03-AD49-24B58D72F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C5F7E-4E81-4E9C-88B9-81224A1A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1424-611E-4427-BE55-B5F52C6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28D15-5915-41BA-89D8-324BEC7F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0469-247A-467B-BFF1-9EB1BC93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6728E-9B11-4534-A79F-F295C2D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640D-E9E8-4FDD-8731-FB88B10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38F5-63AA-4C8A-A7DA-CE15C2B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6619-49BF-4410-8556-C37C1B942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8131C-AC86-47E1-8242-874908E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3370-C160-470D-BB24-8860F0F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2411-4519-4AC0-B2FA-8FC5F0C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48AD9-18B7-40F1-981D-1DB05106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FD5DD-2ECE-495F-9ABC-1105BF9E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D218-6858-466F-8B36-36D471AD9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7A3E-723A-4FAB-8F2D-7CF67E7F1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B77A-1A24-4590-9B83-8C4ED4932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ABE2-510B-45E9-B350-077239667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63D0-68B1-411F-8D7B-9C521CAF0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4C61-8D0F-4DFE-A2C9-85CC2D016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1694-91F2-4598-B885-CDF5E844F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F7CD-E44C-4071-8223-D122C4048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FBC9-4C60-4170-A3A7-41ECD31B9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mi.org/certification/code.htm" TargetMode="External"/><Relationship Id="rId2" Type="http://schemas.openxmlformats.org/officeDocument/2006/relationships/hyperlink" Target="http://www.pmi.org/certification/code.htm" TargetMode="External"/><Relationship Id="rId3" Type="http://schemas.openxmlformats.org/officeDocument/2006/relationships/hyperlink" Target="http://www.pmi.org/certification/code.htm" TargetMode="External"/><Relationship Id="rId4" Type="http://schemas.openxmlformats.org/officeDocument/2006/relationships/hyperlink" Target="http://www.pmi.org/certification/code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 to Project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B485-D64C-4D69-91E3-1205238B30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2. Project Management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590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3895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07120" y="236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2E68-2DB5-4B66-9FCE-4F3266D79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akehol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are the people involved in or affected by project activit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project sponsor and project te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ort staf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ponents to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F0B9-E246-40CC-96F1-365D22BB7F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 Project Management Knowledge Are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Knowledge areas describe the key competencies that project managers must develo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core knowledge areas lead to specific project objectives (scope, time, cost, and qualit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facilitating knowledge areas are the means through which the project objectives are achieved (human resources, communication, risk, and procurement management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 knowledge area (project integration management) affects and is affected by all of the other knowledge are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09FE-A770-4A82-ADC3-599A2AB4F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Tools and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tools and techniques assist project managers and their teams in various aspects of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specific on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Charter and WBS (scop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antt charts, PERT charts, critical path analysis (tim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estimates and Earned Value Analysis (cost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8A91-6752-43B5-80FD-B10C1EB272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WBS for Intranet Project in Chart For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924200"/>
          <a:ext cx="886932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24200"/>
                    <a:ext cx="886932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1E08-8A37-4664-96D4-010316D93E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1-4. Sample Gantt Chart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82080" y="6019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3760" y="574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0280" y="5745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91B6-5EB8-42C2-AE4D-165D7569F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5. Sample PERT Char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960" y="4648320"/>
            <a:ext cx="7769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Each box is a project task from the WBS.  Arrows show dependenci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between tasks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tasks on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ritical path take longer than planned, the whole project will slip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00"/>
                </a:solidFill>
                <a:uFillTx/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something is don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647676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CC4C-41E8-4DEE-B38E-CE1AE68A5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24000"/>
          <a:ext cx="868680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4000"/>
                    <a:ext cx="8686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66680" y="152280"/>
            <a:ext cx="8077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Sample Earned Value Char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887B-88AF-47A9-87AF-FABDD935A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 of Project Management*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osses, customers, and other stakeholders do not like surpris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ment (PM) provides assurance and reduces risk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the tools and environment to plan, monitor, track, and manage schedules, resources, costs, and quality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a history or metrics base for future planning as well as good document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embers learn and grow by working in a cross-functional team environ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ource:  Knutson, Joa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ecember 1997, p. 13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8A09-9260-47FD-8AC9-40A4F7527D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oject Management (PM) Relates to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ch of the knowledge needed to manage projects is unique to P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ever, project managers must also have knowledge and experience 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neral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application area of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rs must focus on meeting specific project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B381-50CF-4679-9854-08A0D31B7A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56880" y="1523880"/>
            <a:ext cx="818676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jects have a terrible track reco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1995 Standish Group study found that only 16.2% of IT projects were successf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ver 31% of IT projects were canceled before completion, costing over $81 B in the U.S. alo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9 ComputerWorld article listed project manager as the #1 position IT managers say they need most for contract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IT projects keeps increa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anies in general are emphasizing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ivation for Studying Information Technology (IT) Project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5A94-FAFC-415C-8EFE-9B4E6A851E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3. Project Management and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87640" y="1467000"/>
            <a:ext cx="553248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A758-627D-400C-AE9E-3C0EC90FAC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 of Project Management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8818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dern project management began with the Manhattan Project, which the U.S. military led to develop the atomic bom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17 Henry Gantt developed the Gantt chart as a tool for scheduling work in job shop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58, the Navy developed PERT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the 1970s, the military began using project management software, as did the construction indus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y the 1990s, virtually every industry was using some form of project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ugust 1999 PM Network has good articles on history of 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89E9-BD7A-4775-84D0-786874E0D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ject Management Prof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6 Fortune article called project management the “number one career choic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authors like Tom Peters and Thomas Stewart stress that projects are what add value to organiz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fessional societies like the Project Management Institute have grown tremendous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7D74-AE41-4D62-A530-466D899E9E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Certif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I provides certification as a Project Management Professional (PMP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MP has documented sufficient project experience, agreed to follow a code of ethics, and passed the PMP ex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umber of people earning PMP certification is increasing quick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groups, like the Gartner Group and the Singapore Computer Society, have their own IT PM Certification pr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7C7B-E051-4BAC-9AF9-BE04050311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6. Growth in PMP Certification, 1993-19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08640" y="83808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ver 12,500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y May 1999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CF5C-D0A5-431B-B71A-3D69934863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de of Ethic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MI developed a project management code of ethics that all PMPs must agree to abide b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ducting work in an ethical manner helps the profession earn confide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thics are on the web at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pmi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org/certification/code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BE23-B504-4F97-9C00-C634756915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ive three examples of activities that are projects and three examples of activities that are no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is project management different from general manage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o you think so many projects are unsuccessfu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a high failure rate unique to certain types of projects, like IT projects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5D44-1FAF-4022-AC0D-24905330BE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is a temporary endeavor undertaken to accomplish a unique purpo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tributes of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iqu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mpor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quire resources, often from various ar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hould have a primary sponsor and/or custom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volve uncertain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CA23-5C4B-4FB4-B729-6C70CFEBC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s of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rthwest Airlines developed a new reservation system called ResNet (see chapters 11-1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nk of America created a system to integrate check processing, checking accounts, and savings accounts in various states (p. 130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odak created the Advantix Advanced Photo System in one of their most ambitious projects ever (p. 302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9C4C-327D-4F57-B3D8-F394B4DC64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s I’ve Worked 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this book!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a web-based CBT cour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academic progr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urchasing a risk management system for an oil compan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internal consulting grou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ing a beta test for new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ational Aerospace Plan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High Reliability Fighter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Local Online Network System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tc., etc.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DE1D-4C9D-4D2A-8C7F-4C333AE792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is constrained in different ways by i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cop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im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is the project manager’s duty to balance these three often competing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5C61-07C2-4676-BC90-392D78B1A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1. The Triple Constraint of Project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49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B0BE-9FFD-4036-ACC0-D7227FEBE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on 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ir up and instructor assign ro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layer” describe in your own words what the triple constraint really means, then give an example of it on a real project you’re familiar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ach” listen and ask questions, then be ready to share what your partner sai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s the project “successful?”  Why or why no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E2E7-884C-4B5C-8C39-1FE582A52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Management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56360" cy="31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roject Management Body of Knowledge (PMBOK Guide), 1996, p. 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578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*The Project Management Institute (PMI) is an international professional society.  Their web site is www.pmi.org.  Over 315,000 copies of the PMBOK Guide were in circulation by June 1999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5EE9-1782-465F-AD81-98145D4AF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3-08T14:43:06Z</cp:lastPrinted>
  <dcterms:modified xsi:type="dcterms:W3CDTF">1999-09-05T19:56:26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augsburg.edu/ppages/schwalbe</vt:lpwstr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U of M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