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4FE-C30C-460B-8D96-63F55608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816-079B-4FB9-BA40-5E8C0E47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009-EE85-4DA6-91AA-6544B1E7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ED3-72A0-4FB8-B11C-668D84A7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C12-2C15-420D-8B4F-0948B876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3193-428E-467D-A61E-B3A822E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BBB-9467-4850-B03E-1743E82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C078-D7D1-44E5-A096-3C2DE6E2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9E2-DC96-4219-ACA7-EC4DC3E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48BD-EABF-4616-8888-5032296F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0E4-928E-41F5-827C-4214D0E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12A-1CA4-4E5A-8427-2B1B021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28FA-D668-4DFC-8CF0-7D0E608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539-7DB1-4E0F-909A-BF6D6E1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F59A-FFFC-4588-8E29-F1462D7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810-69EE-4718-AF34-B8148E8F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EC30-86AE-4531-AA7C-233D7996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E1-E99F-4044-B4E4-7CD0928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94A-D0B1-454F-8871-715BA7B1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331-8705-4381-8EEF-8B2DC15D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93B-526D-4FFC-BC81-B91BE85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50C-51DA-4B9D-A9C4-2C754CF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572-759C-45D8-97FB-3F43BEF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BAC-FB5F-49D8-B4CC-A8259B4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066680"/>
            <a:ext cx="8596440" cy="10188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9907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74E-32CB-4057-B375-97DAC0CA3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31A-E10E-466F-9E51-47C5AC968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Fig4-2.xls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Fig4-3.xls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4-4.xls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Fig4-5.xls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Fig4-7.mpp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722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hapter 4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Scope Manag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magnify" descr=""/>
          <p:cNvPicPr/>
          <p:nvPr/>
        </p:nvPicPr>
        <p:blipFill>
          <a:blip r:embed="rId1"/>
          <a:stretch/>
        </p:blipFill>
        <p:spPr>
          <a:xfrm>
            <a:off x="5029200" y="0"/>
            <a:ext cx="4076640" cy="4495680"/>
          </a:xfrm>
          <a:prstGeom prst="rect">
            <a:avLst/>
          </a:prstGeom>
          <a:ln w="0">
            <a:noFill/>
          </a:ln>
        </p:spPr>
      </p:pic>
      <p:pic>
        <p:nvPicPr>
          <p:cNvPr id="133" name="bd06662_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9528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1A8-23FF-4737-A64F-22268EB5D4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ocusing on Broad Organizational Need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often difficult to provide strong justification for many IT projects, but everyone agrees they have a high val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better to measure gold roughly than to count pennies precisely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ee important criteria for projects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is a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 the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fund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vailab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’s a strong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make the project succe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BC3-7B1A-4F4A-AEBB-795248BE8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42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categorization is whether the project addre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bl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 opportunity,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dir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categorization is how long it will take to do and when it is need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s the overall priority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979-ADCE-41DD-98E0-03AE64A8A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nancial Analysis of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al considerations are often an important consideration in selecting projec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ree primary methods for determining the projected financial value of project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urn on investment (ROI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833-7CB7-4358-B912-B87BFA5158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Net Present Value Analysi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 is a method of calculating the expected net monetary gain or loss from a project by discounting all expected future cash inflows and outflows to the present point in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with a positive NPV should be considered if financial value is a key criter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higher the NPV, the bet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C42-3447-4F7F-A24D-98A99C02FB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3840"/>
            <a:ext cx="78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2.  Net Present Value Exampl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8880" y="1038240"/>
            <a:ext cx="80802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7880" y="586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DA8-F606-441E-AFA9-8A7B1438BF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eturn on Invest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urn on investment (ROI) is income divided by invest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I = (total discounted benefits - total discounted costs) / discounted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gher the ROI, the b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y organizations have a required rate of return or minimum acceptable rate of return on investment for pro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BE3-7721-43D4-B798-FF942EC399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ayback Analysi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mportant financial consideration is 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ayback period is the amount of time it will take to recoup, in the form of net cash inflows, the net dollars invested in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occurs when the cumulative discounted benefits and costs are greater than zer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want IT projects to have a fairly short payback peri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EFD-0F56-4428-A194-79C2E3F8C1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-8280"/>
            <a:ext cx="7472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3. NPV, ROI, and Payback Analysis for Project 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2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25720" y="5299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BF1-0EB7-4CD8-82A3-0BA24D504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4. NPV, ROI, and Payback Analysis for Project 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0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3440" y="54514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B65-9C6E-4168-84E3-11B690D4E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18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eighted Scoring Model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weighted scoring model is a tool that provides a systematic process for selecting projects based on many criter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rst identify criteria important to the project selection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weights (percentages) to each criterion so they add up to 100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scores to each criterion for each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ultiply the scores by the weights and get the total weighted sc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higher the weighted score, the b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“What Went Right?” for a description of how a mortgage finance agency uses a weighted scoring model for IT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D0B-2994-4E89-92A7-8ACA64345C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mportance of Good Project Scope Managemen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995 CHAOS study cited user involvement, a clear project mission, a clear statement of requirements, and proper planning as being important for project suc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gram manager of Keller Graduate School of Management cites proper project definition and scope as the main reasons projects fai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8D9-4EFA-4B79-98A6-AA0A10841E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18080"/>
            <a:ext cx="7701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5. Sample Weighted Scoring Model for Project Select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89280" y="6172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C3E-700E-40FB-9EF8-10D6A1BB60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Activ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eighted scoring model for selecting a m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e 4-5 important criteria, then determine their we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ck a few candidate mates and apply scoring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lculate weighted sco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784-8FDD-435F-A5B3-DB4158196C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1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Charter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deciding what project to work on, it is important to formalize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project charter is a document that formally recognizes the existence of a project and provides direction on the project’s objectives and manag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ey project stakeholders should sign a project charter to acknowledge agreement on the need and intent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3DF-6AE0-43CB-827F-40EB2276E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5C4-4CFE-438E-B8DC-74AFEADA7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1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371600"/>
          <a:ext cx="8153280" cy="36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15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1DF-BFF5-402C-99A0-58AB18428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-2520"/>
            <a:ext cx="8153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 (continued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916452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91645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1640" y="1143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s and Responsibilit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cope Planning and the Scope Stat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cope statement is a document used to develop and confirm a common understanding of the project scope.  It should inclu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ject just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brief description of the project’s produ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ummary of all project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tatement of what determines project su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04E-60D1-4799-9FC2-A8D8F35E12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Planning and the Work Breakdown Structur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completing scope planning, the next step is to further define the work by breaking it into manageable pie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od scope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lps improve the accuracy of time, cost, and resource estim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es a baseline for performance measurement and project contro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ids in communicating clear work responsibil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D02-6F46-4DD4-AFD5-CF4C9B44A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Work Breakdown Structur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work breakdown structure (WBS) is an outcome-oriented analysis of the work involved in a project that defines the total scope of the 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a foundation document in project management because it provides the basis for planning and managing project schedules, costs, and chang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CED-9C7B-4444-96F3-D087465938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a. Sample Intranet WBS Organized by Product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B08-7883-4B96-9766-39501C99FB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b. Sample Intranet WBS Organized by Pha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331-CBF4-44AF-AD2B-D4A7D7995B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1242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is Project Scope Management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640" y="1066320"/>
            <a:ext cx="841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refers to all the work involved in creating the products of the project and the processes used to create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cope management includes the processes involved in defining and controlling wha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or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s no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cluded in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ject team and stakeholders must have the same understanding of what products will be produces as a result of a project and what processes will be used in producing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C09-5718-481F-A1CA-2B77C9A01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-124920"/>
            <a:ext cx="83822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3. Intranet WBS in Tabular Form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6908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Evaluate curr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Defin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1 Define us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2 Define conten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3 Define system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4 Define server own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Define specific funct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 Define risks and risk management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Develop project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 Brief web developmen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 Web Sit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0 Web Sit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0 Roll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0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BF3-C384-4CFC-9CBA-7606F6E38B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149760"/>
            <a:ext cx="71787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7. Intranet WBS and Gantt Chart in Project 98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9288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8880" y="1219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93480" y="54100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FA8-0641-440B-98D7-27D676B0C8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154080"/>
            <a:ext cx="784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Approaches to Developing WBS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guidelines: Some organizations, like the DOD, provide guidelines for preparing WB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alogy approach: It often helps to review WBSs of similar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op-down approach: Start with the largest items of the project and keep breaking them dow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ttoms-up approach: Start with the detailed tasks and roll them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57E-9507-4E06-8F62-D4B840DEA0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asic Principles for Creating WBSs*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6880" y="1371600"/>
            <a:ext cx="81867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. A unit of work should appear at only one place in the WBS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. The work content of a WBS item is the sum of the WBS items below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. A WBS item is the responsibility of only one individual, even though many people may be working on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. The WBS must be consistent with the way in which work is actually going to be performed; it should serve the project team first and other purposes only if practica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. Project team members should be involved in developing the WBS to ensure consistency and buy-in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. Each WBS item must be documented to ensure accurate understanding of the scope of work included and not included in that item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. The WBS must be a flexible tool to accommodate inevitable changes while properly maintaining control of the work content in the project according to the scope statement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3576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land, David I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roject Management:  Strategic Design and Implementation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6F-82AE-41E4-B39C-0276292945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Exerci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BS for building a dream hou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t into groups of 3-4 and have one person describe his/her dream 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up decide how to organize the work involved in making the home a rea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ke one WBS item down to level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054-E5D3-46E6-AE4A-52925D147A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Verification and Scope Change Control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very difficult to create a good scope statement and WBS for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even more difficult to verify project scope and minimize scope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IT projects suffer from scope creep and poor scope verifi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Meyer Drug filed for bankruptcy after scope creep on a robotic warehou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gineers at Grumman called a system “Naziware” and refused to use i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997-A004-4E02-A15C-67D238543E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3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637-A616-411F-BF0A-84AF34D06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6d9a"/>
                </a:solidFill>
                <a:latin typeface="Arial Black"/>
              </a:rPr>
              <a:t>Table 4-4. Factors Causing IT Project Problems*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815328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15328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518148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Johnson, Jim, "CHAOS:  The Dollar Drain of IT Project Failures," Application Development Trends, January 1995, www.stadishgroup.com/chaos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uggestions for Improving User Inpu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ist that all projects have a sponsor from the user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users on the project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regular meet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liver something to project users and sponsor on a regular ba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-locate users with the develop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572-41E8-433E-9489-F93DD43C4D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-108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uggestions for Reducing Incomplete and Changing Requirement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 and follow a requirements management pro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loy techniques such as prototyping, use case modeling, and Joint Application Design to thoroughly understand user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t all requirements in writing and curr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eate a requirements management datab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ide adequate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se a process for reviewing requested changes from a systems persp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hasize completion d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F71-8E6C-4F7D-943B-32FEE29BEC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ve examples of IT projects and why they were or were not selected for implementation.  What type of project selection process did the organization u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uss the theory and practice behind using project charters, scope statements, and WB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be a project that suffered from scope creep.  Could it have been avoided?  How?  Can scope creep be a good thing?  Whe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87C-1504-4BAA-9649-5810F5C7FD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46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oject Scope Management Process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itiation: beginning a project or continuing to the next pha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planning: developing documents to provide the basis for future project deci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definition: subdividing the major project deliverables into smaller, more manageable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verification: formalizing acceptance of the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change control: controlling changes to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E3B-576A-49EC-9CD1-97F58F42D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Project Initiation: Strategic Planning and Project Selection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first step in initiating projects is to look at the big picture or strategic plan of an organ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egic planning involves determining long-term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projects should support strategic and financial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81B-4BF7-40E2-A30F-F67A092A5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1. Why Firms Invest in Information Technolog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830592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83059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3B7-061D-4C9B-A38D-18DB83139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dentifying Potential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follow a planning process for selecting IT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develop an IT strategic plan based on the organization’s overall strategic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perform a business area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define potential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select IT projects and assign 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DC3-8671-4C3F-8AA1-3EC15E33F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1. Information Technology Planning Proces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BD9-4950-43CD-8204-0AC67553C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Methods for Selecting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are usually more projects than available time and resources to implement the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important to follow a logical process for selecting IT projects to work 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s include focusing on broad needs, categorizing projects, financial methods, and weighted scoring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882-5FFA-4A10-AE97-CCD8D831C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09-10T14:58:53Z</dcterms:modified>
  <cp:revision>225</cp:revision>
  <dc:subject/>
  <dc:title>No Slide Title</dc:title>
</cp:coreProperties>
</file>