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6676D-FEC2-4355-B737-D1BC696AA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0A251-C85B-4DA9-9F16-689A45BF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2"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726A-8E86-455A-823A-3D93B2110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7"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7A6E3-0D67-4D5B-8D50-4A5CEACAF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B67C4-74FB-42AF-829C-AC39B56D4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59"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1559F-231E-4EFC-B134-933B01EC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1"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35B43-361B-4C66-B796-69FDBC9C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3"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EB61-8F23-4D1B-A1E8-7154A65B5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621DD-C64C-43A2-9BCA-B7EA1405D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56907-2DC8-4883-B26B-D00AB444E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8"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7631-A898-459E-B8C5-0F3715F75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E00E-0AF3-4271-B33D-40ED19B5B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77396-33A0-4021-9656-1733E7016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6"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C73D4-70BA-4F22-BBA7-C8CFE4B13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0"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83B06-D430-475A-A8E5-263E541B7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3"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681B5-1D18-4B83-B843-07A150EF2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8"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7BDAC-29AC-469E-9094-D895FF6F2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5C7F-D448-4A5A-A83A-39C112B0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4C90-278E-4079-ADF9-7623B060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33B7-7E1B-4866-81A5-B583411B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38E3-C327-4D9C-9AF3-138E271BB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7"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2521-F304-4838-982D-EB2C2A2C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80C3-1F71-4F32-9FA8-82FCDDA2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0E25-FACF-4218-AD7F-711EED2D4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Facbanna" descr=""/>
          <p:cNvPicPr/>
          <p:nvPr/>
        </p:nvPicPr>
        <p:blipFill>
          <a:blip r:embed="rId2"/>
          <a:stretch/>
        </p:blipFill>
        <p:spPr>
          <a:xfrm>
            <a:off x="3240" y="-3240"/>
            <a:ext cx="803160" cy="6858000"/>
          </a:xfrm>
          <a:prstGeom prst="rect">
            <a:avLst/>
          </a:prstGeom>
          <a:ln w="0">
            <a:noFill/>
          </a:ln>
        </p:spPr>
      </p:pic>
      <p:sp>
        <p:nvSpPr>
          <p:cNvPr id="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3" name="PlaceHolder 2"/>
          <p:cNvSpPr>
            <a:spLocks noGrp="1"/>
          </p:cNvSpPr>
          <p:nvPr>
            <p:ph type="body"/>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dfc97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078E-554C-4C02-993D-777BC6CE8569}"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4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Facbanna" descr=""/>
          <p:cNvPicPr/>
          <p:nvPr/>
        </p:nvPicPr>
        <p:blipFill>
          <a:blip r:embed="rId2"/>
          <a:stretch/>
        </p:blipFill>
        <p:spPr>
          <a:xfrm>
            <a:off x="3240" y="-3240"/>
            <a:ext cx="803160" cy="6858000"/>
          </a:xfrm>
          <a:prstGeom prst="rect">
            <a:avLst/>
          </a:prstGeom>
          <a:ln w="0">
            <a:noFill/>
          </a:ln>
        </p:spPr>
      </p:pic>
      <p:sp>
        <p:nvSpPr>
          <p:cNvPr id="5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B14C-49BC-4366-93CD-3A574F42786E}"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Arial"/>
              </a:rPr>
              <a:t>Chapter 3:</a:t>
            </a:r>
            <a:br>
              <a:rPr sz="4800"/>
            </a:br>
            <a:r>
              <a:rPr b="0" lang="en-US" sz="4800" spc="-1" strike="noStrike">
                <a:solidFill>
                  <a:srgbClr val="993300"/>
                </a:solidFill>
                <a:latin typeface="Arial"/>
              </a:rPr>
              <a:t>Project Integration Management</a:t>
            </a:r>
            <a:endParaRPr b="0" lang="en-US" sz="4800" spc="-1" strike="noStrike">
              <a:solidFill>
                <a:srgbClr val="993300"/>
              </a:solidFill>
              <a:latin typeface="Arial"/>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0CDA446B-77B3-44E6-AADB-065C82355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ttributes of Project Plans</a:t>
            </a:r>
            <a:endParaRPr b="0" lang="en-US" sz="4400" spc="-1" strike="noStrike">
              <a:solidFill>
                <a:srgbClr val="993300"/>
              </a:solidFill>
              <a:latin typeface="Arial"/>
            </a:endParaRPr>
          </a:p>
        </p:txBody>
      </p:sp>
      <p:sp>
        <p:nvSpPr>
          <p:cNvPr id="11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projects are unique, so are project plan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dynamic</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flexib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updated as changes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first and foremost guide project exec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C23E094-496D-48E8-B087-681B9D866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mmon Elements of a Project Plan</a:t>
            </a:r>
            <a:endParaRPr b="0" lang="en-US" sz="4400" spc="-1" strike="noStrike">
              <a:solidFill>
                <a:srgbClr val="993300"/>
              </a:solidFill>
              <a:latin typeface="Arial"/>
            </a:endParaRPr>
          </a:p>
        </p:txBody>
      </p:sp>
      <p:sp>
        <p:nvSpPr>
          <p:cNvPr id="114"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r overview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how the project is organiz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technical processes used on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 schedule, and budget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1AC6D6A-D029-4E64-9190-D221DB1EC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1. Sample Outline for a Software Project Management Plan (SPMP)</a:t>
            </a:r>
            <a:endParaRPr b="0" lang="en-US" sz="3200" spc="-1" strike="noStrike">
              <a:solidFill>
                <a:srgbClr val="993300"/>
              </a:solidFill>
              <a:latin typeface="Arial"/>
            </a:endParaRPr>
          </a:p>
        </p:txBody>
      </p:sp>
      <p:graphicFrame>
        <p:nvGraphicFramePr>
          <p:cNvPr id="116" name=""/>
          <p:cNvGraphicFramePr/>
          <p:nvPr/>
        </p:nvGraphicFramePr>
        <p:xfrm>
          <a:off x="1066680" y="1371600"/>
          <a:ext cx="8382240" cy="5208480"/>
        </p:xfrm>
        <a:graphic>
          <a:graphicData uri="http://schemas.openxmlformats.org/presentationml/2006/ole">
            <p:oleObj progId="Word.Document.12" r:id="rId1" spid="">
              <p:embed/>
              <p:pic>
                <p:nvPicPr>
                  <p:cNvPr id="117" name="" descr=""/>
                  <p:cNvPicPr/>
                  <p:nvPr/>
                </p:nvPicPr>
                <p:blipFill>
                  <a:blip r:embed="rId2"/>
                  <a:stretch/>
                </p:blipFill>
                <p:spPr>
                  <a:xfrm>
                    <a:off x="1066680" y="1371600"/>
                    <a:ext cx="8382240" cy="520848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11911F18-1A62-4800-AC51-DDB77BDD3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akeholder Analysis</a:t>
            </a:r>
            <a:endParaRPr b="0" lang="en-US" sz="4400" spc="-1" strike="noStrike">
              <a:solidFill>
                <a:srgbClr val="993300"/>
              </a:solidFill>
              <a:latin typeface="Arial"/>
            </a:endParaRPr>
          </a:p>
        </p:txBody>
      </p:sp>
      <p:sp>
        <p:nvSpPr>
          <p:cNvPr id="119"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analysis documents important (often sensitive) information about stakeholders such a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names and organization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facts about stakeholder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fluence and interest i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managing relationshi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8454F0F-21EB-499D-8DB8-F64A5CC75D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2. Sample Stakeholder Analysis</a:t>
            </a:r>
            <a:endParaRPr b="0" lang="en-US" sz="3200" spc="-1" strike="noStrike">
              <a:solidFill>
                <a:srgbClr val="993300"/>
              </a:solidFill>
              <a:latin typeface="Arial"/>
            </a:endParaRPr>
          </a:p>
        </p:txBody>
      </p:sp>
      <p:graphicFrame>
        <p:nvGraphicFramePr>
          <p:cNvPr id="121" name=""/>
          <p:cNvGraphicFramePr/>
          <p:nvPr/>
        </p:nvGraphicFramePr>
        <p:xfrm>
          <a:off x="0" y="1371600"/>
          <a:ext cx="9144000" cy="3990960"/>
        </p:xfrm>
        <a:graphic>
          <a:graphicData uri="http://schemas.openxmlformats.org/presentationml/2006/ole">
            <p:oleObj progId="Excel.Sheet.12" r:id="rId1" spid="">
              <p:embed/>
              <p:pic>
                <p:nvPicPr>
                  <p:cNvPr id="122" name="" descr=""/>
                  <p:cNvPicPr/>
                  <p:nvPr/>
                </p:nvPicPr>
                <p:blipFill>
                  <a:blip r:embed="rId2"/>
                  <a:stretch/>
                </p:blipFill>
                <p:spPr>
                  <a:xfrm>
                    <a:off x="0" y="1371600"/>
                    <a:ext cx="9144000" cy="399096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69F5781-AD4D-4152-B822-D536CAF80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Execution</a:t>
            </a:r>
            <a:endParaRPr b="0" lang="en-US" sz="4400" spc="-1" strike="noStrike">
              <a:solidFill>
                <a:srgbClr val="993300"/>
              </a:solidFill>
              <a:latin typeface="Arial"/>
            </a:endParaRPr>
          </a:p>
        </p:txBody>
      </p:sp>
      <p:sp>
        <p:nvSpPr>
          <p:cNvPr id="124"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involves managing and performing the work described in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time and money is usually spent on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area or the project directly affects project execution because the products of the project are produced during exec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0BB90ED-6F54-4BB0-8735-D9D95420D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What Went Wrong?</a:t>
            </a:r>
            <a:endParaRPr b="0" lang="en-US" sz="4400" spc="-1" strike="noStrike">
              <a:solidFill>
                <a:srgbClr val="993300"/>
              </a:solidFill>
              <a:latin typeface="Arial"/>
            </a:endParaRPr>
          </a:p>
        </p:txBody>
      </p:sp>
      <p:sp>
        <p:nvSpPr>
          <p:cNvPr id="126" name="PlaceHolder 2"/>
          <p:cNvSpPr>
            <a:spLocks noGrp="1"/>
          </p:cNvSpPr>
          <p:nvPr>
            <p:ph/>
          </p:nvPr>
        </p:nvSpPr>
        <p:spPr>
          <a:xfrm>
            <a:off x="956880" y="762120"/>
            <a:ext cx="8186760" cy="4790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people have a poor view of plans based on past experiences.  Senior managers often require a plan, but then no one follows up on whether the plan was followed.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one project manager said he would meet with each project team leader within two months to review their plans.  The project manager created a detailed schedule for these reviews.  He cancelled the first meeting due to another business commitment.  He rescheduled the next meeting for unexplained personal reasons.  Two months later, the project manager had still not met with over half of the project team leaders.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project members feel obligated to follow their own plans when the project manager obviously did not follow 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697DA1B-550E-4448-94F5-8F9EC7742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mportant Skills for Project Execution</a:t>
            </a:r>
            <a:endParaRPr b="0" lang="en-US" sz="4400" spc="-1" strike="noStrike">
              <a:solidFill>
                <a:srgbClr val="993300"/>
              </a:solidFill>
              <a:latin typeface="Arial"/>
            </a:endParaRPr>
          </a:p>
        </p:txBody>
      </p:sp>
      <p:sp>
        <p:nvSpPr>
          <p:cNvPr id="128" name="PlaceHolder 2"/>
          <p:cNvSpPr>
            <a:spLocks noGrp="1"/>
          </p:cNvSpPr>
          <p:nvPr>
            <p:ph/>
          </p:nvPr>
        </p:nvSpPr>
        <p:spPr>
          <a:xfrm>
            <a:off x="956880" y="15998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anagement skills like leadership, communication, and political skill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skills and knowledge (see example of “What Went Righ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pecialized tools and techniq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A81ECA4-6031-4108-9D55-5D9FC4C1A9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Tools and Techniques for Project Execution</a:t>
            </a:r>
            <a:endParaRPr b="0" lang="en-US" sz="4400" spc="-1" strike="noStrike">
              <a:solidFill>
                <a:srgbClr val="993300"/>
              </a:solidFill>
              <a:latin typeface="Arial"/>
            </a:endParaRPr>
          </a:p>
        </p:txBody>
      </p:sp>
      <p:sp>
        <p:nvSpPr>
          <p:cNvPr id="130"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uthorization System: provides a method for ensuring that qualified people do work at the right time and in the proper sequenc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view Meetings: regularly scheduled meetings used to exchange project informa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Software: special software to assist in managing projec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AF21E65-A444-41A6-A0B0-45AB318DC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verall Change Control</a:t>
            </a:r>
            <a:endParaRPr b="0" lang="en-US" sz="4400" spc="-1" strike="noStrike">
              <a:solidFill>
                <a:srgbClr val="993300"/>
              </a:solidFill>
              <a:latin typeface="Arial"/>
            </a:endParaRPr>
          </a:p>
        </p:txBody>
      </p:sp>
      <p:sp>
        <p:nvSpPr>
          <p:cNvPr id="132"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involves identifying, evaluating, and managing changes throughout the project life cycl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objectives of change contro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the factors that create changes to ensure they are beneficia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at a change has occurred</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actual changes when and as they occu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B472D0F-C93C-4FC5-92FA-FCA332478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a:t>
            </a:r>
            <a:endParaRPr b="0" lang="en-US" sz="4400" spc="-1" strike="noStrike">
              <a:solidFill>
                <a:srgbClr val="993300"/>
              </a:solidFill>
              <a:latin typeface="Arial"/>
            </a:endParaRPr>
          </a:p>
        </p:txBody>
      </p:sp>
      <p:sp>
        <p:nvSpPr>
          <p:cNvPr id="96" name="PlaceHolder 2"/>
          <p:cNvSpPr>
            <a:spLocks noGrp="1"/>
          </p:cNvSpPr>
          <p:nvPr>
            <p:ph/>
          </p:nvPr>
        </p:nvSpPr>
        <p:spPr>
          <a:xfrm>
            <a:off x="609120" y="990360"/>
            <a:ext cx="8534520" cy="46479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Nick Carson was recently made project manager of a critical biotech project for his company in Silicon Valley.  This project involved creating the hardware and software for a DNA sequencing instrument used in assembling the human genome.  Each instrument sold for approximately $200,000, and various sites would purchase several instruments.  One hundred instruments running 24 hours per day could decipher the entire human genome in less than two years.  The biotech project was the company's largest project, and it had tremendous potential for future growth and revenues.  Unfortunately, there were problems managing this large project.  It had been underway for three years and had already gone through three different project managers. Nick had been the lead software developer on the project before senior management made him project manager.  Senior management told him to do whatever it took to deliver the first version of the software for the DNA sequencing instrument in four months and a production version in nine months. Their urgency in getting the project out was influenced by negotiations for a potential corporate buy-out with a larger compan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E12BE52-AD1E-42EE-ADAC-A85A38FA0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igure 3-2. Overall Change Control Process</a:t>
            </a:r>
            <a:endParaRPr b="0" lang="en-US" sz="4400" spc="-1" strike="noStrike">
              <a:solidFill>
                <a:srgbClr val="993300"/>
              </a:solidFill>
              <a:latin typeface="Arial"/>
            </a:endParaRPr>
          </a:p>
        </p:txBody>
      </p:sp>
      <p:pic>
        <p:nvPicPr>
          <p:cNvPr id="134" name="" descr=""/>
          <p:cNvPicPr/>
          <p:nvPr/>
        </p:nvPicPr>
        <p:blipFill>
          <a:blip r:embed="rId1"/>
          <a:stretch/>
        </p:blipFill>
        <p:spPr>
          <a:xfrm>
            <a:off x="914400" y="1371600"/>
            <a:ext cx="6629400" cy="489600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191E7B3-8CCB-445C-A601-F6ADCDA87A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Change Control on Information Technology Projects</a:t>
            </a:r>
            <a:endParaRPr b="0" lang="en-US" sz="4000" spc="-1" strike="noStrike">
              <a:solidFill>
                <a:srgbClr val="993300"/>
              </a:solidFill>
              <a:latin typeface="Arial"/>
            </a:endParaRPr>
          </a:p>
        </p:txBody>
      </p:sp>
      <p:sp>
        <p:nvSpPr>
          <p:cNvPr id="136"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view: The project team should strive to do exactly what was planned on time and within budget</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keholders rarely agreed up-front on the project scope, and time and cost estimates were inaccurate</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view: Project management is a process of constant communication and negotiation</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hanges are often beneficial, and the project team should plan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F087A78-75AB-4F67-9301-69D0A91EEE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System</a:t>
            </a:r>
            <a:endParaRPr b="0" lang="en-US" sz="4400" spc="-1" strike="noStrike">
              <a:solidFill>
                <a:srgbClr val="993300"/>
              </a:solidFill>
              <a:latin typeface="Arial"/>
            </a:endParaRPr>
          </a:p>
        </p:txBody>
      </p:sp>
      <p:sp>
        <p:nvSpPr>
          <p:cNvPr id="13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documented process that describes when and how official project documents and work may be chang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who is authorized to make changes and how to make them</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cludes a change control board (CCB), configuration management, and a process for communicating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B64865E-8B4F-46CC-9D4B-1E1D762874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Boards (CCBs)</a:t>
            </a:r>
            <a:endParaRPr b="0" lang="en-US" sz="4400" spc="-1" strike="noStrike">
              <a:solidFill>
                <a:srgbClr val="993300"/>
              </a:solidFill>
              <a:latin typeface="Arial"/>
            </a:endParaRPr>
          </a:p>
        </p:txBody>
      </p:sp>
      <p:sp>
        <p:nvSpPr>
          <p:cNvPr id="14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group of people responsible for approving or rejecting changes on a project</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uidelines for preparing change requests, evaluates them, and manages the implementation of approved change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takeholders from the entire organ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F1AD0A9-8966-4FE6-BAC2-3405360ED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Making Timely Changes</a:t>
            </a:r>
            <a:endParaRPr b="0" lang="en-US" sz="4400" spc="-1" strike="noStrike">
              <a:solidFill>
                <a:srgbClr val="993300"/>
              </a:solidFill>
              <a:latin typeface="Arial"/>
            </a:endParaRPr>
          </a:p>
        </p:txBody>
      </p:sp>
      <p:sp>
        <p:nvSpPr>
          <p:cNvPr id="14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CBs only meet occasionally, so it may take too long for changes to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policies in place for time-sensitive change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48 hour policy” allowed project team members to make decisions, then they had 48 hours reverse the decision pending senior management appro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09109E2-C73E-49EC-8D3C-7196B46C3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nfiguration Management</a:t>
            </a:r>
            <a:endParaRPr b="0" lang="en-US" sz="4400" spc="-1" strike="noStrike">
              <a:solidFill>
                <a:srgbClr val="993300"/>
              </a:solidFill>
              <a:latin typeface="Arial"/>
            </a:endParaRPr>
          </a:p>
        </p:txBody>
      </p:sp>
      <p:sp>
        <p:nvSpPr>
          <p:cNvPr id="144"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at the products and their descriptions are correct and complete</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s on the management of technology by identifying and controlling the functional and physical design characteristics of products </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specialists identify and document configuration requirements, control changes, record and report changes, and audit the products to verify conformance to require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E074E37-C50B-4D49-85C6-76500B86A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3. Suggestions for Managing Overall Change Control</a:t>
            </a:r>
            <a:endParaRPr b="0" lang="en-US" sz="3600" spc="-1" strike="noStrike">
              <a:solidFill>
                <a:srgbClr val="993300"/>
              </a:solidFill>
              <a:latin typeface="Arial"/>
            </a:endParaRPr>
          </a:p>
        </p:txBody>
      </p:sp>
      <p:sp>
        <p:nvSpPr>
          <p:cNvPr id="146" name="PlaceHolder 2"/>
          <p:cNvSpPr>
            <a:spLocks noGrp="1"/>
          </p:cNvSpPr>
          <p:nvPr>
            <p:ph/>
          </p:nvPr>
        </p:nvSpPr>
        <p:spPr>
          <a:xfrm>
            <a:off x="228240" y="1294920"/>
            <a:ext cx="8186760" cy="479124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project management as a process of constant communications and negotiation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formal change control system, including a Change Control Board (CCB)</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configuration management</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for making timely decisions on smaller change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ritten and oral performance reports to help identify and manage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ject management and other software to help manage and communicate chan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A6990C1-8C98-4B4F-8863-8B4709EBD1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Top Management Commitment</a:t>
            </a:r>
            <a:endParaRPr b="0" lang="en-US" sz="4400" spc="-1" strike="noStrike">
              <a:solidFill>
                <a:srgbClr val="993300"/>
              </a:solidFill>
              <a:latin typeface="Arial"/>
            </a:endParaRPr>
          </a:p>
        </p:txBody>
      </p:sp>
      <p:sp>
        <p:nvSpPr>
          <p:cNvPr id="14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cite top management commitment as one of the key factors associated with project succes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can help project managers secure adequate resources, get approval for unique project needs in a timely manner, receive cooperation from people throughout the organization, and learn how to be better lead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E9FC2E2-9D6C-4560-A375-845DB93E9C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4. What Helps Projects Succeed?</a:t>
            </a:r>
            <a:endParaRPr b="0" lang="en-US" sz="3600" spc="-1" strike="noStrike">
              <a:solidFill>
                <a:srgbClr val="993300"/>
              </a:solidFill>
              <a:latin typeface="Arial"/>
            </a:endParaRPr>
          </a:p>
        </p:txBody>
      </p:sp>
      <p:sp>
        <p:nvSpPr>
          <p:cNvPr id="150" name="PlaceHolder 2"/>
          <p:cNvSpPr>
            <a:spLocks noGrp="1"/>
          </p:cNvSpPr>
          <p:nvPr>
            <p:ph/>
          </p:nvPr>
        </p:nvSpPr>
        <p:spPr>
          <a:xfrm>
            <a:off x="1066680" y="1447560"/>
            <a:ext cx="38131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7 Pinto and Slevi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project missio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oject schedule/pla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client consultation</a:t>
            </a:r>
            <a:endParaRPr b="0" lang="en-US" sz="2800" spc="-1" strike="noStrike">
              <a:solidFill>
                <a:srgbClr val="000000"/>
              </a:solidFill>
              <a:latin typeface="Arial"/>
            </a:endParaRPr>
          </a:p>
        </p:txBody>
      </p:sp>
      <p:sp>
        <p:nvSpPr>
          <p:cNvPr id="151" name="PlaceHolder 3"/>
          <p:cNvSpPr>
            <a:spLocks noGrp="1"/>
          </p:cNvSpPr>
          <p:nvPr>
            <p:ph/>
          </p:nvPr>
        </p:nvSpPr>
        <p:spPr>
          <a:xfrm>
            <a:off x="4755960" y="1447560"/>
            <a:ext cx="40827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Standish Group</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volvemen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ve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statement of requirements</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 plan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0CFA079D-D596-4597-BFA0-1FE4CA83F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Need for Organizational Commitment to Information Technology (IT)</a:t>
            </a:r>
            <a:endParaRPr b="0" lang="en-US" sz="3600" spc="-1" strike="noStrike">
              <a:solidFill>
                <a:srgbClr val="993300"/>
              </a:solidFill>
              <a:latin typeface="Arial"/>
            </a:endParaRPr>
          </a:p>
        </p:txBody>
      </p:sp>
      <p:sp>
        <p:nvSpPr>
          <p:cNvPr id="15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rganization has a negative attitude toward IT, it will be difficult for an IT project to succe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hief Information Officer (CIO) at a high level in the organization helps IT projec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non-IT people to IT projects also encourage more commit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1C76451-3EE1-42BA-8065-51FE672B06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 (cont’d)</a:t>
            </a:r>
            <a:endParaRPr b="0" lang="en-US" sz="4400" spc="-1" strike="noStrike">
              <a:solidFill>
                <a:srgbClr val="993300"/>
              </a:solidFill>
              <a:latin typeface="Arial"/>
            </a:endParaRPr>
          </a:p>
        </p:txBody>
      </p:sp>
      <p:sp>
        <p:nvSpPr>
          <p:cNvPr id="98" name=""/>
          <p:cNvSpPr/>
          <p:nvPr/>
        </p:nvSpPr>
        <p:spPr>
          <a:xfrm>
            <a:off x="838080" y="914400"/>
            <a:ext cx="807732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k was highly energetic and intelligent and had the technical background to make the project a success.  He delved into the technical problems and found some critical flaws that were key in getting the DNA sequencing instrument to work.  He was having difficulty, however, in his new role as project manager.  Although Nick and his team got the product out on time, senior management was upset because Nick did not focus on managing.  He never provided management with accurate schedules or detailed task lists of what was happening on the project.  Instead of performing the work of project manager, Nick had taken on the role of software integrator and troubleshooter.  Nick, however, did not understand senior management’s problem—he delivered the product, didn’t he?  Didn't they realize how valuable he w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AEC2150-8EB0-4855-BCAC-4515CD698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Organizational Standards</a:t>
            </a:r>
            <a:endParaRPr b="0" lang="en-US" sz="4400" spc="-1" strike="noStrike">
              <a:solidFill>
                <a:srgbClr val="993300"/>
              </a:solidFill>
              <a:latin typeface="Arial"/>
            </a:endParaRPr>
          </a:p>
        </p:txBody>
      </p:sp>
      <p:sp>
        <p:nvSpPr>
          <p:cNvPr id="155"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nd guidelines help project managers be more effectiv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ment can encourage</a:t>
            </a:r>
            <a:endParaRPr b="0" lang="en-US" sz="32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standard forms and software for project management</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and use of guidelines for writing project plans or providing status information</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a project management office or center of excelle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F269D03-83C5-44E0-A67A-D99D63B057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57"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crucial elements of successful project plan execution?  Describe a well-executed project you are familiar with.  Describe a disaster.  What were some of the main differences between these projects?</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importance of top management commitment and the development of standards for successful project management.  Give examples of projects that failed due to a lack of top management commitment and a lack of organizational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65653FF-A697-4DDD-BD8F-0CABA32B2B5F}"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0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as the real problem in this cas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ick a good project manager?  Why or why no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Nick have done to be a better project manage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enior management have done to help Ni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CD2578C-D210-4F35-AB79-2D757ABEC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he Key to Overall Project Success: Good Project Integration Management</a:t>
            </a:r>
            <a:endParaRPr b="0" lang="en-US" sz="3600" spc="-1" strike="noStrike">
              <a:solidFill>
                <a:srgbClr val="993300"/>
              </a:solidFill>
              <a:latin typeface="Arial"/>
            </a:endParaRPr>
          </a:p>
        </p:txBody>
      </p:sp>
      <p:sp>
        <p:nvSpPr>
          <p:cNvPr id="102"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coordinate all of the other knowledge areas throughout a project’s life cyc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project managers have trouble looking at the “big picture” and want to focus on too many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07A7AFA-706E-4194-9706-406345285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Integration Management Processes</a:t>
            </a:r>
            <a:endParaRPr b="0" lang="en-US" sz="4400" spc="-1" strike="noStrike">
              <a:solidFill>
                <a:srgbClr val="993300"/>
              </a:solidFill>
              <a:latin typeface="Arial"/>
            </a:endParaRPr>
          </a:p>
        </p:txBody>
      </p:sp>
      <p:sp>
        <p:nvSpPr>
          <p:cNvPr id="104" name="PlaceHolder 2"/>
          <p:cNvSpPr>
            <a:spLocks noGrp="1"/>
          </p:cNvSpPr>
          <p:nvPr>
            <p:ph/>
          </p:nvPr>
        </p:nvSpPr>
        <p:spPr>
          <a:xfrm>
            <a:off x="956880" y="13712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Development: taking the results of other planning processes and putting them into a consistent, coherent document—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carrying out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coordinating changes across the entire proj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BC24E61-5CA1-4868-8504-77DCEF235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Figure 3-1. Framework for Project Integration Management</a:t>
            </a:r>
            <a:endParaRPr b="0" lang="en-US" sz="4000" spc="-1" strike="noStrike">
              <a:solidFill>
                <a:srgbClr val="993300"/>
              </a:solidFill>
              <a:latin typeface="Arial"/>
            </a:endParaRPr>
          </a:p>
        </p:txBody>
      </p:sp>
      <p:pic>
        <p:nvPicPr>
          <p:cNvPr id="106" name="" descr=""/>
          <p:cNvPicPr/>
          <p:nvPr/>
        </p:nvPicPr>
        <p:blipFill>
          <a:blip r:embed="rId1"/>
          <a:stretch/>
        </p:blipFill>
        <p:spPr>
          <a:xfrm>
            <a:off x="990720" y="1371600"/>
            <a:ext cx="7696080" cy="46594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9A094D6-43A3-4222-82C9-C957F6B23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nterface Management</a:t>
            </a:r>
            <a:endParaRPr b="0" lang="en-US" sz="4400" spc="-1" strike="noStrike">
              <a:solidFill>
                <a:srgbClr val="993300"/>
              </a:solidFill>
              <a:latin typeface="Arial"/>
            </a:endParaRPr>
          </a:p>
        </p:txBody>
      </p:sp>
      <p:sp>
        <p:nvSpPr>
          <p:cNvPr id="108"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management involves identifying and managing the points of interaction between various elements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establish and maintain good communication and relationships across organizational interfa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40CE7AD-0576-475B-9001-B642BE2C77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Development</a:t>
            </a:r>
            <a:endParaRPr b="0" lang="en-US" sz="4400" spc="-1" strike="noStrike">
              <a:solidFill>
                <a:srgbClr val="993300"/>
              </a:solidFill>
              <a:latin typeface="Arial"/>
            </a:endParaRPr>
          </a:p>
        </p:txBody>
      </p:sp>
      <p:sp>
        <p:nvSpPr>
          <p:cNvPr id="110"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plan is a document used to coordinate all project planning documen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main purpose is to </a:t>
            </a:r>
            <a:r>
              <a:rPr b="0" i="1" lang="en-US" sz="3200" spc="-1" strike="noStrike">
                <a:solidFill>
                  <a:srgbClr val="000000"/>
                </a:solidFill>
                <a:latin typeface="Arial"/>
              </a:rPr>
              <a:t>guide project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s assist the project manager in leading the project team and assessing project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BABEE6B-B76C-4070-9C4B-7CD53AF858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0T14:39:50Z</dcterms:modified>
  <cp:revision>184</cp:revision>
  <dc:subject/>
  <dc:title>No Slide Title</dc:title>
</cp:coreProperties>
</file>