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D09B-9978-4978-B37C-4C8F88C0A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3BDD-E0B6-49A3-A6C6-27BB173CB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97A5-07E1-4913-89A7-815E04FD5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E3A1-ABA2-468E-A16C-92D70A419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3C3B0-9C90-4FE8-B3E9-3C22EBBA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7DE79-9346-4EE8-B3B2-2EE5F91C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D57B9-4CDA-45A9-8B33-50EB0061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AA916-827A-4F37-B655-3E73356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5EDD1-F9C1-4158-BF97-9A8AE532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83942-9D9D-4F71-812A-005F3C6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9E9C9-11AC-4C53-BDA5-4A61BBD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513B-F9FC-471C-8844-7973B759F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1E15E-5448-4283-90C9-A8C0E63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21381-1A28-4B1A-9A50-16CB5BB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09953-2E6A-44A0-A954-C559031D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2D2F1-3CB9-4CF7-B77D-9FF5840F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A8E41-7BB2-4099-A257-D9DD5FDE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C40B-A5BF-486F-9167-4BA5C3C75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5E4D-8AE9-4A17-BA6E-5DB9196C4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BC03-7107-4DA5-8FBA-2431157E6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1374-497B-4FE6-9CE0-EA59A7997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1ECA-29B2-455C-95B9-0A6F000F4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1D7C-D1F1-454C-96CD-DA8AC819C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7FBA-2602-423F-BF2F-37EA2A61F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FB8E-7427-492F-B76F-0842BB93E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61B6-85FB-4743-8A35-AE850624E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mi.org/certification/code.htm" TargetMode="External"/><Relationship Id="rId2" Type="http://schemas.openxmlformats.org/officeDocument/2006/relationships/hyperlink" Target="http://www.pmi.org/certification/code.htm" TargetMode="External"/><Relationship Id="rId3" Type="http://schemas.openxmlformats.org/officeDocument/2006/relationships/hyperlink" Target="http://www.pmi.org/certification/code.htm" TargetMode="External"/><Relationship Id="rId4" Type="http://schemas.openxmlformats.org/officeDocument/2006/relationships/hyperlink" Target="http://www.pmi.org/certification/code.htm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 to Project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93B4E-4605-4BE1-AAF8-DE0EFFABC2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2. Project Management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5909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229600" cy="3895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07120" y="236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8FD7-DB61-4C51-9A3F-A271EAE65E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akehold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are the people involved in or affected by project activit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project sponsor and project te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ort staf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ustom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ponents to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12444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11DA-0AFA-4CB4-8D4D-F33C636E8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 Project Management Knowledge Area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Knowledge areas describe the key competencies that project managers must develo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core knowledge areas lead to specific project objectives (scope, time, cost, and qualit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facilitating knowledge areas are the means through which the project objectives are achieved (human resources, communication, risk, and procurement management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1 knowledge area (project integration management) affects and is affected by all of the other knowledge area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47BE-46CD-4176-A2B8-2F588EE6F9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Tools and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tools and techniques assist project managers and their teams in various aspects of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specific on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Charter and WBS (scop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antt charts, PERT charts, critical path analysis (tim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estimates and Earned Value Analysis (cost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80AF-172D-44AC-BF17-6A45898ABB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 WBS for Intranet Project in Chart For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1924200"/>
          <a:ext cx="886932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24200"/>
                    <a:ext cx="886932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148F-9E13-4287-A46E-FA0CD8E26B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1-4. Sample Gantt Chart*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82080" y="601992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43760" y="574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0280" y="5745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949B-1709-4073-A430-B421A1915D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5. Sample PERT Chart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7960" y="4648320"/>
            <a:ext cx="7769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Each box is a project task from the WBS.  Arrows show dependenci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between tasks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tasks on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ritical path take longer than planned, the whole project will slip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00"/>
                </a:solidFill>
                <a:uFillTx/>
                <a:latin typeface="Times New Roman"/>
              </a:rPr>
              <a:t>unless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something is don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6476760" cy="39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9BD1-96F7-4B56-A6D7-B2A59A950C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1224000"/>
          <a:ext cx="8686800" cy="50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4000"/>
                    <a:ext cx="86868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066680" y="152280"/>
            <a:ext cx="8077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Sample Earned Value Char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A235-4E8A-4DBA-A38D-8769B1207C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vantages of Project Management*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osses, customers, and other stakeholders do not like surpris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ment (PM) provides assurance and reduces risk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the tools and environment to plan, monitor, track, and manage schedules, resources, costs, and quality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a history or metrics base for future planning as well as good document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embers learn and grow by working in a cross-functional team environ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Source:  Knutson, Joan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M Net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December 1997, p. 13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2EE1-EE1F-4331-965A-131C2D8A15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oject Management (PM) Relates to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ch of the knowledge needed to manage projects is unique to P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ever, project managers must also have knowledge and experience 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neral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application area of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rs must focus on meeting specific project objectiv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EE27-FCAC-4D8D-A409-B7CBE47BA0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56880" y="1523880"/>
            <a:ext cx="818676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jects have a terrible track reco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1995 Standish Group study found that only 16.2% of IT projects were successfu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ver 31% of IT projects were canceled before completion, costing over $81 B in the U.S. alon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9 ComputerWorld article listed project manager as the #1 position IT managers say they need most for contract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IT projects keeps increa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anies in general are emphasizing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tivation for Studying Information Technology (IT) Project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6BBC-8BEC-4CAB-97A4-1EAC96D730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3. Project Management and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87640" y="1467000"/>
            <a:ext cx="5532480" cy="43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92AC-C6DD-4987-8B4F-D7D36ABF12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 of Project Management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8818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dern project management began with the Manhattan Project, which the U.S. military led to develop the atomic bom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17 Henry Gantt developed the Gantt chart as a tool for scheduling work in job shop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58, the Navy developed PERT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the 1970s, the military began using project management software, as did the construction indus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y the 1990s, virtually every industry was using some form of project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August 1999 PM Network has good articles on history of 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025E-498D-4A8A-A51B-CE368EB050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ject Management Prof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6 Fortune article called project management the “number one career choic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authors like Tom Peters and Thomas Stewart stress that projects are what add value to organiz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fessional societies like the Project Management Institute have grown tremendous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55F7-C14C-4A41-89A8-4605089CE2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Certif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I provides certification as a Project Management Professional (PMP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PMP has documented sufficient project experience, agreed to follow a code of ethics, and passed the PMP ex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umber of people earning PMP certification is increasing quick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groups, like the Gartner Group and the Singapore Computer Society, have their own IT PM Certification pr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C11D-D20D-463D-8826-6866E15B88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6. Growth in PMP Certification, 1993-19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440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208640" y="838080"/>
            <a:ext cx="19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ver 12,500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y May 1999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4955-0F8A-4390-BF14-3D819F5569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de of Ethic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MI developed a project management code of ethics that all PMPs must agree to abide b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ducting work in an ethical manner helps the profession earn confide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thics are on the web at 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pmi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org/certification/code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DCD8-79EE-4AD9-81A9-8D0D9771A5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ive three examples of activities that are projects and three examples of activities that are no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 is project management different from general manage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o you think so many projects are unsuccessfu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a high failure rate unique to certain types of projects, like IT projects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F98F-AE8C-486B-9198-51E2CA453C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rojec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is a temporary endeavor undertaken to accomplish a unique purpo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ttributes of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ique purpo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mpora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quire resources, often from various are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hould have a primary sponsor and/or custom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volve uncertain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99DE-5BF9-4056-810E-AA7398BBEE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s of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rthwest Airlines developed a new reservation system called ResNet (see chapters 11-1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nk of America created a system to integrate check processing, checking accounts, and savings accounts in various states (p. 130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Kodak created the Advantix Advanced Photo System in one of their most ambitious projects ever (p. 302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F6C4-F5E1-4F46-AC8D-A0D134C293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s I’ve Worked 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this book!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a web-based CBT cour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academic progr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urchasing a risk management system for an oil compan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internal consulting grou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ing a beta test for new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ational Aerospace Plan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High Reliability Fighter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Local Online Network System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tc., etc., 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9BB2-EFDE-40A5-B44A-ADD73E88B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is constrained in different ways by i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cop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im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is the project manager’s duty to balance these three often competing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CE1A-ACF8-4E11-AF87-DE633E480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1. The Triple Constraint of Project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62720" cy="49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3B57-1E8C-470E-A31A-AEA7C0D4DA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on 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ir up and instructor assign ro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layer” describe in your own words what the triple constraint really means, then give an example of it on a real project you’re familiar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ach” listen and ask questions, then be ready to share what your partner sai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s the project “successful?”  Why or why no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1253-CC41-4E6C-8444-4A5C9E4EBC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Management?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56360" cy="31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roject Management Body of Knowledge (PMBOK Guide), 1996, p. 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25780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*The Project Management Institute (PMI) is an international professional society.  Their web site is www.pmi.org.  Over 315,000 copies of the PMBOK Guide were in circulation by June 1999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A04D-4F5D-4177-B747-6EF8379A75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3-08T14:43:06Z</cp:lastPrinted>
  <dcterms:modified xsi:type="dcterms:W3CDTF">1999-09-05T19:56:26Z</dcterms:modified>
  <cp:revision>1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augsburg.edu/ppages/schwalbe</vt:lpwstr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U of M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