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5252-0FB6-453B-A547-A96846BA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 and dependency – for 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0A1-B047-4C49-8036-79737155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6CE-E1F9-4518-848C-1887466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2BC-769D-4087-9A8E-1F9733B0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9BD-4F0B-41F0-B41A-8A254594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BF6-FEAF-4391-82B9-187F91F6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A42-858C-4EB8-B225-831D9E44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6154-55A4-44CB-9A25-6FD4556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A35-7436-408C-AA9F-94E39CA9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324-4E65-4A48-BBC7-6D98ED58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4CA-4772-43CC-9B41-448D7382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308-4E8A-42E4-95DC-49C019B5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BD4-B8A0-4CA6-B72A-87E61A2A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8A2-CE5C-4E9B-8B6A-D5783654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ei.cmu.edu/pub/documents/00.reports/pdf/00tr023.pdf" TargetMode="External"/><Relationship Id="rId2" Type="http://schemas.openxmlformats.org/officeDocument/2006/relationships/hyperlink" Target="http://www.sei.cmu.edu/pub/documents/00.reports/pdf/00tr023.pdf" TargetMode="External"/><Relationship Id="rId3" Type="http://schemas.openxmlformats.org/officeDocument/2006/relationships/hyperlink" Target="http://www.sei.cmu.edu/pub/documents/00.reports/pdf/00tr023.pdf" TargetMode="External"/><Relationship Id="rId4" Type="http://schemas.openxmlformats.org/officeDocument/2006/relationships/hyperlink" Target="http://www.sei.cmu.edu/pub/documents/00.reports/pdf/00tr023.pdf" TargetMode="External"/><Relationship Id="rId5" Type="http://schemas.openxmlformats.org/officeDocument/2006/relationships/hyperlink" Target="http://www.sei.cmu.edu/pub/documents/00.reports/pdf/00tr023.pdf" TargetMode="External"/><Relationship Id="rId6" Type="http://schemas.openxmlformats.org/officeDocument/2006/relationships/hyperlink" Target="http://www.sei.cmu.edu/pub/documents/00.reports/pdf/00tr023.pdf" TargetMode="External"/><Relationship Id="rId7" Type="http://schemas.openxmlformats.org/officeDocument/2006/relationships/hyperlink" Target="http://www.sei.cmu.edu/pub/documents/00.reports/pdf/00tr023.pdf" TargetMode="External"/><Relationship Id="rId8" Type="http://schemas.openxmlformats.org/officeDocument/2006/relationships/hyperlink" Target="http://www.sei.cmu.edu/pub/documents/00.reports/pdf/00tr023.pdf" TargetMode="External"/><Relationship Id="rId9" Type="http://schemas.openxmlformats.org/officeDocument/2006/relationships/hyperlink" Target="http://www.sei.cmu.edu/pub/documents/00.reports/pdf/00tr023.pdf" TargetMode="External"/><Relationship Id="rId10" Type="http://schemas.openxmlformats.org/officeDocument/2006/relationships/hyperlink" Target="http://www.sei.cmu.edu/pub/documents/00.reports/pdf/00tr023.pdf" TargetMode="External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am Software Process (TS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by Watts S. Humph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i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mu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pub/documents/00.reports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df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00tr023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by Keith E. Mass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aining th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 progress using earned value points (based on estimated percent of proj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team members see where they are and helps management to see what need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ddress priorities or 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balancing Team Work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eam members will have too much to do, some will have too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st efficient for each team member to be fully occup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may have to rebalance the workload as often as once a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quality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goals for number of defects for each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k performance vs. quality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quality problems using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a PDF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981080"/>
          <a:ext cx="58676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586764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es the TSP fit in with other processes (e.g. RUP, Waterfall, or Casetek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are the boundaries between PSP-TSP and TSP-CM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the quality and productivity of engineering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teams meet cost and schedule commi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step-by-step scripts for doing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s team-building and team-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SP fits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600200" y="1905120"/>
          <a:ext cx="5791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7913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s for Team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am consists of at least two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are working toward a common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erson has a specific assigned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ion of the mission requires some form of dependency among the group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ing a TSP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 or re-launch at every it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day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steps plus a launch post-mor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product and business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roles and define team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development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ing a TSP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top-down and next-phase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he quality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bottom-up and balanced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 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management briefing and launch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managemen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the launch postmor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m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ing th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ing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alancing team work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ading the 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ies performed by the team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es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s custom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with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s work, protects team resources, resolves team issues, conducts team meeting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s the team’s motivation and energy and ensures that it is fullly effective in doing it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ing team members and management in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 reviews for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 reports to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8:55:35Z</dcterms:created>
  <dc:creator>Keith E. Massey</dc:creator>
  <dc:description/>
  <dc:language>en-US</dc:language>
  <cp:lastModifiedBy>Mike Tarrani</cp:lastModifiedBy>
  <dcterms:modified xsi:type="dcterms:W3CDTF">2001-08-25T02:49:03Z</dcterms:modified>
  <cp:revision>2</cp:revision>
  <dc:subject/>
  <dc:title>The Team Software Process (TSP)</dc:title>
</cp:coreProperties>
</file>