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960" y="828360"/>
            <a:ext cx="898560" cy="369036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5400" y="1752480"/>
            <a:ext cx="7115040" cy="1965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95400" y="3905280"/>
            <a:ext cx="7115040" cy="1965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960" y="828360"/>
            <a:ext cx="898560" cy="369036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5400" y="1752480"/>
            <a:ext cx="3471840" cy="1965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41120" y="1752480"/>
            <a:ext cx="3471840" cy="1965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95400" y="3905280"/>
            <a:ext cx="3471840" cy="1965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41120" y="3905280"/>
            <a:ext cx="3471840" cy="1965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25960" y="828360"/>
            <a:ext cx="898560" cy="369036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5400" y="1752480"/>
            <a:ext cx="2290680" cy="1965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00920" y="1752480"/>
            <a:ext cx="2290680" cy="1965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06440" y="1752480"/>
            <a:ext cx="2290680" cy="1965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95400" y="3905280"/>
            <a:ext cx="2290680" cy="1965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00920" y="3905280"/>
            <a:ext cx="2290680" cy="1965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06440" y="3905280"/>
            <a:ext cx="2290680" cy="1965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960" y="828360"/>
            <a:ext cx="898560" cy="369036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95400" y="1752480"/>
            <a:ext cx="711504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960" y="828360"/>
            <a:ext cx="898560" cy="369036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5400" y="1752480"/>
            <a:ext cx="711504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960" y="828360"/>
            <a:ext cx="898560" cy="369036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5400" y="1752480"/>
            <a:ext cx="347184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1120" y="1752480"/>
            <a:ext cx="347184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960" y="828360"/>
            <a:ext cx="898560" cy="369036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125960" y="2523960"/>
            <a:ext cx="8985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5960" y="828360"/>
            <a:ext cx="898560" cy="369036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5400" y="1752480"/>
            <a:ext cx="3471840" cy="1965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1120" y="1752480"/>
            <a:ext cx="347184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5400" y="3905280"/>
            <a:ext cx="3471840" cy="1965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5960" y="828360"/>
            <a:ext cx="898560" cy="369036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5400" y="1752480"/>
            <a:ext cx="347184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1120" y="1752480"/>
            <a:ext cx="3471840" cy="1965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41120" y="3905280"/>
            <a:ext cx="3471840" cy="1965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960" y="828360"/>
            <a:ext cx="898560" cy="3690360"/>
          </a:xfrm>
          <a:prstGeom prst="rect">
            <a:avLst/>
          </a:prstGeom>
          <a:noFill/>
          <a:ln w="0">
            <a:noFill/>
          </a:ln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5400" y="1752480"/>
            <a:ext cx="3471840" cy="1965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1120" y="1752480"/>
            <a:ext cx="3471840" cy="1965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5400" y="3905280"/>
            <a:ext cx="7115040" cy="1965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8305920" cy="6095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aa2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342120" y="6183360"/>
            <a:ext cx="2066760" cy="32076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02600" y="6296040"/>
            <a:ext cx="30240" cy="54000"/>
          </a:xfrm>
          <a:custGeom>
            <a:avLst/>
            <a:gdLst/>
            <a:ahLst/>
            <a:rect l="l" t="t" r="r" b="b"/>
            <a:pathLst>
              <a:path w="19" h="34">
                <a:moveTo>
                  <a:pt x="19" y="34"/>
                </a:moveTo>
                <a:lnTo>
                  <a:pt x="0" y="34"/>
                </a:lnTo>
                <a:lnTo>
                  <a:pt x="10" y="0"/>
                </a:lnTo>
                <a:lnTo>
                  <a:pt x="11" y="2"/>
                </a:lnTo>
                <a:lnTo>
                  <a:pt x="19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5960" y="828360"/>
            <a:ext cx="898560" cy="36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95400" y="1752480"/>
            <a:ext cx="711504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0636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Wingdings" charset="2"/>
              <a:buChar char="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735200" indent="-30636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Helvetica"/>
              <a:buChar char="o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30636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Helvetica"/>
              <a:buChar char="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306360">
              <a:lnSpc>
                <a:spcPct val="90000"/>
              </a:lnSpc>
              <a:spcBef>
                <a:spcPts val="938"/>
              </a:spcBef>
              <a:buClr>
                <a:srgbClr val="000000"/>
              </a:buClr>
              <a:buFont typeface="Helvetica"/>
              <a:buChar char="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306360">
              <a:lnSpc>
                <a:spcPct val="90000"/>
              </a:lnSpc>
              <a:spcBef>
                <a:spcPts val="938"/>
              </a:spcBef>
              <a:buClr>
                <a:srgbClr val="000000"/>
              </a:buClr>
              <a:buFont typeface="Helvetica"/>
              <a:buChar char="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70520" y="6551640"/>
            <a:ext cx="8316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aa2b4a"/>
                </a:solidFill>
                <a:latin typeface="Arial"/>
              </a:rPr>
              <a:t>p. </a:t>
            </a:r>
            <a:fld id="{5DBF3E38-F346-4C8A-940A-10277EBC5A70}" type="slidenum">
              <a:rPr b="0" lang="en-US" sz="900" spc="-1" strike="noStrike">
                <a:solidFill>
                  <a:srgbClr val="aa2b4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1360" y="6586560"/>
            <a:ext cx="67752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900" spc="-1" strike="noStrike">
                <a:solidFill>
                  <a:srgbClr val="aa2b4a"/>
                </a:solidFill>
                <a:latin typeface="Arial"/>
              </a:rPr>
              <a:t>2000-06-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0"/>
            <a:ext cx="1143000" cy="990720"/>
            <a:chOff x="0" y="0"/>
            <a:chExt cx="1143000" cy="990720"/>
          </a:xfrm>
        </p:grpSpPr>
        <p:sp>
          <p:nvSpPr>
            <p:cNvPr id="8" name=""/>
            <p:cNvSpPr/>
            <p:nvPr/>
          </p:nvSpPr>
          <p:spPr>
            <a:xfrm>
              <a:off x="0" y="0"/>
              <a:ext cx="114300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" name="ua" descr=""/>
            <p:cNvPicPr/>
            <p:nvPr/>
          </p:nvPicPr>
          <p:blipFill>
            <a:blip r:embed="rId2"/>
            <a:stretch/>
          </p:blipFill>
          <p:spPr>
            <a:xfrm>
              <a:off x="228600" y="195120"/>
              <a:ext cx="914400" cy="7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" name=""/>
          <p:cNvGrpSpPr/>
          <p:nvPr/>
        </p:nvGrpSpPr>
        <p:grpSpPr>
          <a:xfrm>
            <a:off x="7238880" y="6172200"/>
            <a:ext cx="1603440" cy="555480"/>
            <a:chOff x="7238880" y="6172200"/>
            <a:chExt cx="1603440" cy="555480"/>
          </a:xfrm>
        </p:grpSpPr>
        <p:sp>
          <p:nvSpPr>
            <p:cNvPr id="11" name=""/>
            <p:cNvSpPr/>
            <p:nvPr/>
          </p:nvSpPr>
          <p:spPr>
            <a:xfrm>
              <a:off x="7238880" y="6172200"/>
              <a:ext cx="1600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" name="ua%20logo" descr=""/>
            <p:cNvPicPr/>
            <p:nvPr/>
          </p:nvPicPr>
          <p:blipFill>
            <a:blip r:embed="rId3"/>
            <a:stretch/>
          </p:blipFill>
          <p:spPr>
            <a:xfrm>
              <a:off x="7238880" y="6248520"/>
              <a:ext cx="1603440" cy="479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28720" y="2285640"/>
            <a:ext cx="3889080" cy="6541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900" spc="-1" strike="noStrike">
                <a:solidFill>
                  <a:srgbClr val="aa2b4a"/>
                </a:solidFill>
                <a:latin typeface="Arial"/>
              </a:rPr>
              <a:t>Cost Estimation</a:t>
            </a:r>
            <a:endParaRPr b="1" lang="en-US" sz="39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Autofit/>
          </a:bodyPr>
          <a:p>
            <a:pPr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Basic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85880" y="828360"/>
            <a:ext cx="2190600" cy="5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COCOMO II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5400" y="1752120"/>
            <a:ext cx="7115040" cy="44197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420840" indent="-42084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arry Boehm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Software cost estimation with COCOMO I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Prentice-Hall: New Jersey, 2000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wo underlying model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34920" indent="-39996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Helvetica"/>
              <a:buAutoNum type="arabicPeriod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ramework for describing software projec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407960" indent="-39996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Wingdings" charset="2"/>
              <a:buChar char="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ffort ~ (Environment) x (Size)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Proces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407960" indent="-39996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Wingdings" charset="2"/>
              <a:buChar char="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chedule ~ (Effort) 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Proces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407960" indent="-39996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Wingdings" charset="2"/>
              <a:buChar char="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ddresses process models, culture, stakeholders, methods, tools, teams and the size/complexity of produc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34920" indent="-39996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Helvetica"/>
              <a:buAutoNum type="arabicPeriod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perience base used to estimate the likely resources (effort, time) of a project from historical precedents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407960" indent="-39996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Wingdings" charset="2"/>
              <a:buChar char="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libration data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30200" y="828360"/>
            <a:ext cx="2908440" cy="5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Related Models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5400" y="1752480"/>
            <a:ext cx="711504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COTS: cost of COTS integratio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PSEMO: phase distribution of schedule and effor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RADMO: rapid application developmen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QUALMO: quality in terms of delivered defect density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PROMO: effects of software productivity strategi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06280" y="828360"/>
            <a:ext cx="5173560" cy="5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COCOMO II User Objectives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5400" y="1752480"/>
            <a:ext cx="711504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 fontScale="92000"/>
          </a:bodyPr>
          <a:p>
            <a:pPr marL="387000" indent="-38700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ason about cost and schedule implications of software decisio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3301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vestment or other financial decisions involving software development effor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3301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ject budgets and schedules as a basis for planning and contro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3301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radeoffs among cost, schedule, functionality, performance or qualit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3301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st and schedule risk managemen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3301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uild vs. buy: develop, reuse, lease, purchas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3301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gacy software: modify, phase out, outsourc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3301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vest in organization capabilities: tools, process maturity, reuse, outsourcing, etc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3301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cess improvement strategi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77760" y="828360"/>
            <a:ext cx="5430600" cy="5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COCOMO II Model Objectives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5400" y="1752480"/>
            <a:ext cx="711504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420840" indent="-42084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vide accurate cost and schedule estimates for current and likely software project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able organizations to easily recalibrate, tailor or extend COCOMO I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vide careful, easy-to-understand definitions of the model’s inputs, outputs and assumption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vide a constructive mod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vide a normative mod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vide an evolving mod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00000" y="685800"/>
            <a:ext cx="5684760" cy="51768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Tailorable Mix of Three Models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 fontScale="79000"/>
          </a:bodyPr>
          <a:p>
            <a:pPr marL="332280" indent="0" algn="ctr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280" indent="-33228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pplication Composition: Any prototyping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960" indent="-2833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 environment drivers, 0 process driver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960" indent="-2833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zing in Object Point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280" indent="-33228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arly Design Model:  Exploring architecture, development options, Desig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960" indent="-2833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7 environment drivers, 5 process driver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960" indent="-2833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zing in Function Points or SLOC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280" indent="-33228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st Architecture Model:  Ready to Develop, has a lifecycle architectur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960" indent="-2833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7 environment drivers, 5 process driver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960" indent="-2833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zing in Function Points or SLOC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280" indent="-33228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Comparison: COCOMO 81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960" indent="-2833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5 environment drivers, 1 process driver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960" indent="-2833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zing in SLOC (Function Point Extensions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25280" y="828360"/>
            <a:ext cx="3521160" cy="5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Marketplace Model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600200" y="2743200"/>
            <a:ext cx="5720400" cy="2063520"/>
            <a:chOff x="1600200" y="2743200"/>
            <a:chExt cx="5720400" cy="2063520"/>
          </a:xfrm>
        </p:grpSpPr>
        <p:sp>
          <p:nvSpPr>
            <p:cNvPr id="79" name=""/>
            <p:cNvSpPr/>
            <p:nvPr/>
          </p:nvSpPr>
          <p:spPr>
            <a:xfrm>
              <a:off x="1600200" y="2743200"/>
              <a:ext cx="5715000" cy="587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d-User Programm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55M performers in U.S. in 2005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15680" y="3355920"/>
              <a:ext cx="2709000" cy="833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lication Genera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d Composition Ai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0.6M performer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56720" y="3355920"/>
              <a:ext cx="1579680" cy="833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pos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0.7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57280" y="3355920"/>
              <a:ext cx="1363320" cy="833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g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0.7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600200" y="4219560"/>
              <a:ext cx="5715000" cy="587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fra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0.75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219320" y="1676520"/>
            <a:ext cx="2317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2b4a"/>
                </a:solidFill>
                <a:latin typeface="Arial"/>
              </a:rPr>
              <a:t>Does not need COCOMO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1752480"/>
            <a:ext cx="3809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2b4a"/>
                </a:solidFill>
                <a:latin typeface="Arial"/>
              </a:rPr>
              <a:t>COCOMO II Application Compo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5410080"/>
            <a:ext cx="3251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2b4a"/>
                </a:solidFill>
                <a:latin typeface="Arial"/>
              </a:rPr>
              <a:t>Mix of 3 COCOMO II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2438280"/>
            <a:ext cx="304920" cy="533520"/>
          </a:xfrm>
          <a:prstGeom prst="line">
            <a:avLst/>
          </a:prstGeom>
          <a:ln w="76320">
            <a:solidFill>
              <a:srgbClr val="aa2b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867280" y="2590920"/>
            <a:ext cx="1447920" cy="838080"/>
          </a:xfrm>
          <a:prstGeom prst="line">
            <a:avLst/>
          </a:prstGeom>
          <a:ln w="76320">
            <a:solidFill>
              <a:srgbClr val="aa2b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123720" y="4114800"/>
            <a:ext cx="838440" cy="1295280"/>
          </a:xfrm>
          <a:prstGeom prst="line">
            <a:avLst/>
          </a:prstGeom>
          <a:ln w="76320">
            <a:solidFill>
              <a:srgbClr val="aa2b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419720" y="4723920"/>
            <a:ext cx="0" cy="762120"/>
          </a:xfrm>
          <a:prstGeom prst="line">
            <a:avLst/>
          </a:prstGeom>
          <a:ln w="76320">
            <a:solidFill>
              <a:srgbClr val="aa2b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029200" y="4114800"/>
            <a:ext cx="1143000" cy="1371600"/>
          </a:xfrm>
          <a:prstGeom prst="line">
            <a:avLst/>
          </a:prstGeom>
          <a:ln w="76320">
            <a:solidFill>
              <a:srgbClr val="aa2b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3920" y="828360"/>
            <a:ext cx="5684760" cy="9745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Tailorable Mix of Three Models</a:t>
            </a:r>
            <a:br>
              <a:rPr sz="3000"/>
            </a:b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Why?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11504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ailorable processes, not waterfal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ranularity of cost model must be consistent with granularity of information available at given phase of projec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st </a:t>
            </a:r>
            <a:r>
              <a:rPr b="1" i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rang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not cost point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arse-grained in early phas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creasingly fine-grained in later phas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8120" y="1447920"/>
            <a:ext cx="4419360" cy="761760"/>
          </a:xfrm>
          <a:prstGeom prst="leftRightArrow">
            <a:avLst>
              <a:gd name="adj1" fmla="val 50000"/>
              <a:gd name="adj2" fmla="val 91266"/>
            </a:avLst>
          </a:prstGeom>
          <a:solidFill>
            <a:srgbClr val="ffffff"/>
          </a:solidFill>
          <a:ln w="28440">
            <a:solidFill>
              <a:srgbClr val="aa2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7760" y="685800"/>
            <a:ext cx="3012840" cy="51768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Process Models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5040" y="3403440"/>
            <a:ext cx="6685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eption        Elaboration                      Construction                         Tran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2280" y="3930480"/>
            <a:ext cx="59461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s and         Preliminary       Detailed       Code and   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ments         Design            Design         Unit Test     and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6720" y="2317680"/>
            <a:ext cx="10706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e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01720" y="2317680"/>
            <a:ext cx="1082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f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08880" y="2317680"/>
            <a:ext cx="12308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f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57480" y="2317680"/>
            <a:ext cx="11714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08840" y="2317680"/>
            <a:ext cx="8542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8960" y="4894200"/>
            <a:ext cx="10324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fe-Cy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33160" y="4894200"/>
            <a:ext cx="13680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04200" y="4894200"/>
            <a:ext cx="8528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00920" y="4894200"/>
            <a:ext cx="8236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p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73120" y="4894200"/>
            <a:ext cx="794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i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56080" y="4894200"/>
            <a:ext cx="117900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41400" y="3357720"/>
            <a:ext cx="6870960" cy="344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35120" y="3908520"/>
            <a:ext cx="5977080" cy="480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83000" y="3908520"/>
            <a:ext cx="0" cy="480960"/>
          </a:xfrm>
          <a:prstGeom prst="line">
            <a:avLst/>
          </a:prstGeom>
          <a:ln w="5724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83160" y="3908520"/>
            <a:ext cx="0" cy="480960"/>
          </a:xfrm>
          <a:prstGeom prst="line">
            <a:avLst/>
          </a:prstGeom>
          <a:ln w="5724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13480" y="3908520"/>
            <a:ext cx="0" cy="480960"/>
          </a:xfrm>
          <a:prstGeom prst="line">
            <a:avLst/>
          </a:prstGeom>
          <a:ln w="5724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78000" y="3357720"/>
            <a:ext cx="0" cy="1031760"/>
          </a:xfrm>
          <a:prstGeom prst="line">
            <a:avLst/>
          </a:prstGeom>
          <a:ln w="5724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21240" y="3357720"/>
            <a:ext cx="0" cy="344160"/>
          </a:xfrm>
          <a:prstGeom prst="line">
            <a:avLst/>
          </a:prstGeom>
          <a:ln w="5724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12200" y="3357720"/>
            <a:ext cx="0" cy="1031760"/>
          </a:xfrm>
          <a:prstGeom prst="line">
            <a:avLst/>
          </a:prstGeom>
          <a:ln w="5724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41400" y="2946240"/>
            <a:ext cx="0" cy="411480"/>
          </a:xfrm>
          <a:prstGeom prst="line">
            <a:avLst/>
          </a:prstGeom>
          <a:ln w="38160">
            <a:solidFill>
              <a:srgbClr val="aa2b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78000" y="2946240"/>
            <a:ext cx="0" cy="411480"/>
          </a:xfrm>
          <a:prstGeom prst="line">
            <a:avLst/>
          </a:prstGeom>
          <a:ln w="38160">
            <a:solidFill>
              <a:srgbClr val="aa2b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21240" y="2946240"/>
            <a:ext cx="0" cy="411480"/>
          </a:xfrm>
          <a:prstGeom prst="line">
            <a:avLst/>
          </a:prstGeom>
          <a:ln w="38160">
            <a:solidFill>
              <a:srgbClr val="aa2b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35880" y="2946240"/>
            <a:ext cx="276480" cy="411480"/>
          </a:xfrm>
          <a:prstGeom prst="line">
            <a:avLst/>
          </a:prstGeom>
          <a:ln w="38160">
            <a:solidFill>
              <a:srgbClr val="aa2b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37520" y="2946240"/>
            <a:ext cx="274680" cy="411480"/>
          </a:xfrm>
          <a:prstGeom prst="line">
            <a:avLst/>
          </a:prstGeom>
          <a:ln w="38160">
            <a:solidFill>
              <a:srgbClr val="aa2b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635120" y="4389480"/>
            <a:ext cx="0" cy="411120"/>
          </a:xfrm>
          <a:prstGeom prst="line">
            <a:avLst/>
          </a:prstGeom>
          <a:ln w="38160">
            <a:solidFill>
              <a:srgbClr val="aa2b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078000" y="4389480"/>
            <a:ext cx="0" cy="411120"/>
          </a:xfrm>
          <a:prstGeom prst="line">
            <a:avLst/>
          </a:prstGeom>
          <a:ln w="38160">
            <a:solidFill>
              <a:srgbClr val="aa2b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383000" y="4389480"/>
            <a:ext cx="0" cy="411120"/>
          </a:xfrm>
          <a:prstGeom prst="line">
            <a:avLst/>
          </a:prstGeom>
          <a:ln w="38160">
            <a:solidFill>
              <a:srgbClr val="aa2b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483160" y="4389480"/>
            <a:ext cx="0" cy="411120"/>
          </a:xfrm>
          <a:prstGeom prst="line">
            <a:avLst/>
          </a:prstGeom>
          <a:ln w="38160">
            <a:solidFill>
              <a:srgbClr val="aa2b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513480" y="4389480"/>
            <a:ext cx="0" cy="411120"/>
          </a:xfrm>
          <a:prstGeom prst="line">
            <a:avLst/>
          </a:prstGeom>
          <a:ln w="38160">
            <a:solidFill>
              <a:srgbClr val="aa2b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612200" y="4389480"/>
            <a:ext cx="0" cy="411120"/>
          </a:xfrm>
          <a:prstGeom prst="line">
            <a:avLst/>
          </a:prstGeom>
          <a:ln w="38160">
            <a:solidFill>
              <a:srgbClr val="aa2b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0560" y="3218040"/>
            <a:ext cx="1069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a2b4a"/>
                </a:solidFill>
                <a:latin typeface="Arial"/>
              </a:rPr>
              <a:t>MBASE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a2b4a"/>
                </a:solidFill>
                <a:latin typeface="Arial"/>
              </a:rPr>
              <a:t>R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9000" y="3979800"/>
            <a:ext cx="1145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a2b4a"/>
                </a:solidFill>
                <a:latin typeface="Arial"/>
              </a:rPr>
              <a:t>Waterf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1600" y="1676520"/>
            <a:ext cx="3844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2b4a"/>
                </a:solidFill>
                <a:latin typeface="Arial"/>
              </a:rPr>
              <a:t>COCOMO II Estimation End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5715000"/>
            <a:ext cx="5943600" cy="762120"/>
          </a:xfrm>
          <a:prstGeom prst="leftRightArrow">
            <a:avLst>
              <a:gd name="adj1" fmla="val 50000"/>
              <a:gd name="adj2" fmla="val 86653"/>
            </a:avLst>
          </a:prstGeom>
          <a:solidFill>
            <a:srgbClr val="ffffff"/>
          </a:solidFill>
          <a:ln w="28440">
            <a:solidFill>
              <a:srgbClr val="aa2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7640" y="5943600"/>
            <a:ext cx="2050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a2b4a"/>
                </a:solidFill>
                <a:latin typeface="Arial"/>
              </a:rPr>
              <a:t>Early Desig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33920" y="5892840"/>
            <a:ext cx="609480" cy="380880"/>
          </a:xfrm>
          <a:prstGeom prst="line">
            <a:avLst/>
          </a:prstGeom>
          <a:ln w="38160">
            <a:solidFill>
              <a:srgbClr val="aa2b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6320" y="5943600"/>
            <a:ext cx="2521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a2b4a"/>
                </a:solidFill>
                <a:latin typeface="Arial"/>
              </a:rPr>
              <a:t>Post-Architectur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441920" cy="65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Nominal-Schedule Estimation Equations</a:t>
            </a:r>
            <a:br>
              <a:rPr sz="3000"/>
            </a:br>
            <a:r>
              <a:rPr b="1" lang="en-US" sz="2600" spc="-1" strike="noStrike">
                <a:solidFill>
                  <a:srgbClr val="aa2b4a"/>
                </a:solidFill>
                <a:latin typeface="Arial"/>
              </a:rPr>
              <a:t>(Early Design and Post-Arch Models)</a:t>
            </a:r>
            <a:endParaRPr b="1" lang="en-US" sz="2600" spc="-1" strike="noStrike">
              <a:solidFill>
                <a:srgbClr val="aa2b4a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375920" y="2819520"/>
            <a:ext cx="4372200" cy="1114200"/>
            <a:chOff x="1375920" y="2819520"/>
            <a:chExt cx="4372200" cy="1114200"/>
          </a:xfrm>
        </p:grpSpPr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2438280" y="2819520"/>
                  <a:ext cx="3309840" cy="11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1</m:t>
                      </m:r>
                      <m:r>
                        <m:t xml:space="preserve">×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5</m:t>
                          </m:r>
                        </m:sup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F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38" name=""/>
            <p:cNvSpPr/>
            <p:nvPr/>
          </p:nvSpPr>
          <p:spPr>
            <a:xfrm>
              <a:off x="1375920" y="3200400"/>
              <a:ext cx="8406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762120" y="1752480"/>
            <a:ext cx="7115040" cy="41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840" bIns="42840" anchor="t">
            <a:noAutofit/>
          </a:bodyPr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ffort in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rson-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nths (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minal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h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Dev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opment Calendar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me (N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93880" indent="-35892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295280" y="2133720"/>
                <a:ext cx="353700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ze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×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371600" y="4572000"/>
                <a:ext cx="37339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DE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F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43" name=""/>
          <p:cNvGrpSpPr/>
          <p:nvPr/>
        </p:nvGrpSpPr>
        <p:grpSpPr>
          <a:xfrm>
            <a:off x="1299600" y="4876920"/>
            <a:ext cx="4872240" cy="1582560"/>
            <a:chOff x="1299600" y="4876920"/>
            <a:chExt cx="4872240" cy="1582560"/>
          </a:xfrm>
        </p:grpSpPr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2361960" y="4876920"/>
                  <a:ext cx="3809880" cy="158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=</m:t>
                          </m:r>
                          <m:r>
                            <m:t xml:space="preserve">D</m:t>
                          </m:r>
                          <m:r>
                            <m:t xml:space="preserve">+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r>
                            <m:t xml:space="preserve">×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1</m:t>
                          </m:r>
                          <m:r>
                            <m:t xml:space="preserve">×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5</m:t>
                              </m:r>
                            </m:sup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F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nary>
                        </m:e>
                        <m:e>
                          <m:r>
                            <m:t xml:space="preserve">D</m:t>
                          </m:r>
                          <m:r>
                            <m:t xml:space="preserve">+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r>
                            <m:t xml:space="preserve">×</m:t>
                          </m:r>
                          <m:r>
                            <m:t xml:space="preserve">(</m:t>
                          </m:r>
                          <m:r>
                            <m:t xml:space="preserve">E</m:t>
                          </m:r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5" name=""/>
            <p:cNvSpPr/>
            <p:nvPr/>
          </p:nvSpPr>
          <p:spPr>
            <a:xfrm>
              <a:off x="1299600" y="5181480"/>
              <a:ext cx="8406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6170040" y="2133720"/>
            <a:ext cx="220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a2b4a"/>
                </a:solidFill>
                <a:latin typeface="Arial"/>
              </a:rPr>
              <a:t>Effort Multip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a2b4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a2b4a"/>
                </a:solidFill>
                <a:latin typeface="Arial"/>
              </a:rPr>
              <a:t>for Cost Dr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a2b4a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aa2b4a"/>
                </a:solidFill>
                <a:latin typeface="Arial"/>
              </a:rPr>
              <a:t>n=6 in 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a2b4a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aa2b4a"/>
                </a:solidFill>
                <a:latin typeface="Arial"/>
              </a:rPr>
              <a:t>n=16 in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3429000"/>
            <a:ext cx="18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a2b4a"/>
                </a:solidFill>
                <a:latin typeface="Arial"/>
              </a:rPr>
              <a:t>Expon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a2b4a"/>
                </a:solidFill>
                <a:latin typeface="Arial"/>
              </a:rPr>
              <a:t>Scale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6553080" y="4876920"/>
                <a:ext cx="1930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6400800" y="4191120"/>
            <a:ext cx="227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a2b4a"/>
                </a:solidFill>
                <a:latin typeface="Arial"/>
              </a:rPr>
              <a:t>COCOMO II.2000 Calibr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800600" y="2438280"/>
            <a:ext cx="1295280" cy="152640"/>
          </a:xfrm>
          <a:prstGeom prst="line">
            <a:avLst/>
          </a:prstGeom>
          <a:ln w="76320">
            <a:solidFill>
              <a:srgbClr val="aa2b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638320" y="3352320"/>
            <a:ext cx="838440" cy="304920"/>
          </a:xfrm>
          <a:prstGeom prst="line">
            <a:avLst/>
          </a:prstGeom>
          <a:ln w="76320">
            <a:solidFill>
              <a:srgbClr val="aa2b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740040" y="828360"/>
            <a:ext cx="1679760" cy="5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Example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11504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verage large projec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00 KSLOC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M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= 1.0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 = 1.15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828800" y="3352680"/>
                <a:ext cx="5853240" cy="301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8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months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DE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8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1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month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v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taff size 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DE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8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peopl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71720" y="828360"/>
            <a:ext cx="1616040" cy="5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Sources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5400" y="1752480"/>
            <a:ext cx="711504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arry Boehm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oftware cost estimation with COCOMO II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Prentice-Hall: New Jersey, 2000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alker Royce,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oftware project management – a unified framework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Addison Wesley Longman: Reading, MA, 1998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ome slides from Yancey Bond and Dmitriy Shaltayev, University of Alabam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95520" y="828360"/>
            <a:ext cx="2376720" cy="5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Cost Drivers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5400" y="1752480"/>
            <a:ext cx="711504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st Driver rating (as an EM) is based on a strong rationale that they would independently explain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 significant source of project effort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ductivity variatio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arly Design model: 7 cost driver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st-Architecture model: 17 cost driver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ize is the primary cost driver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xponential effect – five scale factor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89320" y="828360"/>
            <a:ext cx="2589120" cy="5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Scale Factors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5400" y="1752480"/>
            <a:ext cx="711504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420840" indent="-42084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 = exponent of Size cost driver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 &lt; 1.0 </a:t>
            </a:r>
            <a:r>
              <a:rPr b="1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conomies of sca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0636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Wingdings" charset="2"/>
              <a:buChar char="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ouble project size, less then double effor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0636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Wingdings" charset="2"/>
              <a:buChar char="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chieved via shared simulations, testbeds, project infrastructure (tools, standards, reporting, etc.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 = 1.0 </a:t>
            </a:r>
            <a:r>
              <a:rPr b="1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balanced economies of sca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0636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Wingdings" charset="2"/>
              <a:buChar char="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ypical for small project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 &gt; 1.0 </a:t>
            </a:r>
            <a:r>
              <a:rPr b="1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diseconomies of sca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0636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Wingdings" charset="2"/>
              <a:buChar char="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terpersonal communication overhead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0636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Wingdings" charset="2"/>
              <a:buChar char="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rge system integration overhead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13040" y="828360"/>
            <a:ext cx="3548160" cy="5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Modeling Question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5400" y="1752480"/>
            <a:ext cx="711504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y do the equations take this form?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pecially for the exponents?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taffing level is computed, not fixed input, to development time?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lative quantitative values for qualitative cost driver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65080" y="838080"/>
            <a:ext cx="5599080" cy="51768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Size Calculation for New Code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5400" y="1752480"/>
            <a:ext cx="711504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420840" indent="-42084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easure the amount of intellectual work put into program developmen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wo types of cod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ew Cod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used and Adapted Cod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ource Lines of Code (SLOC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adjusted Function Points (UFP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bject Point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68600" y="828360"/>
            <a:ext cx="5813280" cy="5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Counting Source Lines of Code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5400" y="1752480"/>
            <a:ext cx="711504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ogical Source statement is standard line of cod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e SEI checklist definitio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xclude COTS, GFS, other products, libraries, operating system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unt operator directives to code generator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easure in thousand source lines of cod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SLOC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4960" y="828360"/>
            <a:ext cx="8082000" cy="5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Counting Unadjusted Function Points (UFP)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487692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 fontScale="97000"/>
          </a:bodyPr>
          <a:p>
            <a:pPr marL="217080" indent="-217080">
              <a:lnSpc>
                <a:spcPct val="80000"/>
              </a:lnSpc>
              <a:spcBef>
                <a:spcPts val="711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xternal Input (EI)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1120">
              <a:lnSpc>
                <a:spcPct val="80000"/>
              </a:lnSpc>
              <a:spcBef>
                <a:spcPts val="711"/>
              </a:spcBef>
              <a:buClr>
                <a:srgbClr val="aa2b4a"/>
              </a:buClr>
              <a:buFont typeface="Symbol" charset="2"/>
              <a:buChar char="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unt each unique user data or user control input type that enters system boundary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80000"/>
              </a:lnSpc>
              <a:spcBef>
                <a:spcPts val="711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xternal Output (EO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1120">
              <a:lnSpc>
                <a:spcPct val="80000"/>
              </a:lnSpc>
              <a:spcBef>
                <a:spcPts val="711"/>
              </a:spcBef>
              <a:buClr>
                <a:srgbClr val="aa2b4a"/>
              </a:buClr>
              <a:buFont typeface="Symbol" charset="2"/>
              <a:buChar char="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unt each unique user data or user control input type that leaves system boundary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80000"/>
              </a:lnSpc>
              <a:spcBef>
                <a:spcPts val="711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ternal Logical File (ILF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1120">
              <a:lnSpc>
                <a:spcPct val="80000"/>
              </a:lnSpc>
              <a:spcBef>
                <a:spcPts val="711"/>
              </a:spcBef>
              <a:buClr>
                <a:srgbClr val="aa2b4a"/>
              </a:buClr>
              <a:buFont typeface="Symbol" charset="2"/>
              <a:buChar char="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unt each major logical group of user data or control information in the software system as a logical internal file type. Include each logical file (e.g., each logical group of data) that is generated, used, or maintained by the software system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562720" y="2209680"/>
            <a:ext cx="310032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223920" indent="-223920">
              <a:lnSpc>
                <a:spcPct val="90000"/>
              </a:lnSpc>
              <a:spcBef>
                <a:spcPts val="711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xternal Interface Files (EIF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8320">
              <a:lnSpc>
                <a:spcPct val="90000"/>
              </a:lnSpc>
              <a:spcBef>
                <a:spcPts val="711"/>
              </a:spcBef>
              <a:buClr>
                <a:srgbClr val="aa2b4a"/>
              </a:buClr>
              <a:buFont typeface="Symbol" charset="2"/>
              <a:buChar char="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iles passed or shared between software systems (counted within each system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711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xternal Inquiry (EQ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8320">
              <a:lnSpc>
                <a:spcPct val="90000"/>
              </a:lnSpc>
              <a:spcBef>
                <a:spcPts val="711"/>
              </a:spcBef>
              <a:buClr>
                <a:srgbClr val="aa2b4a"/>
              </a:buClr>
              <a:buFont typeface="Symbol" charset="2"/>
              <a:buChar char="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unt each unique input-output combination, where input causes and generates an immediate outpu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85520" y="1523880"/>
            <a:ext cx="414144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a2b4a"/>
                </a:solidFill>
                <a:latin typeface="Arial"/>
              </a:rPr>
              <a:t>5 User Function Typ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42960" y="838080"/>
            <a:ext cx="4243320" cy="51768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UFP Counting Process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5400" y="1752480"/>
            <a:ext cx="711504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420840" indent="-42084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unt the number of each of the five user function typ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etermine complexity levels (low, avg., high) depending on the number of data element types and the number of file types referenced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pply complexity weights (using calibrated tables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ute UFP: add all the weighted function count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vert UFP Count to SLOC in the implementation languag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COMO II uses backfining (?) tables, see handou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309840" y="828360"/>
            <a:ext cx="2548080" cy="5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Reused Code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5400" y="1752480"/>
            <a:ext cx="711504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420840" indent="-42084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used Code:  “Black Box”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dapted Code: “White Box”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LOC: Equivalent Source lines of Cod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~5% cost to assess, select, assimilat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daptation Adjustment Modifier (AAM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0636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Wingdings" charset="2"/>
              <a:buChar char="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st of understanding software and checking module interfac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16240" y="828360"/>
            <a:ext cx="2736720" cy="5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Reuse Factors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115400" cy="41972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 fontScale="92000"/>
          </a:bodyPr>
          <a:p>
            <a:pPr marL="387000" indent="-387000">
              <a:lnSpc>
                <a:spcPct val="7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M = % of design modified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7000" indent="-387000">
              <a:lnSpc>
                <a:spcPct val="7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M = % of code modified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7000" indent="-387000">
              <a:lnSpc>
                <a:spcPct val="7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M = % of integration effort is to integrate reused softwar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7000" indent="-387000">
              <a:lnSpc>
                <a:spcPct val="7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T = % of code automatically translated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7000" indent="-387000">
              <a:lnSpc>
                <a:spcPct val="7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U = Software understanding incremen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330120">
              <a:lnSpc>
                <a:spcPct val="7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tructure, Application Clarity, Self-Descriptivenes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330120">
              <a:lnSpc>
                <a:spcPct val="7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1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very high; 10% </a:t>
            </a:r>
            <a:r>
              <a:rPr b="1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50% penalt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7000" indent="-387000">
              <a:lnSpc>
                <a:spcPct val="7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A = assessment and assimilation incremen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330120">
              <a:lnSpc>
                <a:spcPct val="7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ne </a:t>
            </a:r>
            <a:r>
              <a:rPr b="1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xtensive test, evaluation and documenta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330120">
              <a:lnSpc>
                <a:spcPct val="7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ating 0</a:t>
            </a:r>
            <a:r>
              <a:rPr b="1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8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7000" indent="-387000">
              <a:lnSpc>
                <a:spcPct val="7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FM = programmer’s relative unfamiliarity with the softwar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330120">
              <a:lnSpc>
                <a:spcPct val="7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.0 (very familiar) </a:t>
            </a:r>
            <a:r>
              <a:rPr b="1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1.0 (never seen it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67000" y="838080"/>
            <a:ext cx="6191280" cy="51768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Size Calculation for Reused Code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 fontScale="89000"/>
          </a:bodyPr>
          <a:p>
            <a:pPr marL="156600" indent="-15660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erms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193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used Code:  “Black Box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193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dapted Code: “White Box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193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SLOC: Equivalent Source lines of Cod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56600" indent="-15660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quation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193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KSLOC = Adapted KSLOC * (1 – AT/100) * AAM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193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AF = (0.4 * DM) + (0.3 * CM) + (0.3 * IM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[AA + AAF(1+ (0.02 * SU * UNFM))]/100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r AAF&lt;=50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56600" indent="-15660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AM=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566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[AA + AAF + (SU * UNFM)]/100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9184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r AAF&gt;50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4572000"/>
            <a:ext cx="5922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14240" y="828360"/>
            <a:ext cx="2336760" cy="5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Background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5400" y="1752120"/>
            <a:ext cx="7115040" cy="44197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COMO: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Co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structiv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Co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t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Mo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eling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arry Boehm,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oftware Engineering Economic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1981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vided an “engineering” basis for reasoning about cost and schedule for software-based solution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da COCOM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arry Boehm and Walker Royce, 1989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ased on waterfall process mod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309840" y="828360"/>
            <a:ext cx="2548080" cy="5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Observations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5400" y="1752120"/>
            <a:ext cx="7115040" cy="44960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420840" indent="-42084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daptation Adjustment Modifier (AAM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est case: 1-1 with building from scratch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orst case: 2x the effort to modify than to develop as new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use (black box, COTS) may require glue cod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egration and test is not fre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duce with well-architected product lines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M &gt; 100 is possible for integration into complex application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62320" y="609480"/>
            <a:ext cx="4497120" cy="97488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Size Adjustment for</a:t>
            </a:r>
            <a:br>
              <a:rPr sz="3000"/>
            </a:b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Requirements Evolution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5400" y="1752120"/>
            <a:ext cx="7115040" cy="44960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 fontScale="99000"/>
          </a:bodyPr>
          <a:p>
            <a:pPr marL="416520" indent="-4165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quirements Evolution and Volatility (REVL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84880" indent="-3553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.g., user interface evolution, technology upgrades, COTS volatility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84880" indent="-3553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ercentage of code discarded due to requirements evolutio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3031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Wingdings" charset="2"/>
              <a:buChar char="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 relative adder to size of delivered cod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6520" indent="-4165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lculation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84880" indent="-3553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ize = (1 + REVL/100) x Size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84880" indent="-3553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is the reuse-equivalent of the delivered softwar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14680" y="838080"/>
            <a:ext cx="5698800" cy="51768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Automatically Translated Code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5400" y="1752480"/>
            <a:ext cx="711504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420840" indent="-42084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st of software re-engineering and convers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T = % code re-engineered by automatic transla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term (1-AT/100) in the Equivalent SLOC equation represents automatically translated cod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utomated Translation Productivity (ATPROD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efault ATPROD = 2400 source statements per person-month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057400" y="4724280"/>
                <a:ext cx="52642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ut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aptedSLOC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TPRO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19280" y="828360"/>
            <a:ext cx="4135680" cy="5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Software Maintenance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5400" y="1752480"/>
            <a:ext cx="746280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420840" indent="-42084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dd new capabilities; fix or adapt existing capabiliti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djusted by understanding and familiarity factor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cludes major rebuild (&gt;50%) or large (&gt;20%) interface chang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f know Base Code Size and Maintenance Change Factor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CF in % = (Size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added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+ Size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modified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/Base Code Siz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= [(Base Code Size) x MCF ] x MAF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0636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Wingdings" charset="2"/>
              <a:buChar char="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AF = Maintenance Adjustment Factor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= 1 + (SU/100 x UNFM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08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978280" y="838080"/>
            <a:ext cx="3184560" cy="51768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Effort Estimation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5400" y="1752480"/>
            <a:ext cx="711504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arly Design and Post-Architecture Models use the same functional form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ffort is expressed in Person-Months (PM) 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amount of time one person spends working on the software project in one month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~152 hours/PM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M = A x Size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M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 = 2.94 for COCOMO II.2000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78200" y="828360"/>
            <a:ext cx="5194080" cy="5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Economies of Scale Factors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5400" y="1752480"/>
            <a:ext cx="711504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420840" indent="-42084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ecedentedness (PREC): if a product is similar to several previously developed projects, the prec. is high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evelopment Flexibility (FLEX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rchitecture/Risk Resolution (RESL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eam Cohesion (TEAM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cess Maturity (PMAT) : Key Process Questionnair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0636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Wingdings" charset="2"/>
              <a:buChar char="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8 Key Process Areas from SEI CMM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0636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Wingdings" charset="2"/>
              <a:buChar char="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quivalent Process Maturity Level (EPML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735200" indent="-30636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Helvetica"/>
              <a:buChar char="o"/>
              <a:tabLst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PML = 5 * (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KPA % / 100) *1/ # of KPA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03120" y="828360"/>
            <a:ext cx="3143160" cy="5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Effort Multipliers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5040" y="1752120"/>
            <a:ext cx="7615080" cy="44960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420840" indent="-42084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ach rating level of the cost drivers has a value associated with it that translates the qualitative rating of the cost driver into a quantitative 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minal Level always has an effort multiplier value of 1.00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Mi &gt; 1.00 more effort required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Mi &lt; 1.00 less effort required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st-Architecture Model has 17 cost driver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arly Design has 7 cost drivers (combinations of the Post-Architecture Model’s 17 drivers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st-Architecture Drivers can be divided into Product, Platform, Personnel, and Project Factor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66840" y="828360"/>
            <a:ext cx="3035160" cy="5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Product Factors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5400" y="1752480"/>
            <a:ext cx="711504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476280" indent="-47628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Helvetica"/>
              <a:buAutoNum type="arabicPeriod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quired Software Reliability (RELY) : the measure of the extent to which the software must perform its intended function over a period of tim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Helvetica"/>
              <a:buAutoNum type="arabicPeriod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atabase Size (DATA):  captures the effect large test data requirements have on product development.  Determined by the ratio D/P ratio of bytes in the testing database to SLOC in the program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61640" y="838080"/>
            <a:ext cx="5218200" cy="51768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Product Factors (continued)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5400" y="1752480"/>
            <a:ext cx="711504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 fontScale="93000"/>
          </a:bodyPr>
          <a:p>
            <a:pPr marL="391320" indent="-3913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Helvetica"/>
              <a:buAutoNum type="arabicPeriod" startAt="3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duct Complexity (CPLX):  Divided into 5 area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69400" indent="-37188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trol operatio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69400" indent="-37188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utational operatio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69400" indent="-37188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evice-dependent operatio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69400" indent="-37188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ata management operatio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69400" indent="-37188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ser interface management operations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1320" indent="-3913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Helvetica"/>
              <a:buAutoNum type="arabicPeriod" startAt="4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eveloped for Reusability (RUSE):  Accounts for additional effort needed to construct components intended for reus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69400" indent="-37188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cross Projec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69400" indent="-37188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cross Program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69400" indent="-37188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cross Product lin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69400" indent="-37188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cross multiple product lin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132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55520" y="838080"/>
            <a:ext cx="5218200" cy="51768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Product Factors (continued)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5400" y="1752480"/>
            <a:ext cx="711504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42084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5.  Documentation Match to Life-Cycle Needs (DOCU):  evaluated in terms of the suitability of the project’s documentation to its life cycle need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57240" y="685800"/>
            <a:ext cx="1849320" cy="51768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Problems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5400" y="1523880"/>
            <a:ext cx="7115040" cy="46483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420840" indent="-42084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tandish Group 1995: 53% of software projects were overrun by more than 50% on both budget and schedu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umerous large-scale failur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ondon Stock Exchang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0636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Wingdings" charset="2"/>
              <a:buChar char="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$1.5M --&gt; $6+M; 7 mos. --&gt; 17+ mos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735200" indent="-30636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Helvetica"/>
              <a:buChar char="o"/>
              <a:tabLst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ncelled after 17 month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AA Advanced Automation System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0636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Wingdings" charset="2"/>
              <a:buChar char="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$3.7B --&gt; $7.0B; 48 mos. --&gt; 96 mos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735200" indent="-30636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Helvetica"/>
              <a:buChar char="o"/>
              <a:tabLst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ncelled after 70 month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aster Net (banking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0636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Wingdings" charset="2"/>
              <a:buChar char="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$22M --&gt; $80+M; 9 mos. --&gt; 48+ mos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735200" indent="-30636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Helvetica"/>
              <a:buChar char="o"/>
              <a:tabLst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ncelled after 48 month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05280" y="828360"/>
            <a:ext cx="3139920" cy="5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Platform Factors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5400" y="1752480"/>
            <a:ext cx="711504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42084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6.  Execution Time Constraint (TIME):  measure of the execution time constraint imposed upon a software system. Based on the percentage of available execution time to be used by the system 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7.  Main Storage Constraint (STOR):  represents the degree of main storage constraint imposed on a software system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03320" y="838080"/>
            <a:ext cx="5322960" cy="51768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Platform Factors (continued)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5400" y="1752480"/>
            <a:ext cx="711504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42084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8.  Platform Volatility (PVOL):  referring to the hardware and software the software product calls on to perform its tasks. 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jor change every two weeks =&gt;very high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jor change every 12 months =&gt;low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68120" y="828360"/>
            <a:ext cx="3436920" cy="5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Personnel Factors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5400" y="1752480"/>
            <a:ext cx="711504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576360"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.  Analyst Capability (ACAP):  Analysis and design ability examine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6360"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0. Programmer Capability (PCAP):  evaluate on team basis not individua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6360"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1. Personnel Continuity (PCON):  in terms of the project’s annual personnel turnover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6360"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2.  Applications Experience (APEX):  based on the level of applications experience of the project team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3589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ess than 2 months =&gt;very low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3589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6 years=&gt;very high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84520" y="828360"/>
            <a:ext cx="5619600" cy="5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Personnel Factors (continued)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5400" y="1752480"/>
            <a:ext cx="711504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42084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3.   Platform Experience (PLEX):  level of experience with more powerful platforms, networking, database, user interfac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4.   Language and Tool Experience (LTEX):  measure of the level of programming language and software tool experience of the project team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141360" y="828360"/>
            <a:ext cx="2886120" cy="5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Project Factors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5400" y="1752480"/>
            <a:ext cx="711504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 fontScale="99000"/>
          </a:bodyPr>
          <a:p>
            <a:pPr marL="41652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5.  Use of Software Tools (TOOL):  amount of involvement of software tool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84880" indent="-35532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mple edit and code =&gt;very low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84880" indent="-35532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tegrated life cycle management =&gt;very high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1652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6.  Multi-site Development (SITE):  involves assessing and judgment-based averaging of 2 factors: 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84880" indent="-35532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te colloca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84880" indent="-355320">
              <a:lnSpc>
                <a:spcPct val="9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munication suppor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1652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7. Required Development Schedule (SCED):  measures the schedule constraint imposed on the project team.  Stretch out or accelera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1652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053800" y="828360"/>
            <a:ext cx="5041800" cy="5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Early Design Model Drivers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07960" y="2133720"/>
            <a:ext cx="8210160" cy="2563560"/>
            <a:chOff x="507960" y="2133720"/>
            <a:chExt cx="8210160" cy="2563560"/>
          </a:xfrm>
        </p:grpSpPr>
        <p:grpSp>
          <p:nvGrpSpPr>
            <p:cNvPr id="211" name=""/>
            <p:cNvGrpSpPr/>
            <p:nvPr/>
          </p:nvGrpSpPr>
          <p:grpSpPr>
            <a:xfrm>
              <a:off x="514440" y="2135880"/>
              <a:ext cx="8196120" cy="2558880"/>
              <a:chOff x="514440" y="2135880"/>
              <a:chExt cx="8196120" cy="255888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514440" y="2135880"/>
                <a:ext cx="4097880" cy="319680"/>
                <a:chOff x="514440" y="2135880"/>
                <a:chExt cx="4097880" cy="3196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609480" y="2135880"/>
                  <a:ext cx="39078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arly Design Cost Driv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14440" y="2135880"/>
                  <a:ext cx="4097880" cy="3196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4612680" y="2135880"/>
                <a:ext cx="4097880" cy="319680"/>
                <a:chOff x="4612680" y="2135880"/>
                <a:chExt cx="4097880" cy="3196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707000" y="2135880"/>
                  <a:ext cx="390816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mbined Post-Arch. Cost Driver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612680" y="2135880"/>
                  <a:ext cx="4097880" cy="3196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514440" y="2455560"/>
                <a:ext cx="4097880" cy="319680"/>
                <a:chOff x="514440" y="2455560"/>
                <a:chExt cx="4097880" cy="3196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609480" y="2455560"/>
                  <a:ext cx="39078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 Reliability/Complexity - RCP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14440" y="2455560"/>
                  <a:ext cx="4097880" cy="3196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4612680" y="2455560"/>
                <a:ext cx="4097880" cy="319680"/>
                <a:chOff x="4612680" y="2455560"/>
                <a:chExt cx="4097880" cy="3196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4707000" y="2455560"/>
                  <a:ext cx="390816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LY, DATA, CPLX, DOCU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612680" y="2455560"/>
                  <a:ext cx="4097880" cy="3196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514440" y="2775600"/>
                <a:ext cx="4097880" cy="319680"/>
                <a:chOff x="514440" y="2775600"/>
                <a:chExt cx="4097880" cy="3196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609480" y="2775600"/>
                  <a:ext cx="39078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veloped for Reusability RU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14440" y="2775600"/>
                  <a:ext cx="4097880" cy="3196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612680" y="2775600"/>
                <a:ext cx="4097880" cy="319680"/>
                <a:chOff x="4612680" y="2775600"/>
                <a:chExt cx="4097880" cy="31968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707000" y="2775600"/>
                  <a:ext cx="390816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US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612680" y="2775600"/>
                  <a:ext cx="4097880" cy="3196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14440" y="3095280"/>
                <a:ext cx="4097880" cy="319680"/>
                <a:chOff x="514440" y="3095280"/>
                <a:chExt cx="4097880" cy="31968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09480" y="3095280"/>
                  <a:ext cx="39078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tform Difficulty - PDI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14440" y="3095280"/>
                  <a:ext cx="4097880" cy="3196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4612680" y="3095280"/>
                <a:ext cx="4097880" cy="319680"/>
                <a:chOff x="4612680" y="3095280"/>
                <a:chExt cx="4097880" cy="31968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4707000" y="3095280"/>
                  <a:ext cx="390816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ME, STOR, PV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612680" y="3095280"/>
                  <a:ext cx="4097880" cy="3196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514440" y="3415320"/>
                <a:ext cx="4097880" cy="320040"/>
                <a:chOff x="514440" y="3415320"/>
                <a:chExt cx="4097880" cy="3200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609480" y="3415320"/>
                  <a:ext cx="3907800" cy="32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ersonnel Capability - PER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14440" y="3415320"/>
                  <a:ext cx="4097880" cy="32004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4612680" y="3415320"/>
                <a:ext cx="4097880" cy="320040"/>
                <a:chOff x="4612680" y="3415320"/>
                <a:chExt cx="4097880" cy="3200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4707000" y="3415320"/>
                  <a:ext cx="3908160" cy="32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AP, PCAP, PC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612680" y="3415320"/>
                  <a:ext cx="4097880" cy="32004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514440" y="3735360"/>
                <a:ext cx="4097880" cy="319680"/>
                <a:chOff x="514440" y="3735360"/>
                <a:chExt cx="4097880" cy="31968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609480" y="3735360"/>
                  <a:ext cx="39078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ersonnel Experience - PRE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14440" y="3735360"/>
                  <a:ext cx="4097880" cy="3196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612680" y="3735360"/>
                <a:ext cx="4097880" cy="319680"/>
                <a:chOff x="4612680" y="3735360"/>
                <a:chExt cx="4097880" cy="31968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707000" y="3735360"/>
                  <a:ext cx="390816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EX, PLEX, LTE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612680" y="3735360"/>
                  <a:ext cx="4097880" cy="3196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14440" y="4055040"/>
                <a:ext cx="4097880" cy="319680"/>
                <a:chOff x="514440" y="4055040"/>
                <a:chExt cx="4097880" cy="31968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09480" y="4055040"/>
                  <a:ext cx="39078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acilities - FCI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14440" y="4055040"/>
                  <a:ext cx="4097880" cy="3196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4612680" y="4055040"/>
                <a:ext cx="4097880" cy="319680"/>
                <a:chOff x="4612680" y="4055040"/>
                <a:chExt cx="4097880" cy="3196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4707000" y="4055040"/>
                  <a:ext cx="390816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OL, SI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612680" y="4055040"/>
                  <a:ext cx="4097880" cy="3196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514440" y="4375080"/>
                <a:ext cx="4097880" cy="319680"/>
                <a:chOff x="514440" y="4375080"/>
                <a:chExt cx="4097880" cy="31968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09480" y="4375080"/>
                  <a:ext cx="39078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quired Development Schedule SCE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14440" y="4375080"/>
                  <a:ext cx="4097880" cy="3196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4612680" y="4375080"/>
                <a:ext cx="4097880" cy="319680"/>
                <a:chOff x="4612680" y="4375080"/>
                <a:chExt cx="4097880" cy="3196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707000" y="4375080"/>
                  <a:ext cx="390816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E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612680" y="4375080"/>
                  <a:ext cx="4097880" cy="3196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0" name=""/>
            <p:cNvSpPr/>
            <p:nvPr/>
          </p:nvSpPr>
          <p:spPr>
            <a:xfrm>
              <a:off x="507960" y="2133720"/>
              <a:ext cx="8210160" cy="2563560"/>
            </a:xfrm>
            <a:prstGeom prst="rect">
              <a:avLst/>
            </a:prstGeom>
            <a:noFill/>
            <a:ln w="28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96560" y="828360"/>
            <a:ext cx="6999480" cy="5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Effort Estimation for Multiple Modules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720" y="2971800"/>
            <a:ext cx="7115040" cy="2673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420840" indent="-42084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pply project-level drivers, scale factors and the SCED cost driver to the aggregated siz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pportion effort by component size as a % of who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pply component-level drivers, scale factors (excluding SCED) to each componen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peat without applying SCED at project-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sulting in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371600" y="1828800"/>
                <a:ext cx="342900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z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ggregate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z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048120" y="5105520"/>
                <a:ext cx="342900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ggregate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165800" cy="5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Schedule (Time to Develop) Estimation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2666880"/>
            <a:ext cx="7115040" cy="27432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DEV = [C * (PM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Arial"/>
              </a:rPr>
              <a:t>N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] * SCED% / 100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 = 3.67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 = (D + 0.2 * [E – B]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0636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Wingdings" charset="2"/>
              <a:buChar char="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 = 0.28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30636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Wingdings" charset="2"/>
              <a:buChar char="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 = 0.91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086600" cy="97488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Using COCOMO II as a justifiable analysis model for business decisions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5400" y="1974600"/>
            <a:ext cx="7115040" cy="41209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 fontScale="90000"/>
          </a:bodyPr>
          <a:p>
            <a:pPr marL="378720" indent="-3787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vestment decisions; Business-Case analysi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tting project budgets and schedul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forming tradeoff analys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229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.g., vary RELY effort multiplier and see how cost shifts from development to maintenance in total life-cycle cos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st/schedule risk managemen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229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form computations with and without the risk being realized and see the size of the impact </a:t>
            </a:r>
            <a:r>
              <a:rPr b="1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best/worst case estimat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evelopment vs. COTS reuse decisio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gacy software phase-out decisio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oftware reuse and product line decisio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cess improvement decisio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1360" y="828360"/>
            <a:ext cx="1257120" cy="5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More?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5400" y="1752480"/>
            <a:ext cx="7115040" cy="4121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usiness decision exampl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pplication exampl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xtensions (COPSEMO, COCOTS, etc.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hase/Activity distribution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se for incremental developmen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uture trend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dustry assessment and us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2840" y="828360"/>
            <a:ext cx="1871640" cy="5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COCOMO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1209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 fontScale="90000"/>
          </a:bodyPr>
          <a:p>
            <a:pPr marL="378720" indent="-3787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ffort = C1 * EAF * (Size)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P1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ime  = C2 * (Effort)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P2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229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1 = constant scaling coefficient for effor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229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AF = effort adjustment factor that characterizes domain, personnel, environment, tool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229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ze = size of the end product measured in number of delivered source instructio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229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1 = exponent characterizing economies of scale (especially non-value-add: rework, bureaucracy, communications overhead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229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ime = total number of month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229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2 = constant scaling coefficient for schedu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229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2 = exponent characterizing inertia and parallelism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680" y="609480"/>
            <a:ext cx="4795920" cy="97488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Original Empirical Models</a:t>
            </a:r>
            <a:br>
              <a:rPr sz="3000"/>
            </a:b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Based on 56 Projects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5400" y="1752120"/>
            <a:ext cx="7115040" cy="44197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420840" indent="-42084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ganic (all done in-house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ffort = 3.2 * EAF * (Size)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1.05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ime  = 2.5 * (Effort)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0.38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midetached (middle-ground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ffort = 3.0 * EAF * (Size)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1.12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ime  = 2.5 * (Effort)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0.35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mbedded (custom, external customer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ffort = 2.8 * EAF * (Size)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1.2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ime  = 2.5 * (Effort)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0.32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See handout for effort adjustment factor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0">
              <a:lnSpc>
                <a:spcPct val="80000"/>
              </a:lnSpc>
              <a:spcBef>
                <a:spcPts val="938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0">
              <a:lnSpc>
                <a:spcPct val="80000"/>
              </a:lnSpc>
              <a:spcBef>
                <a:spcPts val="938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46520" y="828360"/>
            <a:ext cx="3481200" cy="5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Since COCOMO …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115040" cy="4572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420840" indent="-42084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oftware an essential part of most business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mproved quality and reduced cost, risk, cycle ti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volutionary, risk-driven, collaborative developmen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urth-generation languages and application generator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mmercial off-the-shelf (COTS) and reuse-driven software approach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st-track development approach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oftware process maturity initiatives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08320" y="828360"/>
            <a:ext cx="2781360" cy="5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Model Clashes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5400" y="1752480"/>
            <a:ext cx="7115040" cy="4572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/>
          </a:bodyPr>
          <a:p>
            <a:pPr marL="420840" indent="-42084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ypical Cause: incompatibilities among the primary models being used to define and manage the projec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duct models: requirements, architecture, design, etc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cess models: waterfall, spiral, maturity models, etc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erty models: cost, schedule, performance, etc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3880" indent="-3589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uccess models: business case, stake-holder win-win, “I’ll know it when I see it” (IKIWISI), etc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9520" y="609480"/>
            <a:ext cx="1489320" cy="517680"/>
          </a:xfrm>
          <a:prstGeom prst="rect">
            <a:avLst/>
          </a:prstGeom>
          <a:solidFill>
            <a:srgbClr val="ffffff"/>
          </a:solidFill>
          <a:ln w="25560">
            <a:solidFill>
              <a:srgbClr val="790015"/>
            </a:solidFill>
            <a:miter/>
          </a:ln>
          <a:effectLst>
            <a:outerShdw dist="107932" dir="2700000" blurRad="0" rotWithShape="0">
              <a:srgbClr val="790015"/>
            </a:outerShdw>
          </a:effectLst>
        </p:spPr>
        <p:txBody>
          <a:bodyPr lIns="44280" rIns="44280" tIns="17640" bIns="17640" anchor="t">
            <a:noAutofit/>
          </a:bodyPr>
          <a:p>
            <a:pPr indent="0" algn="ctr"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3000" spc="-1" strike="noStrike">
                <a:solidFill>
                  <a:srgbClr val="aa2b4a"/>
                </a:solidFill>
                <a:latin typeface="Arial"/>
              </a:rPr>
              <a:t>MBASE</a:t>
            </a:r>
            <a:endParaRPr b="1" lang="en-US" sz="3000" spc="-1" strike="noStrike">
              <a:solidFill>
                <a:srgbClr val="aa2b4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840" bIns="42840" anchor="t">
            <a:normAutofit fontScale="99000"/>
          </a:bodyPr>
          <a:p>
            <a:pPr marL="416520" indent="-4165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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del-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sed (System)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chitecting and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ftware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gineering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84880" indent="-3553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vide consistent, mutually supportive product, process, property and success model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3031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Wingdings" charset="2"/>
              <a:buChar char="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http://sunset.usc.edu/research/MBAS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84880" indent="-3553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takeholder success models are primary driver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84880" indent="-3553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in-Win Spiral Mod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84880" indent="-3553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rchitecture-first development, RUP, incrementa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84880" indent="-355320">
              <a:lnSpc>
                <a:spcPct val="80000"/>
              </a:lnSpc>
              <a:spcBef>
                <a:spcPts val="938"/>
              </a:spcBef>
              <a:buClr>
                <a:srgbClr val="aa2b4a"/>
              </a:buClr>
              <a:buFont typeface="Symbol" charset="2"/>
              <a:buChar char="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egrated system/software engineering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303120">
              <a:lnSpc>
                <a:spcPct val="80000"/>
              </a:lnSpc>
              <a:spcBef>
                <a:spcPts val="788"/>
              </a:spcBef>
              <a:buClr>
                <a:srgbClr val="aa2b4a"/>
              </a:buClr>
              <a:buFont typeface="Wingdings" charset="2"/>
              <a:buChar char=""/>
              <a:tabLst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ove toward Integrated Capability Maturity Model (CMM-I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1T07:36:12Z</dcterms:created>
  <dc:creator>ybond, Scott Hawker, material from I Sommerville</dc:creator>
  <dc:description/>
  <dc:language>en-US</dc:language>
  <cp:lastModifiedBy>Mike Tarrani</cp:lastModifiedBy>
  <dcterms:modified xsi:type="dcterms:W3CDTF">2001-08-25T02:53:32Z</dcterms:modified>
  <cp:revision>27</cp:revision>
  <dc:subject/>
  <dc:title>PowerPoint Presentation</dc:title>
</cp:coreProperties>
</file>