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63520"/>
            <a:ext cx="780444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8276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2860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18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18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18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9120" y="6523200"/>
            <a:ext cx="8510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©Ian Sommerville 2000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Software Engineering, 6th edition. Chapter 23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Slide </a:t>
            </a:r>
            <a:fld id="{3BBD7790-100F-4418-BB48-F036F868CC3B}" type="slidenum">
              <a:rPr b="0" lang="en-GB" sz="1200" spc="-1" strike="noStrike">
                <a:solidFill>
                  <a:srgbClr val="081d5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Software Cost Estim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 from Ian Sommerville, autho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ition, Addison-Wesley,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's  a line of co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measure was first proposed when programs were typed on cards with one line per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es this correspond to statements as in Java which can span several lines or where there can be several statements on one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programs should be counted as part of the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es linear relationship between system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ze and volume of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Lines of cod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lower level the language, the mo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tive the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ame functionality takes more code to implement in a lower-level language than in a high-level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re verbose the programmer, the high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asures of productivity based on lines of code suggest that programmers who write verbose code are more productive than programmers who write compac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roductivity comparison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Function poin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457200" indent="-4572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d on a combination of program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800" indent="-449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inputs and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800" indent="-449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r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800" indent="-449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8800" indent="-449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les used by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weight is associated with each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nction point count is computed by multiplying each raw count by the weight and summing al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Function poin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5000"/>
          </a:bodyPr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nction point count modified by complexity of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Ps can be used to estimate LOC depending on the average number of LOC per FP for a give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C = AVC * number of function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VC is a language-dependent factor varying from 200-300 for assemble language to 2-40 for a 4G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Ps are very subjective. They depend on the estim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utomatic function-point counting is 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Object poin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7000"/>
          </a:bodyPr>
          <a:p>
            <a:pPr marL="452520" indent="-452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 points are an alternative function-related measure to function points when 4Gls or similar languages are used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 points are NOT the same as obje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mber of object points in a program is a weighted estimat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360" indent="-44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umber of separate screens that are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360" indent="-44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umber of reports that are produced by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8360" indent="-44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umber of 3GL modules that must be developed to supplement the 4G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Object point estim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bject points are easier to estimate from a specification than function points as they are simply concerned with screens, reports and 3GL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therefore be estimated at an early point in the development process. At this stage, it is very difficult to estimate the number of lines of code in a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l-time embedded systems, 40-160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/P-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programs , 150-400 LOC/P-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ercial applications, 200-800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/P-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bject points, productivity has been measured between 4 and 50 object points/month depending on tool support and developer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roductivity estimat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Factors affecting productivit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46240" y="1631880"/>
          <a:ext cx="854388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1631880"/>
                    <a:ext cx="854388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457200" indent="-4572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etrics based on volume/unit time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awed because they do not take quality int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tivity may generally be increased at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t of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not clear how productivity/quality metric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e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change is constant then an approach based on counting lines of code is not meaning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Quality and productivit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stimation techniqu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6000"/>
          </a:bodyPr>
          <a:p>
            <a:pPr marL="447840" indent="-4478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no simple way to make an accurate estimate of the effort required to develop a softwar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7920" indent="-440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itial estimates are based on inadequate information in a user requirements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7920" indent="-440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software may run on unfamiliar computers or use new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7920" indent="-440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people in the project may be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cost estimates may be self-fulfi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7920" indent="-4402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estimate defines the budget and the product is adjusted to meet the bud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Software cost estim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11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edicting the resources required for a software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stimation techniqu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gorithmic cost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ert jud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on by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kinson'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cing to 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Algorithmic code modell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ormulaic approach based on historical cost information and which is generally based on the size of the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ussed later in this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xpert judgement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1000"/>
          </a:bodyPr>
          <a:p>
            <a:pPr marL="424440" indent="-4244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e or more experts in both softw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ment and the application domain us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ir experience to predict software costs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cess iterates until some consensus i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4244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vantages:  Relatively cheap estim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od. Can be accurate if experts have direc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erience of similar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4244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advantages:  Very inaccurate if there are n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er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stimation by analog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st of a project is computed by compar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oject to a similar project in the sam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ica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vantages:  Accurate if project data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advantages: Impossible if no comparabl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has been tackled. Needs systematicall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ntained cost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arkinson's Law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oject costs whatever resources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vantages:  No over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advantages: System is usually un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ricing to wi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oject costs whatever the customer has t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nd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vantages: You get the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advantages: The probability that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stomer gets the system he or she wants i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mall. Costs do not accurately reflect the wor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000" spc="-1" strike="noStrike">
                <a:solidFill>
                  <a:srgbClr val="081d58"/>
                </a:solidFill>
                <a:latin typeface="Times New Roman"/>
              </a:rPr>
              <a:t>Top-down and bottom-up estimation</a:t>
            </a:r>
            <a:endParaRPr b="0" lang="en-US" sz="40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of these approaches may be used top-down or 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rt at the system level and assess the overall system functionality and how this is delivered through sub-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rt at the component level and estimate the effort required for each component. Add these efforts to reach a final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Top-down estim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able without knowledge of the system architecture and the components that might be part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es into account costs such as integration, configuration management and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underestimate the cost of solving difficult low-level technical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Bottom-up estimatio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able when the architecture of the system is known and components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urate method if the system has been designed in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underestimate costs of system level activities such as integration and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stimation method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method has strengths and 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on should be based on sever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se do not return approximately the same result, there is insufficient informat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action should be taken to find out more in order to make more accurate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cing to win is sometimes the only applicabl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3520"/>
            <a:ext cx="826632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Fundamental estimation question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much effort is required to complete an ac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much calendar time is needed to complete an ac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total cost of an ac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estimation and scheduling and interleaved managem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xperience-based estimat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ng is primarily experience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new methods and technologies may make estimating based on experience in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bject oriented rather than function-oriente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ient-server systems rather than mainfram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ff the shelf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onent-based software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E tools and program 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ricing to win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6000"/>
          </a:bodyPr>
          <a:p>
            <a:pPr marL="447840" indent="-4478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approach may seem unethical and unbusiness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when detailed information is lacking it may be the only appropriate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oject cost is agreed on the basis of an outline proposal and the development is constrained by that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detailed specification may be negotiated or an evolutionary approach used for syste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Algorithmic cost modell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6000"/>
          </a:bodyPr>
          <a:p>
            <a:pPr marL="401040" indent="-4010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t is estimated as a mathematical function of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t, project and process attributes whos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lues are estimated by project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880" indent="-394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880" indent="-394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is an organisation-dependent constant, B reflects the disproportionate effort for large projects and M is a multiplier reflecting product, process and peopl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commonly used product attribute for cos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on is cod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models are basically similar but wit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erent values for A, B and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stimation accurac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ize of a software system can only be known accurately when it is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veral factors influence the final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of COTS and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gramm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tribution of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the development process progresses then the size estimate becomes more accu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stimate uncertaint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7680" y="1835280"/>
            <a:ext cx="673416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The COCOMO mode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mpirical model based on project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ll-documented, ‘independent’ model which is not tied to a specific software ven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ng history from initial version published in 1981 (COCOMO-81) through various instantiations to COCOM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COMO 2 takes into account different approaches to software development, reuse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COCOMO 81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1758960"/>
          <a:ext cx="8570880" cy="38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8960"/>
                    <a:ext cx="857088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COCOMO 2 level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3600" y="1523880"/>
            <a:ext cx="8326440" cy="412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5000"/>
          </a:bodyPr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COMO 2 is a 3 level model that allows increasingly detailed estimates to be prepared as development prog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rly prototyping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timates based on object points and a simple formula is used for effort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rly design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timates based on function points that are then translated to 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t-architectur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timates based on lines of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arly prototyping leve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s prototyping projects and projects where there is extensive r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d on standard estimates of developer productivity in object points/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es CASE tool use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 NO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1 - %reuse/100 ) ) / P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the effort in person-month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the number of object points an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the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Object point productivit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8640" y="2448000"/>
          <a:ext cx="8034480" cy="193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448000"/>
                    <a:ext cx="803448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Software cost componen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5000"/>
          </a:bodyPr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rdware and softwar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vel and train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ort costs  (the dominant factor in mos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aries of engineers involved in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ial and insurance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3160" indent="-4431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ffort costs must take overheads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ts of building, heating, ligh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ts of networking and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7480" indent="-435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sts of shared facilities (e.g library, staff restaurant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arly design leve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2000"/>
          </a:bodyPr>
          <a:p>
            <a:pPr marL="429120" indent="-4291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es can be made after the requirements have been agr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9120" indent="-4291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d on standard formula for algorithm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6160" indent="-421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6160" indent="-421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PER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CP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US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DIF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REX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CIL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6160" indent="-42192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LO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T/100)) / ATP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6160" indent="-42192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= 2.5 in initial calibration, Size in KLOC, B varies from 1.1 to 1.24 depending on novelty of the project, development flexibility, risk management approaches and the process mat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Multiplier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9040" y="1606320"/>
            <a:ext cx="7804080" cy="4128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0000"/>
          </a:bodyPr>
          <a:p>
            <a:pPr marL="419760" indent="-4197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pliers reflect the capability of the developers, the non-functional requirements, the familiarity with the development platfo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5640" indent="-412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CPX - product reliability and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5640" indent="-412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USE - the reus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5640" indent="-412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DIF - platform difficu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5640" indent="-412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X - personnel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5640" indent="-412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S - personnel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5640" indent="-412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ED - required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5640" indent="-412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CIL - the team support fac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9760" indent="-4197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M reflects the amount of automatically genera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ost-architecture level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360" y="1530000"/>
            <a:ext cx="8186760" cy="4359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1000"/>
          </a:bodyPr>
          <a:p>
            <a:pPr marL="424440" indent="-4244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s same formula as early design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4440" indent="-4244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e of size is adjusted to take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6080" indent="-417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ments volatility.  Rework required to suppor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6080" indent="-4172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nt of possible reuse.  Reuse is non-linear and has associated costs so this is not a simple reduction in 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6080" indent="-4172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Helvetica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LOC = ASLOC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A + SU +0.4DM + 0.3CM +0.3IM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200" indent="-20772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SLOC is equivalent number of lines of new code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LO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the number of lines of reusable code which must be modified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the percentage of design modified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the percentage of the code that is modified 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the percentage of the original integration effort required for integrating the reused softwa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8200" indent="-207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a factor based on the cost of software understanding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s a factor which reflects the initial assessment costs of deciding if software may be reus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depends on 5 scale factors (see next slide). Their sum/100 is added to 1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cedenteness - new project -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velopment flexibility - no client involvement - Very high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e/risk resolution - No risk analysis - V. Low -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am cohesion - new team - nominal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cess maturity - some control - nominal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ale factor is therefore 1.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0">
              <a:spcBef>
                <a:spcPts val="499"/>
              </a:spcBef>
              <a:buNone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The exponent term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xponent scale factor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4120" y="1530360"/>
          <a:ext cx="787896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530360"/>
                    <a:ext cx="78789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6000"/>
          </a:bodyPr>
          <a:p>
            <a:pPr marL="401040" indent="-40104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t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880" indent="-3942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rned with required characteristics of the software product being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 algn="just">
              <a:spcBef>
                <a:spcPts val="700"/>
              </a:spcBef>
              <a:spcAft>
                <a:spcPts val="601"/>
              </a:spcAft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er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880" indent="-394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traints imposed on the software by the hardware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 algn="just">
              <a:spcBef>
                <a:spcPts val="700"/>
              </a:spcBef>
              <a:spcAft>
                <a:spcPts val="601"/>
              </a:spcAft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sonnel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880" indent="-394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pliers that take the experience and capabilities of the people working on the project into accou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-401040" algn="just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880" indent="-394200" algn="just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cerned with the particular characteristics of the software developmen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1040"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Multiplier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roject cost driver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24000" y="1452600"/>
          <a:ext cx="6121440" cy="506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452600"/>
                    <a:ext cx="612144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Effects of cost driver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1320" y="1835280"/>
          <a:ext cx="7040520" cy="450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1835280"/>
                    <a:ext cx="70405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9000"/>
          </a:bodyPr>
          <a:p>
            <a:pPr marL="415080" indent="-415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gorithmic cost models provide a basis fo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ject planning as they allow alternativ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ategies to be com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5080" indent="-415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bedded spacecraf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200" indent="-407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be rel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200" indent="-407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minimise weight (number of chi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200" indent="-407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pliers on reliability and computer constraints 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5080" indent="-41508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200" indent="-407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rget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200" indent="-407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velopment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5200" indent="-4078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ffor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roject plann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Management option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09640" y="1530360"/>
            <a:ext cx="72817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Costing and pric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es are made to discover the cost, to the developer, of producing a softwar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not a simple relationship between the development cost and the price charged to the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oader organisational, economic, political and business considerations influence the price cha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Management options cos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30040" y="2371680"/>
          <a:ext cx="8721720" cy="22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371680"/>
                    <a:ext cx="872172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Option choice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D (use more experienced staff) appears to be the best altern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4586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ever, it has a high associated risk as expreienced staff may be difficult to 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on C (upgrade memory) has a lower cost saving but very low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all, the model reveals the importance of staff experience in 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roject duration and staffing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8000"/>
          </a:bodyPr>
          <a:p>
            <a:pPr marL="410400" indent="-4104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well as effort estimation, managers must estimate the calendar time required to complete a project and when staff will b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0" indent="-4104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endar time can be estimated using a COCOMO 2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760" indent="-40356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DEV = 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PM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(0.33+0.2*(B-1.0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760" indent="-40356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M is the effort computation and B is the exponent computed as discussed above (B is 1 for the early prototyping model). This computation predicts the nominal schedule for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10400" indent="-41040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ime required is independent of the number of people working on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Staffing requiremen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ff required can’t be computed by diving the development time by the required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mber of people working on a project varies depending on the phase of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re people who work on the project, the more total effort is usually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very rapid build-up of people often correlates with schedule slip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ctors affecting productivity include individual aptitude, domain experience, the development project, the project size, tool support and the work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erent techniques of cost estimation should be used when estimat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ftware may be priced to gain a contract and the functionality adjusted to the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2320" y="1606680"/>
            <a:ext cx="8186760" cy="4435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7000"/>
          </a:bodyPr>
          <a:p>
            <a:pPr marL="452520" indent="-452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gorithmic cost estimation is difficult because of the need to estimate attributes of the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COMO model takes project, product, personnel and hardware attributes into account when predicting effor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gorithmic cost models support quantitative optio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520" indent="-45252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ime to complete a project is not proportional to the number of people working on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Software pricing factor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52360" y="1530360"/>
          <a:ext cx="6540840" cy="50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30360"/>
                    <a:ext cx="654084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asure of the rate at which individual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ineers involved in software development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e software and associat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quality-oriented although quality assuranc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a factor in productivity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sentially, we want to measure useful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nctionality produced per time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rogrammer productivity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ze related measures based on some output from the software process. This may be lines of delivered source code, object code instruc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nction-related measures based on an estimate of the functionality of the delivered software. Function-points are the best known of this type of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Productivity measure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ng the size of the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ng the total number of programm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nths which have elap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466560">
              <a:spcBef>
                <a:spcPts val="700"/>
              </a:spcBef>
              <a:buClr>
                <a:srgbClr val="081d58"/>
              </a:buClr>
              <a:buSzPct val="50000"/>
              <a:buFont typeface="Zapf Dingbat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ng contractor productivity (e.g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cumentation team) and incorporating thi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e in overall est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80520" y="263520"/>
            <a:ext cx="7804440" cy="1108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4400" spc="-1" strike="noStrike">
                <a:solidFill>
                  <a:srgbClr val="081d58"/>
                </a:solidFill>
                <a:latin typeface="Times New Roman"/>
              </a:rPr>
              <a:t>Measurement problems</a:t>
            </a:r>
            <a:endParaRPr b="0" lang="en-US" sz="44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3T11:40:05Z</dcterms:created>
  <dc:creator/>
  <dc:description/>
  <dc:language>en-US</dc:language>
  <cp:lastModifiedBy>Mike Tarrani</cp:lastModifiedBy>
  <cp:lastPrinted>2000-08-09T21:22:40Z</cp:lastPrinted>
  <dcterms:modified xsi:type="dcterms:W3CDTF">2001-08-25T02:54:03Z</dcterms:modified>
  <cp:revision>40</cp:revision>
  <dc:subject/>
  <dc:title>Software cost estimation</dc:title>
</cp:coreProperties>
</file>