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18A-6BA4-4268-89F3-F41DB1B8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FD2-9CA0-4B4C-B64D-1E411D28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CA8-A085-4818-8F52-97DBA0C4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13F-FDF3-4FD4-8FD0-CD448AEF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372-9080-4A9C-8B67-CCE8DBD8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979-31CB-44CB-91E0-C4DE04EC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C75-C5B0-4376-A414-6C1BF681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7D6-5229-483D-8573-05B9456A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3F9-A115-4A6C-82D0-2ED561FF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B5D-FEA7-45C8-B28C-D90F6ECB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06E-CDFA-4F83-8275-FDD23FF3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E3E-D348-4FC4-B3E5-8973705A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FEED-F346-4190-B216-A6257680E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04920"/>
            <a:ext cx="792468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ipos D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 acuerdo a la naturaleza de los valores de una variable, estas se clasifican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ualitativa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i sólo se denota cualidad o el tipo de atributo que se obser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uantitativa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i se puede cuantificar la magnitud de la propiedad observ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8600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UESTREO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s el proceso de seleccionar elementos de un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TO U OBSERVACI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La información proporcionada por  cada elemento de la población o mues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82880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CEPTOS BASICOS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DE MUESTR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RCO DE MUESTREO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s la enumeración exhaustiva de todos los elementos de l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LEMENTO DE MUESTREO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s la mínima unidad de una población que posee la información de inter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CEPTOS BASICOS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DE MUESTR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CEPTOS BASICOS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DE MUESTR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ESTRA ALEATORI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Muestra cuyos elementos tienen la misma oportunidad de ser seleccion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ESTRA NO ALEATORIA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s cuando la probabilidad de seleccionar sus elementos es desconocida y no se puede determi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75248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1676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ON TERMINOS EQUIVALENTES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ESTR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L AZAR = MUESTR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LEATORI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 MUESTR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BABILISTIC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 = MUEST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PRESENT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ESTR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O ALEATORI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= MUESTR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 PROBABILISTIC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= MUESTR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RRATICO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= MUESTRA NO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PRESENT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CEPTOS BASICOS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DE MUESTR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36232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UESTREO SIMPLE AL A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 enumeran a todos los elementos de la población y mediante un sorteo o cualquier proceso que garantice la misma oportunidad de seleccionar a un elemento de la población se procede a seleccionar los elementos de la mues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36232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UESTREO SISTEMA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 enumera los elementos dela pobl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 selecciona el primer elemento por sorteo o procedimiento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l resto de los elementos se selecciona cada k-ésimo  su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UESTREO ESTRATIFICA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  divide la población en subgrupos homogéneos (Estra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 enumeran a los elementos de cada  subgru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 toma una muestra de cada estrato usando el muestreo aleatorio si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36232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UESTREO ESTRATIFICA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l muestreo estratificado puede 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Proporcional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: Si la muestra tiene su  composición de estratos igual a la de l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No proporcional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: Si la muestra tiene su  composición de estratos diferente a la de la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UESTREO DE CONGLOMER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vidir la población en diversos grupos o conglomer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leccionar aleatoriamente los conglomer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ntro de los conglomerados se revisan a todos los elementos de cada conglomerado seleccio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ermiten realizar generaliz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 puede determinar el grado de confiablilidad y el margen de error de los resultados ob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ermite encontrar un balance costo-benef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ipos D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219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143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000160"/>
          <a:ext cx="8382240" cy="42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t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ntit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p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Resid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ón de la calidad de un product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favorito de una person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mensual en gasolin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accidentes al día en cierto crucer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de un producto enlat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Los costos pueden ser muy altos a medida que  se exige una mayor precisión en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 mayor complejidad del proceso de muestreo mayor complejidad en el tratamiento estadístico de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No siempre es posible enumerar a l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No siempre es posible aplicar un proceso de seleccipon probabilístico si  el estudio requiere el consentimiento de los sujetos para participar en tal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 NO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UESTREO SIMPLE CASUA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ambién conocido como muestreo errá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leccionar los elementos de una población conforme se vayan haciendo disponib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 NO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UESTREO DE CUOT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 cada recopilador de datos se le asigna un número de objetos o sujetos con cierta características. El recopilador completa su cuota con los elementos de la población con tales características que están disponib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 NO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UESTREO INTENCIONAL O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JUICI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e seleccionan los casos típicos en una población de acuerdo a criterios de un o varios exper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 NO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on económicos y rápidos de llevar a cab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No requieren de personal experto en análisis estadís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MUESTREOS  NO PROBABILIS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6765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esentan un serio obstáculo a la ge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No es posible determinar el grado de confiabilidad ni el margen de error de los resultados aportados por una muestra de este t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s variables cuantitativas se clasifican a su vez e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Discreta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uando puede tomar un conjunto numerable de valores (generalmente son números enter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inuas: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cuando en un rango de valores puede asumir un número infinito de val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066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828800"/>
          <a:ext cx="8610840" cy="4708440"/>
        </p:xfrm>
        <a:graphic>
          <a:graphicData uri="http://schemas.openxmlformats.org/drawingml/2006/table">
            <a:tbl>
              <a:tblPr/>
              <a:tblGrid>
                <a:gridCol w="4267440"/>
                <a:gridCol w="434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accidentes al día en cierto crucer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llamadas al día que recibe un conmutado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de terremotos que ocurren en México al Añ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de un producto enlat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que tarda una herida en cicatriz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 de un tornill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ia recorrida por una persona para tomar un autobú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Nivel De Medición De Una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finición: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A la capacidad de extraer información para una variable se llama nivel de med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xisten cuatro niveles de medición para una variable: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Nominal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Ordinal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Interval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roporción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 Los niveles de Intervalo y Proporción se agrupan en el nivel numé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Nivel De Medición De Una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ominal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uando solo se puede decir que atributo o cualidad está pres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ner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¿Conoce el pan marca 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ado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¿Ha padecido alguna vez de migrañ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Nivel De Medición De Una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rdinal :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Cuando además de determinar un atributo  o cualidad también el orden o jerarquía está present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pinión acerca de la calidad de u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uesto de un empleado en una compañ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sición que tuvo al final de un torneo 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qu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 De Medición De Una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752480"/>
            <a:ext cx="8305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uméric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: Cuando se puede cuantificar la propiedad observada. Es decir, un  valor numérico refleja la magnitud de la propiedad observ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sumo diario, en litros, de gasoli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 un au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 De Medición De Una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752480"/>
            <a:ext cx="8305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atura de un jugador de basket-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iempo que tarda en llegar una carta a su des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ivel de ruido en cierto sector de la ciu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447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15:33:39Z</dcterms:created>
  <dc:creator>UNIVERSIDAD DE MONTERREY</dc:creator>
  <dc:description/>
  <dc:language>en-US</dc:language>
  <cp:lastModifiedBy>UNIVERSIDAD DE MONTERREY</cp:lastModifiedBy>
  <dcterms:modified xsi:type="dcterms:W3CDTF">2000-01-22T21:18:30Z</dcterms:modified>
  <cp:revision>7</cp:revision>
  <dc:subject/>
  <dc:title>Presentación de PowerPoint</dc:title>
</cp:coreProperties>
</file>