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AFD-4FFA-4408-899A-C2DAA04B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DF6-67B9-4680-8CF2-4882B5DD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765-63EB-4A73-8D69-C835C052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C8F-5626-403E-87F4-AF4ECEC0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A67-EEEA-43AB-A97D-F59F49BE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237-53BA-4D6D-979A-4F06EB48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2AC-5C30-48D9-AE5E-B1C4A836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6F2-767F-4F9B-821D-16A499F2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C3B-6511-4FF2-A2A1-10DA66B1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B13-DD91-4259-B292-FF3A98A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5E3-FAC5-4814-B303-46EB5E31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9FE-A41A-492B-A483-0599275E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559F-6ED0-4238-9879-0594B97CC0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onceptos Básic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72428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adíst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efinición: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A una medida o valor característico o representativo de una muestra se le llama Estadístico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Los ingresos medios mensuales de una muestra de 600 habitantes de Garza Garcí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adíst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porcentaje de una muestra de 900 ciudadanos de Monterrey que se oponen a la apertura de Casino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precio medio de reventa de un  grupo de 150 autos compactos de entre 2 y 5 años que fueron muestreado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porcentaje de un grupo de 450 estudiantes universitarios encuestados  que poseen una computador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Tipos De Vari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De acuerdo a la naturaleza de los valores de una variable, estas se clasifican en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Cualitativas: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si sólo se denota cualidad o el tipo de atributo que se observ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Cuantitativas: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si se puede cuantificar la magnitud de la propiedad observad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Tipos De Vari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2286000"/>
          <a:ext cx="8381880" cy="3854520"/>
        </p:xfrm>
        <a:graphic>
          <a:graphicData uri="http://schemas.openxmlformats.org/drawingml/2006/table">
            <a:tbl>
              <a:tblPr/>
              <a:tblGrid>
                <a:gridCol w="4191120"/>
                <a:gridCol w="4190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ualitativa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uantitativa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3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upación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ugar de Residencia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pinión de la calidad de un producto.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lor favorito de una persona.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dad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asto mensual en gasolina.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úmero de accidentes al día en cierto crucero.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so de un producto enlatado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Tipos De Vari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Las variables cuantitativas se clasifican a su vez en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Discretas: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uando puede tomar un conjunto numerable de valores (generalmente son números enteros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Continuas: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cuando en un rango de valores puede asumir un número infinito de valor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Tipos De Vari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2286000"/>
          <a:ext cx="8382240" cy="42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screta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inua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úmero de accidentes al día en cierto crucero.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úmero de llamadas al día que recibe un conmutador.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mero de terremotos que ocurren en México al Año.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so de un producto enlatado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empo que tarda una herida en cicatrizar.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itud de un tornillo.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stancia recorrida por una persona para tomar un autobús.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Nivel De Medición De Una Vari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efinición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: A la capacidad de extraer información para una variable se llama nivel de medició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xisten cuatro niveles de medición para una variabl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Nivel De Medición De Una Vari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Nominal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: Cuando solo se puede decir que atributo o cualidad está present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Genero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¿Conoce el pan marca X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stado Civi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¿Ha padecido alguna vez de migraña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Nivel De Medición De Una Vari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rdina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: Cuando además de determinar un atributo  o cualidad también el orden o jerarquía está presente 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Opinión acerca de la calidad de un product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uesto de un empleado en una compañía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osición que tuvo al final de un torneo un equip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Nivel De Medición De Una Vari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Numéric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: Cuando se puede cuantificar la propiedad observada. Es decir, un  valor numérico refleja la magnitud de la propiedad observada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Consumo diario, en litros, de gasolina de un aut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statura de un jugador de basket-bal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Tiempo que tarda en llegar una carta a su destin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Nivel de ruido en cierto sector de la ciudad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Medi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Definición: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al proceso de extraer información acerca de una propiedad se le llama medició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Tomar tiempo de espera para ser atendido en un banc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reguntar a una persona que le pareció el trato que tuvo al ser atendido en una tienda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plicar una prueba de opción múltiple para determinar el grado de conocimiento de un estudiante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efinición: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a una característica cambiante de un sujeto a otro y que es objeto de estudio se le denomina variabl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* Edad de una persona    *  ocupación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* Genero                          *  ingres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Valores De Una Vari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efinición: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es el conjunto de posibles atributos asociados a una característica medida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jemplos:       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Variable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Val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dad de un elector      18, 19, 20,.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                                       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(en años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Valores De Una Vari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Variable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Valores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Genero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                Femenino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                                       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Masculin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Tiempo de traslado       1, 2, 3, ...,10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de Casa a la UDEM       (en minuto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a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efinición: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Es un valor particular observado en un sujeto u objeto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encuestado número 25 es de sexo masculino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estudiante encuestado número 68 no tiene computador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a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entrevistado número 300 está en contra de la apertura de casinos en Monterre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La edad del estudiante 234 es de 19 añ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Juan tarda 25 minutos en ir de su casa a la UDEM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Parámet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efinición: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A una medida o valor característico o representativo de una población se le llama Parámetro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Los ingresos medios mensuales de los habitantes de Garza Garcí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Parámet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porcentaje de ciudadanos de Monterrey que se oponen a la apertura de Casino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precio medio de reventa de un auto compacto de entre 2 y 5 año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porcentaje de estudiantes universitarios de la localidad que poseen una computador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Índice de natalidad del país X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20:54:54Z</dcterms:created>
  <dc:creator>ROBERTO HERNANDEZ RAMIREZ</dc:creator>
  <dc:description/>
  <dc:language>en-US</dc:language>
  <cp:lastModifiedBy>UNIVERSIDAD DE MONTERREY</cp:lastModifiedBy>
  <dcterms:modified xsi:type="dcterms:W3CDTF">2000-01-22T15:43:17Z</dcterms:modified>
  <cp:revision>8</cp:revision>
  <dc:subject/>
  <dc:title>Medición Y Variables</dc:title>
</cp:coreProperties>
</file>