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613-CD4F-4489-B402-67B034C9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413-8B5F-4AED-947D-62769077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9C4-93BB-40D5-94DD-3E797FE7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F26-E364-46A6-A57B-BAEA792A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4A02-894B-418C-BDCB-49D6B85A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46C-616F-4FB8-9220-8F52C5C9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76A-29E2-4308-8B67-ADD9FDEF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036-5A01-4992-9F77-FF69336F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C359-C7EE-4261-9F41-21DC9569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56E-7E13-4B08-83F9-576AB3FF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333-C93A-4BF8-A274-A67344ED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F71-BF36-4381-A7FE-F69D70FA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200" y="6502320"/>
            <a:ext cx="4064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B115-6734-4720-9D49-3DC856145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7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2840" y="774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apítulo 1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19200" y="3355920"/>
            <a:ext cx="5349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 O que é um sistema operac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 História dos sistemas opera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 O zoológico de sistemas opera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 Revisão de hardware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Conceitos sobre sistemas opera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6 Chamadas a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7 Estrutura dos sistemas operacion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6C9-B5E7-4166-9298-4FDACE10E2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7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istemas operacionai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7840" y="961920"/>
            <a:ext cx="823896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HELL - INTERFACE ENTRE O USUÁRIO E O SIST OPER 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KERNEL - NÚCLEO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CESSO - PROGRAMA EM EXECUÇÃ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IMITIVAS -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COMPONENTES DO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LGORITMOS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INTAXE -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ÍMBOL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MÂNTICA  -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IGNIFICADO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CFF1-951F-4210-A63A-66C8E98D55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visão Sobre Hardware (3)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800" y="5486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ípica hierarquia de memóri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356400" indent="-137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números são apenas aproxim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71520" y="1214280"/>
            <a:ext cx="8343720" cy="33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C55-1405-4D3C-B1E3-326C46B9C9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onceitos Sobre Sistemas Operacionais (1)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4409640"/>
            <a:ext cx="77724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Uma árvore de processo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riou dois processos filhos, B e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criou três processos filhos, D, E, e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17920" y="1373040"/>
            <a:ext cx="3984480" cy="29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2BE-F403-4426-8949-4C202803DB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onceitos Sobre Sistemas Operacionais (2)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57600" y="5641560"/>
            <a:ext cx="92012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a) pode levar a deadlock. (b) um deadlock.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73040" y="1500120"/>
            <a:ext cx="8228160" cy="34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7DE-D6C8-4508-A998-602DD155E6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onceitos Sobre Sistemas Operacionais (3)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59245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Sistema de arquivos de um departamento universitário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73320" y="1246320"/>
            <a:ext cx="627372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DAD-4633-4066-819B-4C0F64C40B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onceitos Sobre Sistemas Operacionais (4)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4520" y="468108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ntes da montagem,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297000" indent="-114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quivos na unidade de disco flexível não são acess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pois da montagem,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297000" indent="-114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es fazem parte da hierarquia de arqu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34920" y="1523880"/>
            <a:ext cx="7321680" cy="281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24C5-A910-47AE-8C25-24E45285DD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Times New Roman"/>
              </a:rPr>
              <a:t>Chamada Ao Sistem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5524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INTERFACE ENTRE O SIST OPER E OS PROGRAMAS DOS USUÁRIO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TRAP - INSTRUÇÃO PARA PASSAR DO MODO USUÁRIO PARA MODO NÚCLE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4A2-53C3-43C9-B673-68BCD6C302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744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imes New Roman"/>
              </a:rPr>
              <a:t>Chamadas Ao Sistema Para Gerenciamento De Processo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0" b="77843"/>
          <a:stretch/>
        </p:blipFill>
        <p:spPr>
          <a:xfrm>
            <a:off x="237960" y="1631880"/>
            <a:ext cx="85345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A2D-F80D-41C4-A176-541AA81244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2240" y="-360"/>
            <a:ext cx="855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Times New Roman"/>
              </a:rPr>
              <a:t>Chamadas Ao Sistema Para Diversas Tarefa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79296" r="0" b="-5014"/>
          <a:stretch/>
        </p:blipFill>
        <p:spPr>
          <a:xfrm>
            <a:off x="399960" y="1647720"/>
            <a:ext cx="8534520" cy="21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9F9-F7B2-4848-9D2D-C2495FCFDA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hamada EXEC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5240" y="1308240"/>
            <a:ext cx="84582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 interior de um shell: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# define TRUE 1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le (TRUE) {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* repita sempre */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_prompt( )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* mostra prompt */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_command (command, parameters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* entrada do terminal */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(fork() != 0) {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* cria processo filho */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* Parent code */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itpid( -1, &amp;status, 0)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/* aguarda o processo filho acabar */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 else {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* Child code */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cve (command, parameters, 0)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* executa o comando */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3C4-AEBB-4B1C-9F7B-D99DA72C40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09320" y="4419720"/>
            <a:ext cx="5613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icroarquitetura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dores + data path(caminho dos d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98600" y="1228680"/>
            <a:ext cx="5505480" cy="307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5C4-128D-4D19-8CF6-C81E754009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strutura De Sistemas Operacionais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515268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strutura do VM/370 com o CM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2360" y="1719360"/>
            <a:ext cx="8624880" cy="23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FFDC-94FF-4D83-82B0-62EBEADE8D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strutura De Sistemas Operacionais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45960" y="5406840"/>
            <a:ext cx="5892840" cy="8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O modelo cliente-servidor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0520" y="2077920"/>
            <a:ext cx="8259480" cy="222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8F2-064A-4A93-BC13-288F6C4E5A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strutura De Sistemas Operacionais (5)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200" y="5067000"/>
            <a:ext cx="84582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O modelo cliente-servidor em um sistema distribuíd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5480" y="1976400"/>
            <a:ext cx="7790040" cy="209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1CF-F0FF-4DD3-AEBE-E9EAD81247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0000"/>
                </a:solidFill>
                <a:latin typeface="Times New Roman"/>
              </a:rPr>
              <a:t>Unidades Métrica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5880" y="1727280"/>
            <a:ext cx="8302680" cy="244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749680" y="5022720"/>
            <a:ext cx="35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Os prefixos mét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5E4-F6AA-4A4D-9AC7-F6B6DECAE9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Times New Roman"/>
              </a:rPr>
              <a:t>O Que É Um Sistema Operacional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É uma máquina estendida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ulta os detalhes de hardware que devem ser execu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esenta ao usuário uma máquina virtual, mais fácil de u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É um gerenciador de recurso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 programa obtém seu tempo de uso d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 programa ocupa espaço do re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8E5-19BA-4751-9CF9-80772EF11C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História Dos Sistemas Operacionais (1)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8400" y="4482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Sistema em lote antig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a os cartões para o 14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ote de jobs em f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ca a fita no 7094 que faz o process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7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ca a fita no 1401 que imprime as saí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7960" y="1371600"/>
            <a:ext cx="890604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2BF3-AD67-4DE2-9ABA-35C33E346D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7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História Dos Sistemas Operacionais (2)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38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meira Geração 1945 - 1955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álvulas, painéis de 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gunda Geração 1955 - 1965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stores, sistemas em lote(JOB) - FI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rceira Geração  1965 – 1980 -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s e MULTIPROGRAMAÇÃO-PARTIÇÃO - (COMPARTILHAMENTO NO ESPAÇ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SHARING - (COMPART TEMP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arta Geração 1980 – present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putadores pesso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E5C-753F-4635-90CE-ED57AF1B32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História Dos Sistemas Operacionais (3)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59306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strutura de um job típico – 2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°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geração - FILA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23657" t="39721" r="13996" b="33593"/>
          <a:stretch/>
        </p:blipFill>
        <p:spPr>
          <a:xfrm>
            <a:off x="1447920" y="1600200"/>
            <a:ext cx="6858000" cy="415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9D5-6A06-4D2C-8F00-2D4AF12BE9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História Dos Sistemas Operacionais (4)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19000" y="459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Sistema multiprogramado -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marL="137160" indent="-1371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SPOOLING -  (DISCO) 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297000" indent="-114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jobs na memória –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76440" y="1455840"/>
            <a:ext cx="4394160" cy="32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76F9-C283-4CF5-8665-009F89A22E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0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istemas Operacionai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52520"/>
            <a:ext cx="77724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IME SHARING - COMPARTILHAMENTO DE TEMPO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ARTIÇÕES - COMPARTILHAMENTO DE ESPAÇO - MULTIPROGRAMAÇÃO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LGORITMO - CONJUNTO DE PRIMITIVA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ITS - BYTES - ANSI - ASCII - TABELA - 127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U - ULA - UC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IST MONOPROCESSADOS - FILAS - JOB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IME SLICE - INTERVALO DE TEMPO 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2E5-8275-4D2E-A8DF-CB2FEC9611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2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visão Sobre Hardware (1)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onentes de um computador pessoa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8720" y="1612800"/>
            <a:ext cx="7601040" cy="3035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91000" y="1533600"/>
            <a:ext cx="733320" cy="1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56080" y="145908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997760" y="4570560"/>
            <a:ext cx="32868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29040" y="44942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2601-ABBC-4847-B215-16A4311EFE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17:50:49Z</dcterms:created>
  <dc:creator>Steve  Armstrong</dc:creator>
  <dc:description/>
  <dc:language>en-US</dc:language>
  <cp:lastModifiedBy>Francisco</cp:lastModifiedBy>
  <cp:lastPrinted>2001-01-13T18:08:51Z</cp:lastPrinted>
  <dcterms:modified xsi:type="dcterms:W3CDTF">2004-07-06T16:12:45Z</dcterms:modified>
  <cp:revision>47</cp:revision>
  <dc:subject/>
  <dc:title>Introduction</dc:title>
</cp:coreProperties>
</file>