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962-8B4E-47BD-8F01-0DF643EC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320" y="346464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5ACA-9413-413B-81D3-9C4E628C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144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7FC8-C10E-4637-A90B-D4B4FCB16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2988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93440" y="106632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32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2988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93440" y="3464640"/>
            <a:ext cx="24411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454-5DC5-49C5-B0E8-2D85E854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4F1B-4798-423A-9E35-2980B7BB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8CC3-8467-49EA-94D1-2AACD024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796-B12B-4779-B5D5-D68E0A47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2B86-2A8A-4553-B5D7-533074A4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320" y="0"/>
            <a:ext cx="77533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A451-B068-487B-9F23-9A781891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8B1B-F8C7-4538-999A-DD73DBA5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1440" y="346464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4315-D39F-4B2E-914C-FB775DF5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1440" y="1066320"/>
            <a:ext cx="369972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320" y="3464640"/>
            <a:ext cx="7581960" cy="218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1B9-F54E-4DCB-9479-7D7C03D6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Click to edit the title text format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"/>
          <p:cNvSpPr/>
          <p:nvPr/>
        </p:nvSpPr>
        <p:spPr>
          <a:xfrm>
            <a:off x="177840" y="76320"/>
            <a:ext cx="609480" cy="6705360"/>
          </a:xfrm>
          <a:prstGeom prst="rect">
            <a:avLst/>
          </a:prstGeom>
          <a:gradFill rotWithShape="0">
            <a:gsLst>
              <a:gs pos="0">
                <a:srgbClr val="011348"/>
              </a:gs>
              <a:gs pos="100000">
                <a:srgbClr val="0640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-1828080" y="2064600"/>
            <a:ext cx="4587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ational Science Foun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81080" y="6161040"/>
            <a:ext cx="581040" cy="61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lizabeth VanderPutte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Program Director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Research on Learning and Education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evanderp@nsf.gov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"/>
            <a:ext cx="7924680" cy="55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753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457200"/>
            <a:ext cx="758196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Science of Learning</a:t>
            </a:r>
            <a:br>
              <a:rPr sz="3200"/>
            </a:b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Integrated, Four Quadrant Continuum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990720" y="1752480"/>
            <a:ext cx="7467480" cy="3581280"/>
            <a:chOff x="990720" y="1752480"/>
            <a:chExt cx="7467480" cy="3581280"/>
          </a:xfrm>
        </p:grpSpPr>
        <p:sp>
          <p:nvSpPr>
            <p:cNvPr id="48" name=""/>
            <p:cNvSpPr/>
            <p:nvPr/>
          </p:nvSpPr>
          <p:spPr>
            <a:xfrm>
              <a:off x="9907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3059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4771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6483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819520" y="1752480"/>
              <a:ext cx="152280" cy="53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90720" y="1752480"/>
              <a:ext cx="7467480" cy="3581280"/>
              <a:chOff x="990720" y="1752480"/>
              <a:chExt cx="7467480" cy="3581280"/>
            </a:xfrm>
          </p:grpSpPr>
          <p:sp>
            <p:nvSpPr>
              <p:cNvPr id="54" name=""/>
              <p:cNvSpPr/>
              <p:nvPr/>
            </p:nvSpPr>
            <p:spPr>
              <a:xfrm>
                <a:off x="46483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8195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9907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71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305920" y="4800240"/>
                <a:ext cx="152280" cy="53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" name=""/>
              <p:cNvGrpSpPr/>
              <p:nvPr/>
            </p:nvGrpSpPr>
            <p:grpSpPr>
              <a:xfrm>
                <a:off x="990720" y="1752480"/>
                <a:ext cx="7467480" cy="3581280"/>
                <a:chOff x="990720" y="1752480"/>
                <a:chExt cx="7467480" cy="3581280"/>
              </a:xfrm>
            </p:grpSpPr>
            <p:grpSp>
              <p:nvGrpSpPr>
                <p:cNvPr id="60" name=""/>
                <p:cNvGrpSpPr/>
                <p:nvPr/>
              </p:nvGrpSpPr>
              <p:grpSpPr>
                <a:xfrm>
                  <a:off x="1143000" y="2285640"/>
                  <a:ext cx="7315200" cy="3048120"/>
                  <a:chOff x="1143000" y="2285640"/>
                  <a:chExt cx="7315200" cy="3048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>
                    <a:off x="11430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9718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48006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6629400" y="2285640"/>
                    <a:ext cx="1828800" cy="304812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990720" y="1752480"/>
                  <a:ext cx="7315200" cy="3047760"/>
                  <a:chOff x="990720" y="1752480"/>
                  <a:chExt cx="7315200" cy="3047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9907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28195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46483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6477120" y="1752480"/>
                    <a:ext cx="1828800" cy="3047760"/>
                  </a:xfrm>
                  <a:prstGeom prst="rect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>
                  <a:off x="1219320" y="2361960"/>
                  <a:ext cx="1447560" cy="228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Brain Research As Foundation for Research on Learn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971800" y="2361960"/>
                  <a:ext cx="175248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Fundamental Research on Learning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3880" y="4860720"/>
                  <a:ext cx="304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3505320" y="4860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800600" y="2285640"/>
                  <a:ext cx="160020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Research on Learning in Formal and Informal Educational Setting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6629400" y="2285640"/>
                  <a:ext cx="1523880" cy="173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ff"/>
                      </a:solidFill>
                      <a:latin typeface="Century Gothic"/>
                    </a:rPr>
                    <a:t>Research on Learning in Complex Educational System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34120" y="4860720"/>
                  <a:ext cx="457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II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162920" y="4860720"/>
                  <a:ext cx="5331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8000"/>
                      </a:solidFill>
                      <a:latin typeface="Times New Roman"/>
                    </a:rPr>
                    <a:t>IV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8" name=""/>
          <p:cNvSpPr/>
          <p:nvPr/>
        </p:nvSpPr>
        <p:spPr>
          <a:xfrm>
            <a:off x="2209680" y="554976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general) time horizon to use; micro/macro sc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5200" y="5791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218960" y="579132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1460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342680" y="4800600"/>
            <a:ext cx="685800" cy="83808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1295280"/>
            <a:ext cx="914400" cy="99072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590200" y="4723560"/>
            <a:ext cx="685800" cy="83844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6247800" y="4800600"/>
            <a:ext cx="685800" cy="838080"/>
          </a:xfrm>
          <a:prstGeom prst="uturnArrow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19320" y="5943600"/>
            <a:ext cx="7391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c0128"/>
                </a:solidFill>
                <a:latin typeface="Century Gothic"/>
              </a:rPr>
              <a:t>Any quadrant may serve as the generator of research hypotheses for another quadrant (as appropriate) and provide context and conditions for testing a range of hypothe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219320" y="1752480"/>
            <a:ext cx="79246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Other Research Programs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066320"/>
            <a:ext cx="758196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ERI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igital Librari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pplied Research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Innovation and Organizational Change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219320" y="1219320"/>
            <a:ext cx="79246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e00"/>
                </a:solidFill>
                <a:latin typeface="Garamond"/>
              </a:rPr>
              <a:t>Conditions in which people learn differently</a:t>
            </a:r>
            <a:endParaRPr b="1" lang="en-US" sz="36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58196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ransford (86)  Teachable agent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Kafai (123)  Design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ienkowski (203) Representations of genetic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hank (165) Chemsense 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e (96)   Virtual World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nn (90) Authentic Experimentation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chbacher (200) Inquiry Learning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e (54) Linguistically diverse student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ewis (130) Teacher Learning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Wineberg (196) Argumentation in social &amp;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physical scienc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19320" y="1219320"/>
            <a:ext cx="792468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ae00"/>
                </a:solidFill>
                <a:latin typeface="Garamond"/>
              </a:rPr>
              <a:t>Children can learn sooner, deeper and better </a:t>
            </a:r>
            <a:br>
              <a:rPr sz="3600"/>
            </a:br>
            <a:endParaRPr b="1" lang="en-US" sz="36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758196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 (153) High achievement is possibl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arraher (88) Early Algebra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her (136) Problem solving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obb (91) Statistics and Technology intensive class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chauble (166) Statistical distribution models 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etz (141) Children’s Scientific Inquiry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Grotzer (114) Complex Causality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Improved and More Accurate Assessments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371600"/>
            <a:ext cx="758196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Quellmalz (24) Cognitive and Content demands of large scale assessment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(224) Item developmen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unt (122) Assessing “facets” of knowledg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Chabbott (4)  Knowing What Students Know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Zollman (241) Models Based Assessment in Physic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Edelson (101) On-line portfolio assessment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Nelson-Barber (Cultural Validity of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ests)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  </a:t>
            </a: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Nature of systems and of context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218960"/>
            <a:ext cx="7581960" cy="44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emillard (162)  Urban educa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arton (79) Urban homeless childre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Rodriquez (163) Inquiry science/multicultural educa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illane (180) Distributed Leadership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oney (119) Ubiquitous computing in urban school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200"/>
                </a:solidFill>
                <a:latin typeface="Garamond"/>
              </a:rPr>
              <a:t>Issues in equity, socioeconomic status, and opportunity to learn</a:t>
            </a:r>
            <a:r>
              <a:rPr b="0" lang="en-GB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TIMSS-R and Benchmarking Studie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Kim (15) Urban Minority &amp; Poor students can achiev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Davis (209) Mathematical Literacy for African American Student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Blau (83) Talent Loss and Schooling Los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mith (29) Retention of SMET majors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-26064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Warren (239) Explicit Instruction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228600"/>
            <a:ext cx="7753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e00"/>
                </a:solidFill>
                <a:latin typeface="Garamond"/>
              </a:rPr>
              <a:t>New Avenues of Research</a:t>
            </a:r>
            <a:endParaRPr b="1" lang="en-US" sz="3200" spc="-1" strike="noStrike">
              <a:solidFill>
                <a:srgbClr val="00ae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581960" cy="41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Anderson (199) Eye-movement/mathematical problem solving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Spelke (236) Sources of mathematical thinking (exact vs estimation)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Huttenlocher (216) Spatial Competence</a:t>
            </a:r>
            <a:endParaRPr b="1" lang="en-US" sz="28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Jones (217) Nanotechnology and science inquiry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icard (229) Computers and Emotions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9:05:05Z</dcterms:created>
  <dc:creator>Eric Hamilton</dc:creator>
  <dc:description/>
  <dc:language>en-US</dc:language>
  <cp:lastModifiedBy>evanderp</cp:lastModifiedBy>
  <cp:lastPrinted>2001-11-10T18:30:14Z</cp:lastPrinted>
  <dcterms:modified xsi:type="dcterms:W3CDTF">2001-11-10T18:37:53Z</dcterms:modified>
  <cp:revision>94</cp:revision>
  <dc:subject/>
  <dc:title>No Slide Title</dc:title>
</cp:coreProperties>
</file>