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9291638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DB3C-CA3B-4808-9B46-10EC003F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8C0-2732-4E80-8297-6AD753D2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BBB9-6EB8-42F1-A550-9E20EFEC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D408-ABC9-4B04-A7B8-90F70E7B6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F2CEB-A37E-4001-8A7C-ABF94944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AB48F-5FC9-4FDE-AD96-1AFB7B3D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2F43-B4BE-42B4-A3E4-6B05B7F5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377C-3717-4D19-B0D3-6B3BBA88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7E43-1A1E-4AB2-B21B-E62731CD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909E1-BB8A-462E-A470-4F5E71282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E0F8A-5AA0-4BA7-B448-846A3149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B8B-9664-441A-BF08-734805D0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DFEA-11F1-481F-8804-EF6394A0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C0EC-BD3A-4DDC-B924-36C25F38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24B3-CEAE-4E11-8510-D333AADF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4BDB-B99F-4BE1-A080-545283C6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79C9-9E9E-4793-8E39-AC32B7E72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B25A-FEF3-42D7-AA32-958F6B6A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4A2-E5B5-4F64-9256-B0F858849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CA66-9B85-4285-9AAF-A3A3FECE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90BD-E625-4422-BACC-49C4213C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F9D6-E2FD-4893-B8F6-32E0CE93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8F33-F3DB-4B2C-96FA-108767A2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F9BD-6252-487F-8148-5C62638C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799"/>
              </a:spcBef>
              <a:buClr>
                <a:srgbClr val="4d4d4d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584000" indent="-226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E44A-316C-48CB-AC6C-98AAC3C6A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d4d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A26A-F909-4BAB-8D25-441452980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601"/>
              </a:spcBef>
              <a:buClr>
                <a:srgbClr val="4d4d4d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6705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Proposed</a:t>
            </a:r>
            <a:br>
              <a:rPr sz="6000"/>
            </a:br>
            <a:r>
              <a:rPr b="0" lang="en-US" sz="6000" spc="-1" strike="noStrike">
                <a:solidFill>
                  <a:srgbClr val="ff0066"/>
                </a:solidFill>
                <a:latin typeface="Arial"/>
              </a:rPr>
              <a:t>VAT expansion and rate hike </a:t>
            </a:r>
            <a:endParaRPr b="0" lang="en-US" sz="6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90360" y="50292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 Unicode MS"/>
              </a:rPr>
              <a:t>Kontra-KulimVAT Assembly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Unicode MS"/>
              </a:rPr>
              <a:t>Balay Kalinaw</a:t>
            </a:r>
            <a:endParaRPr b="0" i="1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 Unicode MS"/>
              </a:rPr>
              <a:t>February 11, 2005</a:t>
            </a:r>
            <a:endParaRPr b="0" i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88620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 Unicode MS"/>
              </a:rPr>
              <a:t>The ‘tsunami’ of GMA’s new taxes </a:t>
            </a:r>
            <a:endParaRPr b="0" lang="en-US" sz="3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7391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ale or importation of agricultural products in their original form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ale or importation of coal and natural ga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ales of cooperatives (agricultural, electric, multi-purpose, etc.)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ease of residential unit with monthly rental not exceeding P8,000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ale, importation of petroleum product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rvices rendered by medical and legal professional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Examples of VAT-exempt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goods and servic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Pending VAT bill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73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B 3555 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ne-time increase in the VAT rate by 20% from 10% to 12%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ailroaded in Congress Jan. 27 with a vote of 126-11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esently pending in the Senate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B 3705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ifting of exemptions on power, oil, shipping, doctors and lawyers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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esently being deliberated in Congress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5280" y="761760"/>
            <a:ext cx="56390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Arial Unicode MS"/>
              </a:rPr>
              <a:t>Why should we oppose the proposed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Arial Unicode MS"/>
              </a:rPr>
              <a:t>VAT bills?</a:t>
            </a:r>
            <a:endParaRPr b="0" lang="en-US" sz="49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7391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VAT is regressive and hits the poor the most. An increase and expansion will reinforce government’s regressive tax structure.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609480"/>
            <a:ext cx="239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66"/>
                </a:solidFill>
                <a:latin typeface="Arial Unicode MS"/>
              </a:rPr>
              <a:t>1</a:t>
            </a:r>
            <a:endParaRPr b="0" lang="en-US" sz="15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DOF’s twisted logic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Department of Finance (DOF) insists that VAT is progressive since it taxes  consumption (i.e., “the more you consume, the more tax you pay”)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s violates the basic principle of progressive taxation (Adam Smith) that taxes should be based on “ability to pay”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nce VAT hits everyone equally, those with more income pay proportionally less than those with less income. Thus, it hits the poor the most.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DOF’s twisted logic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OF excludes minimum wage earners from the “poor,” thereby excluding 3,479,499 families from its study.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OF’s “poor” actually have negative savings, thus any added tax burden would be criminal.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OF’s assumed additional VAT burden is too low (P35.12B when it should be P50.17B). The 20% VAT rate hike translates to a monthly burden of P123.6 for the poor.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Of 230 economic sectors…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66 are VAT-liable (72%)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Only 54 are VAT-exempt (23%)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10 are partially exempt (4%)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orst is yet to come with HB 3705 which means an additional 12% tax on socially sensitive oil and electricity rates.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Government’s increasing dependence on VAT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ational tax revenues by tax type and VAT share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n billions of pesos, 1993-2003 (2-year intervals)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09480" y="2743200"/>
          <a:ext cx="7010640" cy="3429000"/>
        </p:xfrm>
        <a:graphic>
          <a:graphicData uri="http://schemas.openxmlformats.org/drawingml/2006/table">
            <a:tbl>
              <a:tblPr/>
              <a:tblGrid>
                <a:gridCol w="1905120"/>
                <a:gridCol w="914400"/>
                <a:gridCol w="838080"/>
                <a:gridCol w="838440"/>
                <a:gridCol w="838080"/>
                <a:gridCol w="838080"/>
                <a:gridCol w="83844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y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x revenu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 Dir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 Indir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o/w V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VAT to indir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28.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29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36.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37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40.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47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VAT to all tax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19.2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18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21.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21.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21.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25.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609480"/>
            <a:ext cx="239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66"/>
                </a:solidFill>
                <a:latin typeface="Arial Unicode MS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8" name=""/>
          <p:cNvSpPr/>
          <p:nvPr/>
        </p:nvSpPr>
        <p:spPr>
          <a:xfrm>
            <a:off x="1496880" y="2819520"/>
            <a:ext cx="59706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Honest, tax-paying consumers will shoulder the cost of low VAT collections due to inefficiencies and exemption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High VAT leakag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illions in annual VAT leakage traced to inefficiencies in administration and corruption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verage leakage estimated at 30% from 1998-2002 by the National Tax Research Center (NTRC)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quivalent to losses of about P41.6 billion per year or P208 billion from 1998-2002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What is VAT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rst introduced in 1988 under the Tax Reform Program (EO 273), replacing around 61 indirect taxes on goods and service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VAT broadened in 1994 (RA 7716) to include more services, replacing 12 more indirect taxe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1996, Expanded VAT (E-VAT) legislated (RA 8241) to restore, lift certain exemption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2004, Improved VAT (I-VAT) legislated to restore, lift certain exemption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High VAT leakage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VAT gap and leakage rate (1998-2003) 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2819520"/>
          <a:ext cx="7619760" cy="2057400"/>
        </p:xfrm>
        <a:graphic>
          <a:graphicData uri="http://schemas.openxmlformats.org/drawingml/2006/table">
            <a:tbl>
              <a:tblPr/>
              <a:tblGrid>
                <a:gridCol w="1054800"/>
                <a:gridCol w="1053360"/>
                <a:gridCol w="1055160"/>
                <a:gridCol w="1054800"/>
                <a:gridCol w="1055520"/>
                <a:gridCol w="1053360"/>
                <a:gridCol w="129276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v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5.7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26.9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4.3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54.3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56.9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44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65.5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1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2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6.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1.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3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What causes VAT leakage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xcessive claims of VAT credit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aims of presumptive VAT by firms not entitled to do so under the law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ack of industry standards to validate input VAT claim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nder-declaration of sale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on-issuance of official receipts, issuance of non-official receipt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66"/>
                </a:solidFill>
                <a:latin typeface="Arial Unicode MS"/>
              </a:rPr>
              <a:t>-BIR Special VAT Task Force (2001) &amp; NTRC (2003)</a:t>
            </a:r>
            <a:endParaRPr b="0" i="1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Excessive VAT exemption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73911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mount of tax and duty exemptions under various fiscal incentives, by tax type (2003)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828800" y="2590920"/>
          <a:ext cx="4267080" cy="3952800"/>
        </p:xfrm>
        <a:graphic>
          <a:graphicData uri="http://schemas.openxmlformats.org/drawingml/2006/table">
            <a:tbl>
              <a:tblPr/>
              <a:tblGrid>
                <a:gridCol w="2512800"/>
                <a:gridCol w="17542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 Incom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34.88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 Excis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0.037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. Capital Gains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0.003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 Donor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. Withholding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0.009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. Franchis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0.016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. Percentage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1.989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8. Value Added T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P195.52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9. Du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56.05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P299.42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Excessive VAT exemption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73911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2003, gov’t collected P135 B in VAT but gave out P195.5 B in exemptions to favored industries.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xemptions granted mainly to exporters in special ecozones and big corporations in the investments priority list (mining firms, IPPs, oil companies, telcos)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VAT exemptions comprise the biggest share (65%) of foregone revenues from fiscal incentives in 2003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VAT hike is a quick-fix solution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se findings clearly point to tighter VAT administration as the key to plugging the P65.5-B annual VAT leakage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ut GMA regime is resorting to the quick-fix solution of raising VAT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side from unduly punishing honest taxpayers, VAT increase will further widen tax differential among VAT, non-VAT and zero-rated VAT firms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609480"/>
            <a:ext cx="239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66"/>
                </a:solidFill>
                <a:latin typeface="Arial Unicode MS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3108240"/>
            <a:ext cx="6705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Unicode MS"/>
              </a:rPr>
              <a:t>The 10% VAT rate is neither “low” nor “old” by international standards  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0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10% neither ‘low’ nor ‘old’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MF and other VAT hike proponents argue that the 10% VAT rate is low and has to be raised to “keep with the changing times”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ut RP just falls within the 11% standard VAT rate in Asia, similar to Cambodia, Indonesia and S.Korea, higher than Thailand (7%), Singapore (5%) and Japan, while Vietnam charges between 5-10%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Key to better collections is efficiency, not higher rat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6934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atutory VAT rates, VAT effort and efficiency, Selected Asian countries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09480" y="2743200"/>
          <a:ext cx="6858000" cy="3657600"/>
        </p:xfrm>
        <a:graphic>
          <a:graphicData uri="http://schemas.openxmlformats.org/drawingml/2006/table">
            <a:tbl>
              <a:tblPr/>
              <a:tblGrid>
                <a:gridCol w="2133720"/>
                <a:gridCol w="914400"/>
                <a:gridCol w="990720"/>
                <a:gridCol w="914400"/>
                <a:gridCol w="914400"/>
                <a:gridCol w="990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VAT eff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fficienc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dones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.9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4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Philippi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3.3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3.7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0.3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0.3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ngapo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4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.5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5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Thai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3.1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4.2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0.4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66"/>
                          </a:solidFill>
                          <a:latin typeface="Arial Narrow"/>
                        </a:rPr>
                        <a:t>0.6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outh Ko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0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.3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0.4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82844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HB 3555, HB 3705 and the Pangasinan Expres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609480"/>
            <a:ext cx="239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66"/>
                </a:solidFill>
                <a:latin typeface="Arial Unicode MS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391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 Unicode MS"/>
              </a:rPr>
              <a:t>VAT and other tax bills are being railroaded in Congres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739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approval of HB 3555 was marked by the violation of the the three day rule on notices of meetings, conduct of public hearings and due process.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VAT-liable sectors and consumers were not duly represented and consulted in the hearings.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House leadership deceived Congress on the so-called exemptions on instant noodles and other food products.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What is VAT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391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 form of sales tax based on the destination principle (goods, services taxed on the basis of where they are consumed rather than where they are produced).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 indirect tax paid by the buyer, transferee or lessee of the goods, properties or services (a pass-on tax).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oretically, a tax on the value-added in each stage of the production or distribution chain.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reality, a tax on consumption shouldered by the final consumers, with manufacturers and sellers acting only as tax collectors.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VAT bills are conditionalities of the International Monetary Fund (IMF) and credit-rating agencies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828800"/>
            <a:ext cx="739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609480"/>
            <a:ext cx="239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66"/>
                </a:solidFill>
                <a:latin typeface="Arial Unicode MS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0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IMF Post-Program Monitoring Team (June 25-July 8, 2004) 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ior to the announcement of GMA’s eight revenue measures, an IMF team visited the country to evaluate government’s fiscal situation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F reportedly recommended a VAT rate increase to 15% to GMA’s economic managers, who were not receptive to the idea then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government instead recommended the lifting of VAT exemptions, a shift to GIT and tax amnesty. The last two have since been rejected by the IMF, while the GMA regime has made a complete turnaround from its initial position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MF has been pushing the government to increase the VAT rate as early as 1999 under its Memorandum of Economic and Financial Policies </a:t>
            </a: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1828440"/>
            <a:ext cx="6477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Other taxes and reforms in tax administration can be resorted to. 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981080"/>
            <a:ext cx="7086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09480"/>
            <a:ext cx="239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66"/>
                </a:solidFill>
                <a:latin typeface="Arial Unicode MS"/>
              </a:rPr>
              <a:t>7</a:t>
            </a:r>
            <a:endParaRPr b="0" lang="en-US" sz="15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Some proposals to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plug VAT leakage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se of presumptive VAT on “hard-to-tax groups” using adopted industry benchmarks (e.g., minimum net VAT of 3% for industries, hotels, restaurants, freight, etc.)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view of special treatments under VAT including exemptions, deferments and zero-rated privilege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lace a cap or a scheme to spread  maximum allowable VAT input credit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Some proposals to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tax the IPPs and oil compani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igher income or franchise tax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indfall profit tax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gulate pricing and the oil and power generation industry in general to ensure taxes are not passed on to consumers.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 Unicode MS"/>
              </a:rPr>
              <a:t>How does VAT work?</a:t>
            </a:r>
            <a:endParaRPr b="0" lang="en-US" sz="4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52280" y="1219320"/>
            <a:ext cx="7239240" cy="1313640"/>
            <a:chOff x="152280" y="1219320"/>
            <a:chExt cx="7239240" cy="1313640"/>
          </a:xfrm>
        </p:grpSpPr>
        <p:sp>
          <p:nvSpPr>
            <p:cNvPr id="97" name=""/>
            <p:cNvSpPr/>
            <p:nvPr/>
          </p:nvSpPr>
          <p:spPr>
            <a:xfrm>
              <a:off x="228600" y="1219320"/>
              <a:ext cx="70866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MANUFACTURER produces a good at P10.00, adds a mark-up of 20% (P10 + P2.00 = P12.00) and sells the product to WHOLESALER with 10% VAT (P12.00 + P1.20 = P13.20)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2280" y="1219320"/>
              <a:ext cx="723924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838080" y="2286000"/>
            <a:ext cx="6858000" cy="1676520"/>
            <a:chOff x="838080" y="2286000"/>
            <a:chExt cx="6858000" cy="1676520"/>
          </a:xfrm>
        </p:grpSpPr>
        <p:sp>
          <p:nvSpPr>
            <p:cNvPr id="100" name=""/>
            <p:cNvSpPr/>
            <p:nvPr/>
          </p:nvSpPr>
          <p:spPr>
            <a:xfrm>
              <a:off x="3581280" y="2286000"/>
              <a:ext cx="68580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8080" y="2895480"/>
              <a:ext cx="67820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WHOLESALER buys the good at P13.20, adds a mark-up of 20% (P13.20 + 2.64 = P15.84) and sells the product to RETAILER with 10% VAT (P15.84 + P1.58 = P17.42) 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8080" y="2895480"/>
              <a:ext cx="6858000" cy="1067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" y="4038480"/>
            <a:ext cx="6858000" cy="1618560"/>
            <a:chOff x="228600" y="4038480"/>
            <a:chExt cx="6858000" cy="1618560"/>
          </a:xfrm>
        </p:grpSpPr>
        <p:sp>
          <p:nvSpPr>
            <p:cNvPr id="104" name=""/>
            <p:cNvSpPr/>
            <p:nvPr/>
          </p:nvSpPr>
          <p:spPr>
            <a:xfrm>
              <a:off x="4114800" y="4038480"/>
              <a:ext cx="68580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0880" y="4648320"/>
              <a:ext cx="66294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RETAILER buys the good at P17.42, adds a mark-up of 20% (P17.42 + P3.48 = P20.90) and sells the product to CONSUMER with 10% VAT (P20.90 + P2.09 = P22.99) 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28600" y="4648320"/>
              <a:ext cx="6858000" cy="99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2286000" y="5715000"/>
            <a:ext cx="5486400" cy="914400"/>
            <a:chOff x="2286000" y="5715000"/>
            <a:chExt cx="5486400" cy="914400"/>
          </a:xfrm>
        </p:grpSpPr>
        <p:sp>
          <p:nvSpPr>
            <p:cNvPr id="108" name=""/>
            <p:cNvSpPr/>
            <p:nvPr/>
          </p:nvSpPr>
          <p:spPr>
            <a:xfrm>
              <a:off x="3048120" y="6095880"/>
              <a:ext cx="472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</a:rPr>
                <a:t>CONSUMER buys the good at P22.99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048120" y="6019920"/>
              <a:ext cx="449568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86000" y="5715000"/>
              <a:ext cx="685800" cy="5335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66"/>
                </a:solidFill>
                <a:latin typeface="Arial Unicode MS"/>
              </a:rPr>
              <a:t>Which sectors are VAT-covered? </a:t>
            </a:r>
            <a:endParaRPr b="0" lang="en-US" sz="3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3915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Barter or exchange of goods or properties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vers every importation of goods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vers sale or exchange of services</a:t>
            </a:r>
            <a:endParaRPr b="0" i="1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4952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od products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rocessed meat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anned fish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conut &amp; vegetable oil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akery product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oodle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ilk, Dairy product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offee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fined sugar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Examples of VAT-covered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goods and servic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Examples of VAT-covered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goods and servic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2209320"/>
            <a:ext cx="609588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othing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otwear, tannery &amp; leather product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ugs &amp; medicine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urniture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lass &amp; glass products 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ement, steel, iron, wood and most construction material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lectrical lamps &amp; equipment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5715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ulp and paper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holesale trade &amp; retail trade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wnshop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chinery &amp; equipment for both manufacturing and agriculture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29040" indent="-32904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lecommunications (including landline, post-paid &amp; pre-paid mobile phone services)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Examples of VAT-covered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goods and servic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294920" y="2133720"/>
            <a:ext cx="52578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staurants, cafes &amp; other eating and drinking place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mployment &amp; recruitment agencie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tion picture production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tels and motel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29292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ater services</a:t>
            </a:r>
            <a:endParaRPr b="0" i="1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80880" y="380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Examples of VAT-covered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 Unicode MS"/>
              </a:rPr>
              <a:t>goods and services</a:t>
            </a:r>
            <a:endParaRPr b="0" lang="en-US" sz="4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7:53:49Z</dcterms:created>
  <dc:creator>Mike Acac</dc:creator>
  <dc:description/>
  <dc:language>en-US</dc:language>
  <cp:lastModifiedBy>taritz</cp:lastModifiedBy>
  <dcterms:modified xsi:type="dcterms:W3CDTF">2005-02-11T06:23:35Z</dcterms:modified>
  <cp:revision>70</cp:revision>
  <dc:subject/>
  <dc:title>VAT rate hike  mula 10%-12%… Dagdag pahirap na naman! </dc:title>
</cp:coreProperties>
</file>