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061-9AEB-48CD-976A-45B21499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499-2CC3-4FD1-B3BD-7CBF7E03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126-D8B0-46CD-9176-51F1006F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2BD-B9BB-4606-9C8B-E7F5EDD6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79C0-8973-49E5-AFBC-EFA5DA98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9478-CAF1-442F-ADD9-AE967840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3A7A-EB20-4581-9830-ECA5FA8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0A8F-2FCF-4B70-9780-AEDBAD1C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2D1A-FB4E-4C0B-BE5E-096762F9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4B60-682F-468F-A5DA-AB8A554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97E0-1420-457B-B973-F5B066D6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5BA-4EA7-4C48-8FDC-B769DBA3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CE4E-8523-4170-9B00-782E15F8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0CC4-2767-425D-A86F-5E6076FC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A43F-87A6-4CF1-9A1A-79A86E2A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3EC4-CF32-4A54-82B2-C6F46964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5B9A-B888-491E-AF0A-59EAE87A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92A-388A-4EA7-820C-742030E5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066-27BB-4597-9B24-FDFD0C07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B14-BC9D-480D-9BC1-EB3F148E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1C6-D50D-4281-9C32-1C0FE2AA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5F5-7F64-4BAE-98E1-7D67EF2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11E-4CF7-4DBC-A15F-1CD1A222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ED0-30D8-4877-BFDE-22149848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944-73E6-492F-876E-28CCA1AEF40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BC53-614B-48E4-8E04-4A21428DBA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0C09-3503-4DC8-9E02-D8CD09F20AB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1451-1258-40B2-A277-34E8AFC632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9144000" cy="2971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990720"/>
            <a:ext cx="8305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The Subsidy Schem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SOCIALIZED PRICING?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457200"/>
            <a:ext cx="86104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he Lifeline Rate Subsidy 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ount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1-50 kwh consumers …. 50%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61,716 custom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1-70 kwh consumers .… 35%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99,737 custom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1-100 kwh consumers … 20%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465,236 custom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 1,426,689 out of a total 4M customers or 35% of total customer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. Collect 7.61 centavos/kwh fro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idential consumers using more than 100 kw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mercial consu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dustrial  consu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overnment hospitals, street ligh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049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Lifeline Rate Subsidy Charge Cash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680" y="1676520"/>
            <a:ext cx="17154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esident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&gt;100 kw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9920" y="3124080"/>
            <a:ext cx="1791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om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1360" y="4191120"/>
            <a:ext cx="1486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960" y="1600200"/>
            <a:ext cx="1639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esid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0-50 kw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960" y="2895480"/>
            <a:ext cx="1639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esid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51-70 kw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1480" y="4191120"/>
            <a:ext cx="16786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esid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71-100 kw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743200"/>
            <a:ext cx="1371600" cy="1557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eral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029200" y="2057400"/>
            <a:ext cx="1905120" cy="106668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28840" y="3276720"/>
            <a:ext cx="198108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028840" y="3504960"/>
            <a:ext cx="1981080" cy="99036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8920" y="2438280"/>
            <a:ext cx="1026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7.61 c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8920" y="3124080"/>
            <a:ext cx="1026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7.61 c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8920" y="3809880"/>
            <a:ext cx="1026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7.61 c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828440" y="1980720"/>
            <a:ext cx="1981080" cy="11430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05120" y="3276720"/>
            <a:ext cx="18288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3429000"/>
            <a:ext cx="1904760" cy="12193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4840" y="2057400"/>
            <a:ext cx="9136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50%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dis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6240" y="2971800"/>
            <a:ext cx="9136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35%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dis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41160" y="3809880"/>
            <a:ext cx="9136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20%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dis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9588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August 2003 data of customer pro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2560" y="50292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134,923,56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51920" y="121752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+P152,474,58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7880" y="9907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feline 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99200" y="4876920"/>
            <a:ext cx="38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 gain by Meralc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17,551,021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, or P210,612,252/ y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990720"/>
            <a:ext cx="861048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he Inter Class Cross Subsidy 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scount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residential consumers                   @ 71.30 cents/kw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ovt Hospitals/Metered Streetlights @ P1.0889/kw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lat Streetlighting                                @ P2.5323/kw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llect subsidy charge fro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mercial consumers                     @  57-78 cents/kw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dustrial  consumers                         @ 8-63 cents/kw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3049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InterClass Cross SubsidyCharge Cash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3960" y="1905120"/>
            <a:ext cx="1791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om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1360" y="4191120"/>
            <a:ext cx="1486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960" y="1600200"/>
            <a:ext cx="1639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esid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960" y="3048120"/>
            <a:ext cx="1265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GHMS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240" y="4191120"/>
            <a:ext cx="15631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lat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743200"/>
            <a:ext cx="1447560" cy="1557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eral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181120" y="2209680"/>
            <a:ext cx="1752840" cy="9144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05520" y="3504960"/>
            <a:ext cx="2133360" cy="106668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5240" y="2514600"/>
            <a:ext cx="11455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57-78 c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9280" y="3809880"/>
            <a:ext cx="1043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8-63 c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05120" y="1828800"/>
            <a:ext cx="1828800" cy="129528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47920" y="3276720"/>
            <a:ext cx="220968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904760" y="3429000"/>
            <a:ext cx="1904760" cy="129528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1760" y="2057400"/>
            <a:ext cx="1245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- 71.30 c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5160" y="3124080"/>
            <a:ext cx="858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- 1.08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68520" y="3809880"/>
            <a:ext cx="858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- 2.53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XUY</cp:lastModifiedBy>
  <dcterms:modified xsi:type="dcterms:W3CDTF">2004-08-31T07:29:50Z</dcterms:modified>
  <cp:revision>447</cp:revision>
  <dc:subject/>
  <dc:title>PowerPoint Presentation</dc:title>
</cp:coreProperties>
</file>