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D18-2FE9-478E-89E1-B2A07B26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5FA-E16C-4FF6-8951-718B46B5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7DE-DC37-42C4-8113-A839B88D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7360-DC22-4222-B413-4DD44CDD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F498-1B3F-4B15-B2ED-5719F8EC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96ED-1DC0-461D-AB4D-94A1EC73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5210-FD80-4E32-98B4-0B0D8F5D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C6F7-E11A-4D2A-B4B4-BAAB4A64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8129-28A7-4980-8533-137179FF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68B6-BEDD-4DA5-B264-64DD00F9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161-12DD-4BAA-A1DF-04877194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DE1-9506-49F3-9F84-A416A91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6B11-8797-4F96-BD95-FBE63DB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B264-D5AA-46B0-85B4-89763350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5677-F53B-42D6-8597-E04FA135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BFB2-2D16-4CB5-994D-F17D5C17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9F17-0F49-40DA-A153-DBE94040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B40-4B95-47B0-9A5E-2088D176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BAB-2431-43F8-9A0A-C234A415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BAB-4A03-4624-B649-D5346AD8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E43-FC0E-4E56-ADD0-2E040BD2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604-98E9-4C37-AA98-7D54F50F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9CC-357F-48F5-935D-0612CBE6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48B-FBDC-4E7A-A765-EF60090B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1726-BC8A-4BE1-AC3E-B28A1939037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FAE-5C06-41AE-8245-EDF8D32027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LlosengReuse.pps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LlosengCh02.pps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B352 Lecture 2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bject-Oriented Analysis and Design – an overvi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Object-Oriented Systems Lifecycl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 Life cycle model describes the overall systems development proc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OO method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void the waterfall lifecyc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dvocate iterative and incremental develop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Object-Oriented Systems Lifecycl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piral model is used in iterative and incremental approach:</a:t>
            </a:r>
            <a:br>
              <a:rPr sz="3200"/>
            </a:br>
            <a:r>
              <a:rPr b="0" lang="en-A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89760" y="2722680"/>
            <a:ext cx="6329520" cy="3930120"/>
            <a:chOff x="1589760" y="2722680"/>
            <a:chExt cx="6329520" cy="3930120"/>
          </a:xfrm>
        </p:grpSpPr>
        <p:sp>
          <p:nvSpPr>
            <p:cNvPr id="124" name=""/>
            <p:cNvSpPr/>
            <p:nvPr/>
          </p:nvSpPr>
          <p:spPr>
            <a:xfrm>
              <a:off x="3235320" y="2997360"/>
              <a:ext cx="3803400" cy="342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39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390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4680" y="3006720"/>
              <a:ext cx="3784680" cy="340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3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391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35320" y="2911320"/>
              <a:ext cx="3254040" cy="350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14" swAng="53971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14" swAng="5397186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4680" y="2921040"/>
              <a:ext cx="3235320" cy="348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15" swAng="53971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15" swAng="5397185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92120" y="3419640"/>
              <a:ext cx="3295800" cy="29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1840" y="3429360"/>
              <a:ext cx="3276360" cy="298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9840" y="3398760"/>
              <a:ext cx="2998080" cy="325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800" swAng="540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800" swAng="5400180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9560" y="3408480"/>
              <a:ext cx="2978640" cy="323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801" swAng="54001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801" swAng="5400182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37080" y="3398760"/>
              <a:ext cx="2786760" cy="278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46440" y="3408480"/>
              <a:ext cx="2768040" cy="276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37080" y="3483720"/>
              <a:ext cx="2619000" cy="253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26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2695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46440" y="3493080"/>
              <a:ext cx="2600280" cy="251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26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2695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01520" y="3567240"/>
              <a:ext cx="2320920" cy="245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755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10880" y="3576600"/>
              <a:ext cx="2302200" cy="243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7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756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22720" y="3862440"/>
              <a:ext cx="1901520" cy="190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32440" y="3871800"/>
              <a:ext cx="1882080" cy="18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22720" y="3862440"/>
              <a:ext cx="1942920" cy="164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32440" y="3871800"/>
              <a:ext cx="1923480" cy="162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22720" y="3798720"/>
              <a:ext cx="1352520" cy="17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32440" y="3808440"/>
              <a:ext cx="1333080" cy="171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16880" y="4265280"/>
              <a:ext cx="1478520" cy="12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90"/>
                  </a:moveTo>
                  <a:arcTo wR="10800" hR="10800" stAng="-3045" swAng="540304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90"/>
                  </a:moveTo>
                  <a:arcTo wR="10800" hR="10800" stAng="-3045" swAng="5403045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6600" y="4274640"/>
              <a:ext cx="1459440" cy="124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90"/>
                  </a:moveTo>
                  <a:arcTo wR="10800" hR="10800" stAng="-3051" swAng="54030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90"/>
                  </a:moveTo>
                  <a:arcTo wR="10800" hR="10800" stAng="-3051" swAng="5403051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9160" y="4390920"/>
              <a:ext cx="105624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48520" y="4400640"/>
              <a:ext cx="1037880" cy="103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71440" y="4307040"/>
              <a:ext cx="1347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Requirements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50920" y="5405400"/>
              <a:ext cx="1229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Specification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4120" y="6186600"/>
              <a:ext cx="675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Design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91120" y="608184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Implementation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09080" y="3610080"/>
              <a:ext cx="925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Prototype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9400" y="3124080"/>
              <a:ext cx="97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Release 1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71360" y="2722680"/>
              <a:ext cx="975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Release 2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1320" y="2743200"/>
              <a:ext cx="507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5" y="14504"/>
                  </a:moveTo>
                  <a:arcTo wR="10800" hR="10800" stAng="9596557" swAng="2409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655" y="14504"/>
                  </a:moveTo>
                  <a:arcTo wR="10800" hR="10800" stAng="9596557" swAng="2409337"/>
                </a:path>
              </a:pathLst>
            </a:custGeom>
            <a:solidFill>
              <a:srgbClr val="000000"/>
            </a:solidFill>
            <a:ln w="936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4880" y="2997360"/>
              <a:ext cx="696960" cy="1440"/>
            </a:xfrm>
            <a:prstGeom prst="line">
              <a:avLst/>
            </a:prstGeom>
            <a:ln w="20520">
              <a:solidFill>
                <a:srgbClr val="f0ef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41320" y="3567240"/>
              <a:ext cx="77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Review 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4920" y="3483000"/>
              <a:ext cx="1443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Analysis of risk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9760" y="4602240"/>
              <a:ext cx="1501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Integration and 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05120" y="4834080"/>
              <a:ext cx="1119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deployment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Object-Oriented Systems Lifecycl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The object-oriented lifecycle proposed by the Object Management Group (OMG)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2590920"/>
            <a:ext cx="6324480" cy="459720"/>
          </a:xfrm>
          <a:prstGeom prst="rect">
            <a:avLst/>
          </a:prstGeom>
          <a:noFill/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IFECYC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43000" y="3276720"/>
            <a:ext cx="838080" cy="2971800"/>
            <a:chOff x="1143000" y="3276720"/>
            <a:chExt cx="838080" cy="2971800"/>
          </a:xfrm>
        </p:grpSpPr>
        <p:sp>
          <p:nvSpPr>
            <p:cNvPr id="165" name=""/>
            <p:cNvSpPr/>
            <p:nvPr/>
          </p:nvSpPr>
          <p:spPr>
            <a:xfrm>
              <a:off x="1218960" y="3581280"/>
              <a:ext cx="3049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OBJECT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352680"/>
              <a:ext cx="304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 Narrow"/>
                </a:rPr>
                <a:t>MODELLING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43000" y="3276720"/>
              <a:ext cx="838080" cy="297180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143000" y="6391440"/>
            <a:ext cx="6400800" cy="459720"/>
          </a:xfrm>
          <a:prstGeom prst="rect">
            <a:avLst/>
          </a:prstGeom>
          <a:noFill/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COORDINATION &amp; REU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276720"/>
            <a:ext cx="3733560" cy="398880"/>
          </a:xfrm>
          <a:prstGeom prst="rect">
            <a:avLst/>
          </a:prstGeom>
          <a:noFill/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RATEGIC MODELL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784680"/>
            <a:ext cx="3733560" cy="398880"/>
          </a:xfrm>
          <a:prstGeom prst="rect">
            <a:avLst/>
          </a:prstGeom>
          <a:noFill/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ANALYSIS MODELL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4292640"/>
            <a:ext cx="3733560" cy="398880"/>
          </a:xfrm>
          <a:prstGeom prst="rect">
            <a:avLst/>
          </a:prstGeom>
          <a:noFill/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DESIGN MODELL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4800600"/>
            <a:ext cx="3733560" cy="398880"/>
          </a:xfrm>
          <a:prstGeom prst="rect">
            <a:avLst/>
          </a:prstGeom>
          <a:noFill/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IMPLEMENTATION MODELL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5308560"/>
            <a:ext cx="3733560" cy="398880"/>
          </a:xfrm>
          <a:prstGeom prst="rect">
            <a:avLst/>
          </a:prstGeom>
          <a:noFill/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CONSTRU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5816520"/>
            <a:ext cx="3733560" cy="398880"/>
          </a:xfrm>
          <a:prstGeom prst="rect">
            <a:avLst/>
          </a:prstGeom>
          <a:noFill/>
          <a:ln w="93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DELIVER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324480" y="3276720"/>
            <a:ext cx="1371600" cy="2971440"/>
            <a:chOff x="6324480" y="3276720"/>
            <a:chExt cx="1371600" cy="2971440"/>
          </a:xfrm>
        </p:grpSpPr>
        <p:sp>
          <p:nvSpPr>
            <p:cNvPr id="176" name=""/>
            <p:cNvSpPr/>
            <p:nvPr/>
          </p:nvSpPr>
          <p:spPr>
            <a:xfrm>
              <a:off x="6400800" y="3276720"/>
              <a:ext cx="1218960" cy="297144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24480" y="3980520"/>
              <a:ext cx="1371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Full Definition of the</a:t>
              </a:r>
              <a:br>
                <a:rPr sz="2400"/>
              </a:br>
              <a:r>
                <a:rPr b="0" lang="en-US" sz="2400" spc="-1" strike="noStrike">
                  <a:solidFill>
                    <a:srgbClr val="eaeaea"/>
                  </a:solidFill>
                  <a:latin typeface="Arial Narrow"/>
                </a:rPr>
                <a:t>System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981080" y="33526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38862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44197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49528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54100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943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33526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38862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197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48769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54864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6019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0" y="63244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[Yourdo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Object-Oriented Systems Lifecycle</a:t>
            </a:r>
            <a:r>
              <a:rPr b="0" lang="en-AU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Featur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ll activities share a common vocabulary, notation and strategies – everything revolves around ob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There is almost seamless transition from one activity to the nex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Encourages iterative and incremental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Employs reusabi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Critical Success Fac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For Object-Oriented IS development projects to succeed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Factors which are critical to achieving software productivity and software quality must always be given priority over the method or approach used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Better trained peopl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Rigorous software proces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Automated t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JAD, RAD and prototyping (more user involvement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tructured techniques, information engineering and software re-engineering, better programming langu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oftware metric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OO Software Re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Wh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Higher productiv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creased qual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echanism for prototyp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Levels of reusabi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Reusing code – cut and paste, includes, dynamic lin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Reusing dat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Reusing desig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Reusing specific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thers – cost-benefit calculations, user docs, feasibility studies, test cases, test drivers, et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OO Software Re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How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mponent libraries store reusable compon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O development techniques using encapsulation and inheritance promote reusabil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ASE templates – provide repository for storing analysis, design, code and data el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esign recovery – using wrappers to reuse legacy objec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sing and sharing 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atterns</a:t>
            </a: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in analysis and desig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anagement role: Provide reward mechanism for reusabil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OO Software Re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ethbridge Slides on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"/>
              </a:rPr>
              <a:t>Re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Component Modell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omponen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is an executable unit of cod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A 'black box' that provides some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vides a consistent, publishe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an be connected to other compon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omponents promote reus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an 'mix-and-match' required components to form syste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mponents should be robust and thoroughly test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ading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it Handbook, Topic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evens &amp; Pooley, Chapters 1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hbridge &amp; Laganiere, Chapters 1 –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view of Object Ori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thbridge, Chapter 2 </a:t>
            </a: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slid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What is OOAD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Object-Oriented Analysis and Desig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refers to the processes of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nsidering the requirements of a system and identifying the various components (Analysi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building the specifications for developing the system (Desig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based on concepts of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bjects, their attributes and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how objects are related to each oth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Not a silver bullet meant to eliminate problems of productivity and 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Arguments in favour of O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Benefits in System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ed productivity, maintainability, consistency, simplic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Use of prototyping, rapid develop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ld methodologies do not lend themselves easily to some kinds of system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Expert Systems, Artificial Intelligence, Web applic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Simulation, Graphical User Interfac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Geographic Information Systems and Computer Aided Design have complex objects which cannot be easily captured using an relational databa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Benefits and Motivations for OOAD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mphasises understanding the problem domai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Expressed in natural terms of object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Improve analyst and problem domain expert intera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Focus on objects, not algorithm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nalysis and Design models are consistent with each oth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Benefits and Motivations for OOAD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Expresses commonality of attributes and servic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via inherit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pecifications resilient to chan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Based on problem domain construc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reuse analysis resul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analysis products are abstract enough to be reused (such as pattern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rovide a consistent underlying re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Models created expanded upon in develop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bd189"/>
                </a:solidFill>
                <a:latin typeface="Arial"/>
                <a:ea typeface="Times New Roman"/>
              </a:rPr>
              <a:t>Fundamental Principles of OOAD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bstra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gnoring aspects which are not relevant in order to concentrate on those that a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ncapsul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kaging of data and methods togeth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Inherit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Expressing extensibility, common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ebd189"/>
                </a:solidFill>
                <a:latin typeface="Arial"/>
                <a:ea typeface="Times New Roman"/>
              </a:rPr>
              <a:t>Fundamental Principles of OOAD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ssoc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bjects can link themselves to other objec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Communication with Messag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bjects send messages to each other to accomplish tas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Organizations of concep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bjects and Attribu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wholes and par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la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herita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08:15:49Z</dcterms:created>
  <dc:creator>User</dc:creator>
  <dc:description/>
  <dc:language>en-US</dc:language>
  <cp:lastModifiedBy>User</cp:lastModifiedBy>
  <dcterms:modified xsi:type="dcterms:W3CDTF">2003-09-14T09:46:07Z</dcterms:modified>
  <cp:revision>5</cp:revision>
  <dc:subject/>
  <dc:title>CB352 Lecture 2</dc:title>
</cp:coreProperties>
</file>