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5B04-0249-432E-93E0-AE54754E8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2000" y="22608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6200" y="1599840"/>
            <a:ext cx="8209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200" y="3868560"/>
            <a:ext cx="8209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B11C-988B-4985-8643-1A8C020BA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2000" y="22608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6200" y="1599840"/>
            <a:ext cx="4005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05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6200" y="3868560"/>
            <a:ext cx="4005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2440" y="3868560"/>
            <a:ext cx="4005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73C0-58FD-4E66-8AAA-3C0A0AC6A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2000" y="22608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6200" y="1599840"/>
            <a:ext cx="2643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41800" y="1599840"/>
            <a:ext cx="2643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7400" y="1599840"/>
            <a:ext cx="2643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200" y="3868560"/>
            <a:ext cx="2643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41800" y="3868560"/>
            <a:ext cx="2643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7400" y="3868560"/>
            <a:ext cx="2643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0A27-538A-4A2B-87DC-E7AD936C4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E3EE5-9853-4CCB-BCA7-95067405C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2000" y="22608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66200" y="1599840"/>
            <a:ext cx="8209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DD160-C7AF-4F09-822F-6DD918B27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2000" y="22608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6200" y="1599840"/>
            <a:ext cx="8209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C3027-09D6-4E0F-ADE7-24B3B9D4D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2000" y="22608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6200" y="1599840"/>
            <a:ext cx="4005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05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9220C-4AE0-453E-88A9-CD4505468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2000" y="22608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9BEDB-B75D-4F0C-86AF-9DC25FB3C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52000" y="22608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5FD56-8C65-4BE5-AD80-72286EF28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2000" y="22608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6200" y="1599840"/>
            <a:ext cx="4005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05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200" y="3868560"/>
            <a:ext cx="4005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DC9F6-7EC1-43B3-8B4C-509FCBC40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2000" y="22608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66200" y="1599840"/>
            <a:ext cx="8209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CD81-D7CF-43FB-8DF8-48B8981E8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2000" y="22608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6200" y="1599840"/>
            <a:ext cx="4005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05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440" y="3868560"/>
            <a:ext cx="4005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07672-2ED6-4788-914F-C168FA6E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2000" y="22608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6200" y="1599840"/>
            <a:ext cx="4005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05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200" y="3868560"/>
            <a:ext cx="8209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C9BEC-761F-4FA5-A081-BEC103EAA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2000" y="22608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6200" y="1599840"/>
            <a:ext cx="8209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200" y="3868560"/>
            <a:ext cx="8209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753E7-3A5E-4619-B4C9-93D688C01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2000" y="22608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6200" y="1599840"/>
            <a:ext cx="4005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05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200" y="3868560"/>
            <a:ext cx="4005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440" y="3868560"/>
            <a:ext cx="4005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2D71D-C975-4ACB-87B3-DA13FDE42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2000" y="22608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6200" y="1599840"/>
            <a:ext cx="2643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41800" y="1599840"/>
            <a:ext cx="2643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7400" y="1599840"/>
            <a:ext cx="2643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200" y="3868560"/>
            <a:ext cx="2643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41800" y="3868560"/>
            <a:ext cx="2643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7400" y="3868560"/>
            <a:ext cx="2643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F4952-D79E-4038-A51F-7959DEB32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2000" y="22608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6200" y="1599840"/>
            <a:ext cx="8209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3313-C116-4BA0-A66D-EB9377BD1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2000" y="22608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6200" y="1599840"/>
            <a:ext cx="4005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05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6728-0F64-4DE9-BB66-92A8F9E72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2000" y="22608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7266-F637-41E3-823C-2BE99E65E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52000" y="22608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6D29-12D9-4AF2-9D7F-4DD55E29D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2000" y="22608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6200" y="1599840"/>
            <a:ext cx="4005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05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200" y="3868560"/>
            <a:ext cx="4005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FCE0-2E9F-493E-9075-A86C22C0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2000" y="22608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6200" y="1599840"/>
            <a:ext cx="4005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05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2440" y="3868560"/>
            <a:ext cx="4005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9219-02D5-4CC1-8D03-F3A8994A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2000" y="22608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6200" y="1599840"/>
            <a:ext cx="4005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05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200" y="3868560"/>
            <a:ext cx="8209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61D3-56F2-4545-9B2B-2DCA8FB96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ARTHSEPA" descr=""/>
          <p:cNvPicPr/>
          <p:nvPr/>
        </p:nvPicPr>
        <p:blipFill>
          <a:blip r:embed="rId3"/>
          <a:stretch/>
        </p:blipFill>
        <p:spPr>
          <a:xfrm>
            <a:off x="6000840" y="6172200"/>
            <a:ext cx="3143160" cy="74520"/>
          </a:xfrm>
          <a:prstGeom prst="rect">
            <a:avLst/>
          </a:prstGeom>
          <a:ln w="0">
            <a:noFill/>
          </a:ln>
        </p:spPr>
      </p:pic>
      <p:pic>
        <p:nvPicPr>
          <p:cNvPr id="1" name="Arthsepa" descr=""/>
          <p:cNvPicPr/>
          <p:nvPr/>
        </p:nvPicPr>
        <p:blipFill>
          <a:blip r:embed="rId4"/>
          <a:stretch/>
        </p:blipFill>
        <p:spPr>
          <a:xfrm>
            <a:off x="0" y="1295280"/>
            <a:ext cx="4495680" cy="96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52000" y="22608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66200" y="1599840"/>
            <a:ext cx="8209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F0C43-2B01-4B36-9549-0308C593FD1F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4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984EA-FD58-4AAC-818B-99707A39A6E4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B352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ssues in Information Systems Developmen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B35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3EE1D-0820-43F7-8039-56820D18841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2000" y="22608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Historical Contex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6200" y="1599840"/>
            <a:ext cx="8209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rederick P. Brooks' book entitled "The Mythical Man Month: Essays in Software Engineering" discusses the difficulties of managing programming projec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rook's Law: </a:t>
            </a: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Adding manpower to a late software project makes it late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B35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97A6-40E9-4C3D-A7A1-F0080842B42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2000" y="22608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No Silver Bulle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6200" y="1599840"/>
            <a:ext cx="8209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rooks also wrote a conference paper entitled "No Silver Bullet – Essence and Accidents in Software Engineering"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n this paper Brooks maintains that there is no technology or technique that can overcome the problems faced in software engineering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B35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3525-AACE-48D2-A562-AD26C983C60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2000" y="22608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ftware Developmen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6200" y="1599840"/>
            <a:ext cx="8209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rooks discusses why software engineering is difficult to manage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omplexity in scaling up a software entit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Lacks conformity: no unifying principles unlike in physic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hangeability – new technology, hardwar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nvisibility – intangible objec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B35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8C40-A05A-4EB4-9AAB-3ACF951972B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2000" y="22608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ystems Developmen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6200" y="1599840"/>
            <a:ext cx="8209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A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software engineering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development process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 uses the following approach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There is a defined </a:t>
            </a:r>
            <a:r>
              <a:rPr b="0" i="1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process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 with clear </a:t>
            </a:r>
            <a:r>
              <a:rPr b="0" i="1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phas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Each </a:t>
            </a:r>
            <a:r>
              <a:rPr b="0" i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phase 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has an </a:t>
            </a:r>
            <a:r>
              <a:rPr b="0" i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end-product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 (a document or a something built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There is emphasis on meeting a clear set of </a:t>
            </a:r>
            <a:r>
              <a:rPr b="0" i="1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requirements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, which are defined early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Verification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validation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 are important parts of the proces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There is a store of </a:t>
            </a:r>
            <a:r>
              <a:rPr b="0" i="1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knowledge, architectures and component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There is sensible use of </a:t>
            </a:r>
            <a:r>
              <a:rPr b="0" i="1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tools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B35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21D0-3D35-4DB3-8130-6DADD32163B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2000" y="22608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ystems Developmen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138400" y="1600200"/>
            <a:ext cx="5405400" cy="13208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4240080"/>
            <a:ext cx="7785000" cy="9734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14600" y="4657680"/>
            <a:ext cx="477720" cy="208080"/>
          </a:xfrm>
          <a:prstGeom prst="rightArrow">
            <a:avLst>
              <a:gd name="adj1" fmla="val 50000"/>
              <a:gd name="adj2" fmla="val 57396"/>
            </a:avLst>
          </a:prstGeom>
          <a:solidFill>
            <a:srgbClr val="4e2bfb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69040" y="4657680"/>
            <a:ext cx="479520" cy="208080"/>
          </a:xfrm>
          <a:prstGeom prst="rightArrow">
            <a:avLst>
              <a:gd name="adj1" fmla="val 50000"/>
              <a:gd name="adj2" fmla="val 57612"/>
            </a:avLst>
          </a:prstGeom>
          <a:solidFill>
            <a:srgbClr val="4e2bfb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57800" y="4657680"/>
            <a:ext cx="477720" cy="208080"/>
          </a:xfrm>
          <a:prstGeom prst="rightArrow">
            <a:avLst>
              <a:gd name="adj1" fmla="val 50000"/>
              <a:gd name="adj2" fmla="val 57396"/>
            </a:avLst>
          </a:prstGeom>
          <a:solidFill>
            <a:srgbClr val="4e2bfb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171880" y="5213520"/>
            <a:ext cx="0" cy="48564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98640" y="5907240"/>
            <a:ext cx="546120" cy="347400"/>
          </a:xfrm>
          <a:prstGeom prst="flowChartDocument">
            <a:avLst/>
          </a:prstGeom>
          <a:solidFill>
            <a:srgbClr val="c9ddf1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675240" y="5907240"/>
            <a:ext cx="545760" cy="347400"/>
          </a:xfrm>
          <a:prstGeom prst="flowChartDocument">
            <a:avLst/>
          </a:prstGeom>
          <a:solidFill>
            <a:srgbClr val="c9ddf1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20920" y="4518000"/>
            <a:ext cx="819000" cy="555480"/>
          </a:xfrm>
          <a:prstGeom prst="flowChartPredefinedProcess">
            <a:avLst/>
          </a:prstGeom>
          <a:solidFill>
            <a:srgbClr val="4e2bfb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9120" y="4518000"/>
            <a:ext cx="819000" cy="555480"/>
          </a:xfrm>
          <a:prstGeom prst="flowChartPredefinedProcess">
            <a:avLst/>
          </a:prstGeom>
          <a:solidFill>
            <a:srgbClr val="4e2bfb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040360" y="4518000"/>
            <a:ext cx="819000" cy="555480"/>
          </a:xfrm>
          <a:prstGeom prst="flowChartPredefinedProcess">
            <a:avLst/>
          </a:prstGeom>
          <a:solidFill>
            <a:srgbClr val="4e2bfb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53400" y="4518000"/>
            <a:ext cx="819000" cy="555480"/>
          </a:xfrm>
          <a:prstGeom prst="flowChartPredefinedProcess">
            <a:avLst/>
          </a:prstGeom>
          <a:solidFill>
            <a:srgbClr val="4e2bfb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86480" y="5907240"/>
            <a:ext cx="409680" cy="417240"/>
          </a:xfrm>
          <a:prstGeom prst="flowChartMagneticDisk">
            <a:avLst/>
          </a:prstGeom>
          <a:solidFill>
            <a:srgbClr val="c9ddf1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362720" y="5838840"/>
            <a:ext cx="478080" cy="415800"/>
          </a:xfrm>
          <a:prstGeom prst="flowChartPunchedTape">
            <a:avLst/>
          </a:prstGeom>
          <a:solidFill>
            <a:srgbClr val="c9ddf1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79720" y="5213520"/>
            <a:ext cx="0" cy="48564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5213520"/>
            <a:ext cx="0" cy="48564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704000" y="5213520"/>
            <a:ext cx="0" cy="48564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86080" y="3059280"/>
            <a:ext cx="479520" cy="973080"/>
          </a:xfrm>
          <a:prstGeom prst="upDownArrow">
            <a:avLst>
              <a:gd name="adj1" fmla="val 50000"/>
              <a:gd name="adj2" fmla="val 40397"/>
            </a:avLst>
          </a:prstGeom>
          <a:solidFill>
            <a:srgbClr val="c9ddf1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444760" y="1808280"/>
            <a:ext cx="1434960" cy="765000"/>
          </a:xfrm>
          <a:prstGeom prst="flowChartMagneticDisk">
            <a:avLst/>
          </a:prstGeom>
          <a:solidFill>
            <a:srgbClr val="4e2bfb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654520" y="1878120"/>
            <a:ext cx="957240" cy="625320"/>
          </a:xfrm>
          <a:prstGeom prst="flowChartMultidocument">
            <a:avLst/>
          </a:prstGeom>
          <a:solidFill>
            <a:srgbClr val="4e2bfb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25840" y="1878120"/>
            <a:ext cx="614520" cy="695160"/>
          </a:xfrm>
          <a:prstGeom prst="flowChartInternalStorage">
            <a:avLst/>
          </a:prstGeom>
          <a:solidFill>
            <a:srgbClr val="4e2bfb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9720" y="5899320"/>
            <a:ext cx="136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end-product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99040" y="4159080"/>
            <a:ext cx="107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6720" y="4643280"/>
            <a:ext cx="10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as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71880" y="2641680"/>
            <a:ext cx="613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ository of knowledge, tools, architectures, component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905360" y="3657600"/>
            <a:ext cx="177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Use of tool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B35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74DC-EE4B-4F2F-B8CD-7E18BEE0432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2000" y="22608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ystems Development Model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6200" y="1599840"/>
            <a:ext cx="8209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n order to manage software engineering projects, various models of the systems development life cycle (SDLC) have been created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B35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A7CC-09BE-4E45-A42B-27835D591A6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2000" y="22608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ystems Development Life Cycl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6200" y="1599840"/>
            <a:ext cx="8209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e SDLC considers the systems development process as having a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beginning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nd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omposed of various stages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roject planning, feasibility stud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Requirements definition and Systems Analysi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Systems desig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Implementation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Integration and testing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cceptance, installation, deploymen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Maintenanc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B35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3384-87CE-40E8-AE41-90848534EF5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2000" y="22608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he Waterfall Model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6200" y="1599840"/>
            <a:ext cx="820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Traditional structured systems use the waterfall model for software development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47920" y="2413080"/>
            <a:ext cx="1600200" cy="30708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ahoma"/>
              </a:rPr>
              <a:t>Project Plannin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5471400">
            <a:off x="2890440" y="2738160"/>
            <a:ext cx="542880" cy="228600"/>
          </a:xfrm>
          <a:custGeom>
            <a:avLst/>
            <a:gdLst>
              <a:gd name="textAreaLeft" fmla="*/ 0 w 542880"/>
              <a:gd name="textAreaRight" fmla="*/ 543240 w 5428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81080" y="3124080"/>
            <a:ext cx="1981440" cy="5202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ahoma"/>
              </a:rPr>
              <a:t>Requirements Analysi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6271400">
            <a:off x="1599840" y="2895480"/>
            <a:ext cx="533520" cy="228600"/>
          </a:xfrm>
          <a:custGeom>
            <a:avLst/>
            <a:gdLst>
              <a:gd name="textAreaLeft" fmla="*/ 0 w 533520"/>
              <a:gd name="textAreaRight" fmla="*/ 533880 w 533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70760" y="3733920"/>
            <a:ext cx="1497600" cy="30708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ahoma"/>
              </a:rPr>
              <a:t>Systems Design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97920" y="4343400"/>
            <a:ext cx="1532520" cy="30708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ahoma"/>
              </a:rPr>
              <a:t>Implementation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5486400"/>
            <a:ext cx="820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Assumes that requirements are frozen early o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This leads to difficulties when requirements change, as they often do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742000" y="4952880"/>
            <a:ext cx="1963800" cy="30708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ahoma"/>
              </a:rPr>
              <a:t>Integration &amp; Testin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59720" y="5486400"/>
            <a:ext cx="1206360" cy="30708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ahoma"/>
              </a:rPr>
              <a:t>Deployment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5471400">
            <a:off x="3804840" y="3357360"/>
            <a:ext cx="542880" cy="228600"/>
          </a:xfrm>
          <a:custGeom>
            <a:avLst/>
            <a:gdLst>
              <a:gd name="textAreaLeft" fmla="*/ 0 w 542880"/>
              <a:gd name="textAreaRight" fmla="*/ 543240 w 5428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6271400">
            <a:off x="3124440" y="3656880"/>
            <a:ext cx="533160" cy="228600"/>
          </a:xfrm>
          <a:custGeom>
            <a:avLst/>
            <a:gdLst>
              <a:gd name="textAreaLeft" fmla="*/ 0 w 533160"/>
              <a:gd name="textAreaRight" fmla="*/ 533520 w 5331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5471400">
            <a:off x="4795200" y="3966840"/>
            <a:ext cx="542880" cy="228600"/>
          </a:xfrm>
          <a:custGeom>
            <a:avLst/>
            <a:gdLst>
              <a:gd name="textAreaLeft" fmla="*/ 0 w 542880"/>
              <a:gd name="textAreaRight" fmla="*/ 543240 w 5428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6271400">
            <a:off x="4267080" y="4267080"/>
            <a:ext cx="533520" cy="228600"/>
          </a:xfrm>
          <a:custGeom>
            <a:avLst/>
            <a:gdLst>
              <a:gd name="textAreaLeft" fmla="*/ 0 w 533520"/>
              <a:gd name="textAreaRight" fmla="*/ 533880 w 533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5471400">
            <a:off x="6014520" y="4576680"/>
            <a:ext cx="542880" cy="228600"/>
          </a:xfrm>
          <a:custGeom>
            <a:avLst/>
            <a:gdLst>
              <a:gd name="textAreaLeft" fmla="*/ 0 w 542880"/>
              <a:gd name="textAreaRight" fmla="*/ 543240 w 5428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16271400">
            <a:off x="5410080" y="4876560"/>
            <a:ext cx="533520" cy="228600"/>
          </a:xfrm>
          <a:custGeom>
            <a:avLst/>
            <a:gdLst>
              <a:gd name="textAreaLeft" fmla="*/ 0 w 533520"/>
              <a:gd name="textAreaRight" fmla="*/ 533880 w 533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5471400">
            <a:off x="7581240" y="5143320"/>
            <a:ext cx="457200" cy="228600"/>
          </a:xfrm>
          <a:custGeom>
            <a:avLst/>
            <a:gdLst>
              <a:gd name="textAreaLeft" fmla="*/ 0 w 457200"/>
              <a:gd name="textAreaRight" fmla="*/ 457560 w 4572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16271400">
            <a:off x="7314840" y="5410080"/>
            <a:ext cx="533520" cy="228600"/>
          </a:xfrm>
          <a:custGeom>
            <a:avLst/>
            <a:gdLst>
              <a:gd name="textAreaLeft" fmla="*/ 0 w 533520"/>
              <a:gd name="textAreaRight" fmla="*/ 533880 w 533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B35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307E-6E30-4F52-8FAB-BAA2DAD4585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2000" y="22608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  <a:ea typeface="Arial"/>
              </a:rPr>
              <a:t>Object-Oriented Approach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6200" y="1599840"/>
            <a:ext cx="8209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How can the development of large software systems be done efficiently?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“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There is a limit to how much a human can understand at any one time” – Stevens &amp; Pooley, p 6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By dividing a software system into </a:t>
            </a:r>
            <a:r>
              <a:rPr b="0" i="1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modules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, and identifying the dependencies between the modules, it is hoped that bugs in software can be reduced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Led to the </a:t>
            </a:r>
            <a:r>
              <a:rPr b="0" i="1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Object-Oriented Approach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B35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35D4-C6E9-42C6-B2E4-F03D771F4E4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2000" y="22608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  <a:ea typeface="Times New Roman"/>
              </a:rPr>
              <a:t>Object-Oriented Approach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6200" y="1599840"/>
            <a:ext cx="8209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Object-oriented analysis (OOA) is concerned with developing software engineering requirements and specifications expressed as a system's object model (which is composed of a population of interacting objects), as opposed to the traditional data or functional views of systems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B35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1E20-8F13-4E11-A265-86EA21B4F73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2000" y="22608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6200" y="1599840"/>
            <a:ext cx="8209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s unit will attempt to address the principal issues currently dominating the process of developing information system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B35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0F79-E0D6-49BF-AD46-D460939933E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2000" y="22608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Object-Oriented Approach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6200" y="1599840"/>
            <a:ext cx="8209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Concepts of dependency, coupling, encapsulation, interface, cohesion and abstraction are needed when considering modular design.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B35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8F25-3CAF-4CB9-AE24-91467E0A249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2000" y="22608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Object-Oriented Approach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6200" y="1599840"/>
            <a:ext cx="8209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Dependency &amp; Coupling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We say that Module A depends on Module B if a change to Module B means Module A must be changed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We can also say that Modules A and B are </a:t>
            </a:r>
            <a:r>
              <a:rPr b="0" i="1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coupled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A system with many dependencies is said to have </a:t>
            </a:r>
            <a:r>
              <a:rPr b="0" i="1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high coupling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A good system has </a:t>
            </a:r>
            <a:r>
              <a:rPr b="0" i="1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low coupling: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means that a change to one part of the system does not have to affect too many other parts.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B35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9D87-5ECD-4C94-84E0-03E1BB5C26E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52000" y="22608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  <a:ea typeface="Times New Roman"/>
              </a:rPr>
              <a:t>Object-Oriented Approach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6200" y="1599840"/>
            <a:ext cx="8209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Encapsulation &amp; Interfac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A module is encapsulated in that its interfaces provide the means for another module to access it.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If Module A depends on Module B, then Module B will have to make “public” the interfaces which Module A can acces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Module A does not need to know the inner workings of the methods in Module B.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B35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DA4E-D22F-4424-AA28-65F9185D2A5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52000" y="22608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  <a:ea typeface="Arial"/>
              </a:rPr>
              <a:t>Object-Oriented Approach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6200" y="1599840"/>
            <a:ext cx="8209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Abstraction and Cohes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Interfaces provide an </a:t>
            </a:r>
            <a:r>
              <a:rPr b="0" i="1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abstraction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 of the actual module’s code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A module which provides an interface which is an abstraction of a concept that in well understood is said to have high </a:t>
            </a:r>
            <a:r>
              <a:rPr b="0" i="1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cohesion –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it can be re-used in later systems, or is easily replaced.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B35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888A-35F6-4B68-99C9-FA1024C9EFB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52000" y="22608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  <a:ea typeface="Times New Roman"/>
              </a:rPr>
              <a:t>Object-Oriented Analysi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6200" y="1599840"/>
            <a:ext cx="8209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OOA focuses on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Essential objects in the problem domai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Class hierarchies to which the objects belong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The internal behaviour of each objec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Communication between object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B35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0B0E-EA7F-4594-852D-757E62343C4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2000" y="22608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  <a:ea typeface="Times New Roman"/>
              </a:rPr>
              <a:t>Object-Oriented Analysi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6200" y="1599840"/>
            <a:ext cx="8209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OOA can yield the following benefit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Maintanability through simplified mapping to the real world, which provides for less analysis effor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less complexity in system design, and easier verification by the user;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reusability of the analysis artifacts which saves time and costs;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productivity gains through direct mapping to features of OO Programming Language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B35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A7F4-6601-4CC6-902E-DCB0DCF030E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2000" y="22608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  <a:ea typeface="Times New Roman"/>
              </a:rPr>
              <a:t>UML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6200" y="1599840"/>
            <a:ext cx="8209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The Unified Modeling Language (UML) was adopted by the Object Management Group as the standard for Object Modeling in Nov. 97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Previously, different OO ‘gurus’ had their own notation for modeling object-oriented concept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Having a standard language for object modeling enables organizations to focus on development rather than learning different notation.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B35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6CB9-5A8A-4281-91D9-A7D56F0A6CA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52000" y="22608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UML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6200" y="1599840"/>
            <a:ext cx="8209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e Unified Modeling Language is a fusion of the concepts of three OO ‘gurus’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var Jacobson (OOSE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Grady Booch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Rumbaugh (OMT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eant to be a standard notation for OO modeling, adopted by the OMG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t provides for extensibility of core OO concept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upports higher-level development concept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ndependent of programming languag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B35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2157-31A9-4205-9FAB-8F7D8976DC9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2000" y="22608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im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6200" y="1599840"/>
            <a:ext cx="8209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is unit aims to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Provide an insight into object-oriented techniques for developing information system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Expose students to current issues in information systems developmen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raw students' attention to current trends and future directions in the development of information system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o provide exposure to automated tools for supporting the information systems development proces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B35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7B02-05B4-4834-AE24-C5083D93F9D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2000" y="22608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6200" y="1599840"/>
            <a:ext cx="8209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o demonstrate an awareness of object-oriented methods for developing information system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o understand current and future directions in the development of information system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o demonstrate an awareness and understanding of the current “issues” in information systems development especially relating to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Object orientatio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Project Managemen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Reuse and Implementation Strategi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Quality assuranc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B35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779C-B9E1-458D-80D5-7CAE4953438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2000" y="22608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hem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6200" y="1599840"/>
            <a:ext cx="8209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mprovement of system development processes from the project management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bject Orienta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mponent Based Developmen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eusabilit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ASE tool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easurement and Metric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B35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8C59-D9BC-42D0-8BD2-9B1B883F8D9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2000" y="22608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ssessmen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6200" y="1599840"/>
            <a:ext cx="8209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ntinuous assessment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ssignment 1: Case Study for Object-Oriented Systems Developmen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ssignment 2: Research Report &amp; Presentat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xamina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B35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C6B0-468C-4B51-888B-4B7765F0455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2000" y="22608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extbook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6200" y="1599840"/>
            <a:ext cx="8209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ethbridge, T.C. and Laganiere, R., </a:t>
            </a:r>
            <a:r>
              <a:rPr b="0" i="1" lang="en-US" sz="3200" spc="-1" strike="noStrike">
                <a:solidFill>
                  <a:srgbClr val="ffffcc"/>
                </a:solidFill>
                <a:latin typeface="Arial"/>
              </a:rPr>
              <a:t>Object-Oriented Software Engineering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, McGraw-Hill (2001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Using UML – Software Engineering with Objects and Components by R. Pooley and P. Stevens, Addison-Wesley (1999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oftware Engineering, 5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Edition, by I. Sommerville, Addison Wesley (1996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B35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3BA5-E8CD-4C14-8BA6-93F6307A1B8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2000" y="22608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tructure of the Uni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6200" y="1599840"/>
            <a:ext cx="8209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ecture : Monday, 12:00 – 2:00 p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ecture B / Consultation : Wednesday, 8:30 – 10:00 a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utori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riday, 2:30 – 4:30 pm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riday, 4:30 – 6:30 pm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B35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2815-6FA9-42B8-921A-1B7816F6EF8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2000" y="22608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6200" y="1599840"/>
            <a:ext cx="8209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e will be using the Unified Modeling Language to represent object-oriented models in systems developmen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agicDraw UML available in LS6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B35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BEC4-D55A-460E-BFB0-CA38B9796D5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7T08:32:12Z</dcterms:created>
  <dc:creator>Administrator</dc:creator>
  <dc:description/>
  <dc:language>en-US</dc:language>
  <cp:lastModifiedBy>User</cp:lastModifiedBy>
  <dcterms:modified xsi:type="dcterms:W3CDTF">2003-09-07T09:44:25Z</dcterms:modified>
  <cp:revision>5</cp:revision>
  <dc:subject/>
  <dc:title>CB352 </dc:title>
</cp:coreProperties>
</file>