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7000" y="1371600"/>
            <a:ext cx="797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4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hapter 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ntroduction to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Transpar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atabase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rose becau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efinition of data was embedded in application programs, rather than being stored separately and independent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No control over access and manipulation of data beyond that imposed by application progra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Result -  the database and Database Management System (DBM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atab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 shared collection of logically related data (and a description of this data), designed to meet the information needs of an organiz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System catalog (data dictionary or metadata) provides the description of the data to enable </a:t>
            </a: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program–data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Logically related data comprises entities, attributes, and relationships of an organization's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atabase Management System (DBM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 software system that enables users to define, create, and maintain the database and which provides controlled access to this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atabase Management System (DBM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918480" cy="49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atabase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 definition language (DD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Permits specification of data types, structures and any data constraints.  All specifications are stored in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 manipulation language (DM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General enquiry facility (query language) of the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atabase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Controlled access to database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A security syste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An integrity syste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A concurrency control syste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A recovery control syste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A user-accessible catalog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 view mechani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Provides users with only the data they want or need to u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omponents of DBMS Enviro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6440" y="1987560"/>
            <a:ext cx="7489800" cy="1790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omponents of DBMS Enviro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Can range from a PC to a network of computer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DBMS, operating system, network software (if necessary) and also the application program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Used by the organization and a description of this data called the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omponents of DBMS Enviro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Instructions and rules that should be applied to the design and use of the database and DBM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Times New Roman"/>
              </a:rPr>
              <a:t>Roles in the Database Enviro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Data Administrator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base Administrator (DB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base Designers (Logical and Physic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pplication Programm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End Users (native and sophistic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hapter 1 Objec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Some common uses of database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characteristics of file-based syst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problems with the file-based appro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meaning of the term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History of Database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First-gene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Hierarchical and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Second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Rel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Third gen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Extended Rel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Object-Ori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Advantages of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Control of data redundanc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 consist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More information from the same amount of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Sharing of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mproved data integ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mproved secu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Enforcement of standar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Economy of sc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Advantages of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Balanced conflict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mproved data accessibility and respon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ncreased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mproved maintenance through data in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ncreased concurr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mproved backup and recovery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Disadvantages of DB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Complex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Cost of DB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dditional hardware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Cost of con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Higher impact of a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hapter 1 Objectives</a:t>
            </a:r>
            <a:r>
              <a:rPr b="1" lang="en-A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meaning of the term Database Management System (DBM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typical functions of a DB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major components of the DBMS environ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personnel involved in the DBMS environ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Chapter 1 Objec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history of the development of DBM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he advantages and disadvantages of DBM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File-based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A collection of application programs that perform services for the end users (e.g. reports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Each program defines and manages its own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File-based Process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5736960" cy="5146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Limitations of File-based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Separation and isol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Each program maintains its own set of data. Users of one program may be unaware of potentially useful data held by other program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uplic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ffffff"/>
                </a:solidFill>
                <a:latin typeface="CG Times"/>
              </a:rPr>
              <a:t>Same data is held by different programs. Wasted space and potentially different values and/or different formats for the same ite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Limitations of File-based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Data depen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File structure is defined in the program co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Incompatible file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Programs are written in different languages, and so cannot easily access each others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00"/>
                </a:solidFill>
                <a:latin typeface="CG Times"/>
              </a:rPr>
              <a:t>Limitations of File-based Approach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Fixed Queries/Proliferation of application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G 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G Times"/>
              </a:rPr>
              <a:t>Programs are written to satisfy particular functions. Any new requirement needs a new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1 of textbook
Database Systems: A Practical Approach to Design, Implementation and Management</dc:description>
  <dc:language>en-US</dc:language>
  <cp:lastModifiedBy>HELP INSTITUTE</cp:lastModifiedBy>
  <cp:lastPrinted>1998-07-28T10:53:48Z</cp:lastPrinted>
  <dcterms:modified xsi:type="dcterms:W3CDTF">2003-09-09T09:40:40Z</dcterms:modified>
  <cp:revision>1</cp:revision>
  <dc:subject>Database Systems</dc:subject>
  <dc:title>Chapter 1 </dc:title>
</cp:coreProperties>
</file>