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7BA-0AAE-4443-9B04-1E6A2355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52E-09E4-4D34-8FA2-179BF069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305-360D-4464-A251-4D6F3A6A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931-613B-4AE0-8332-09C4821F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9463-FCB9-4BE0-B67A-4EECCEA9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2571-85C3-4E3D-A817-FC638CC9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988-C66E-4FDD-BE57-0BABAC18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86A-3C79-4499-B709-37F12359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94D8-4EA5-48EB-9433-7F54C7ED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379-8E78-4CAF-A237-E238DEE2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A2CC-B656-48B0-A29C-C2F4C20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47A-9C9F-408E-8CF7-D0993FE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F0EF-2AD1-47F8-B887-D61C654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8E09-8622-4813-805A-CACD78B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76DF-03AA-4F23-8376-5F324AB2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6E36-443E-402B-B76B-7D232184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E7B-532B-49C9-B0FC-7172AF0F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078-C533-42EE-B619-6C9968B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FDC-6C3A-4E51-A36E-AFC94BEB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11D-E177-4DBB-8426-E4A354B9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3A7-43CE-48DB-919D-5CFEDB6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CF1-8ACA-41A1-93D2-3CF97C36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3EC-CE71-47CC-8A63-B1BE684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953-F069-4A10-B2EA-E795646C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D37A-D9A4-4D87-9086-CAED56AC0DA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A759-FD0E-43A4-BCFD-D2CD8748B35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ulho 1945 (Vannevar Bush – As We May Think – The Atlantic Monthly,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 dos serviços oferecidos na Internet (com tipos diferentes de displa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browser traduz o documento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o das capacidades especificas de cada comput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é lida uma página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tscape Communicator, MS Internet Explorer, Opera, HotJa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6BE-4EB8-4F67-A622-697F74C614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: importâ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guagem suficientemente g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ácil de aprender e utiliz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remamente flexí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nda com as páginas que encont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33E-EBB3-440E-923F-A0CFD9AE9B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quema do modulo 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lataforma de desenvolvimento: VisualPage (Symante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odução à HTML 4.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lhas de estilo: C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vaScri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XM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Web design e divulgação do s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ção da home page pessoal do alu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3C3-B1E2-4A07-98FE-33E99AF460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emas complementa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RL/CG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gramação Ja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ncos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FB6-F383-412E-9E68-C53114514F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isualPage da Symante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 de criação de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isu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mento do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673-830F-4061-9F04-70E5983C3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ando páginas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ndo uma página 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zando uma página exist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o seu computado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a Web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temp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F1A-F35D-4E72-8C9B-1739ED088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ditando páginas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itor de código de fonte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itor de página (Ctrl+Shift+P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eview (Ctrl+Shift+V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eview no navegador (Ctrl+Shift+B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ocal Site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D1D-DA1C-4D6A-AD46-E642A5552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priedades da pági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ít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magem de f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28C-C63A-46F0-A70C-0837644C5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rabalho com tex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itando o tex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gitar (“enter”, “shift+enter”)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rag &amp; 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piar e co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tando o tex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tilos de parágrafos: normal, headers, preformatted, address, list, term &amp; descrip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14B-A39B-4B04-9987-7522498B98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Links e anch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erindo lin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ocal Site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mpo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rag &amp; 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otão hiperli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erindo anch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erindo links a endereços e-m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873-B40F-4F3E-8DE5-B45954DF07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mage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erindo image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ndo Local Site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ndo a tool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ndo o me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piando e col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inhando imagen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priedades das imagens (transparênci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erindo linh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E4F-8B86-44BE-830E-1AE49D229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que é HTM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 é a “lingua franca” para publicar hipertexto na WWW. É um formato não proprietário baseado no SGML (Standard Generalized Markup Language) o DTD (Document Type Defini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 ser criado e processado por diferentes ferramentas: desde editores de texto até sofisticados sistemas de criação WYSIWY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 usa tags (Ex: &lt;h1&gt; e &lt;/h1&gt;) para estruturar o texto em cabeçalhos, parágrafos , listas, links de hipertexto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1F5-3D12-43A4-A2F2-DB7598AD91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bel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ndo tabel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ificando tabel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ificando atributos de tabelas e de cam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49A-F9F2-4B1D-9BE2-2BB9DCA61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nutenção do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finindo a conexão de red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ectando ao servidor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piado arquivos no serv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ndo o site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B03-D748-41BA-B833-0285DE602C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 não é uma linguagem de programação, apenas uma linguagem de markup (marcação): caracteres de controle modificam a forma de apresentar o tex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emplo do WordStar:  /Bthis text appears bold/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equivalente em HTML: &lt;b&gt;this text appears bold&lt;/b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roblemas de compatibilidade entre diferentes versões de HTML e diferentes naveg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3B9-C292-4C15-9B74-265EEAB76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volução de 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suportar novo conteúdo, em novos ambientes (intranets corporativas, e-mails, news, help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fazer as páginas dinâm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corrência entre os desenvolvedores de navegadores e influencia do W3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DFC-AEB1-456D-9244-06E346675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ersões de 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.0: Novembro de 199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.0: expirou em Setembro de 199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.2: W3C Recomendation em Janeiro 199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4.0: é a W3C Recomendation atu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s desenvolvimentos: XM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turo: XML 1.0 + HTML 4.0                   =&gt;  Draft XHTML 1.0 (24/Feb/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0A4-F9F2-42CE-A87A-B9D627475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osaic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600200"/>
          <a:ext cx="6553080" cy="49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55308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5AF-9B5D-4F82-A2FF-B4CB8B4A1A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gramando em 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nde usar cada tag e co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uso da plataforma de desenvolvimento (freqüentemente várias combinadas com editores gráficos e programação em Java, Javascript, CGI, ActiveX, VRML, etc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hecimentos de Web design e de promoção do site (comunicado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451-52ED-4DCE-ADA2-723DEF72C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truções no documento: ta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362320"/>
            <a:ext cx="6553080" cy="3448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TITLE&gt;Hello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TITL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A HREF="http://www.fasp.br"&gt;FASP&lt;/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IMG SRC="Image1.gif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Hello everybod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BD6-5A8B-4228-B8B0-5A79F7D1A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ublicando na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em necessita publicar na We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o parte de um site comercial, para dar mais credibilidade à empre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divulgar uma idéia do interesse do au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o introdução pessoal, uma extensão do seu cartão ou do seu curricul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zar servidor próp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zar os serviços de um proved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811-815A-43B4-902C-73C5343A73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09-30T14:40:06Z</cp:lastPrinted>
  <dcterms:modified xsi:type="dcterms:W3CDTF">1999-03-20T14:55:38Z</dcterms:modified>
  <cp:revision>95</cp:revision>
  <dc:subject/>
  <dc:title>CURSO INTERNET, INTRANET.</dc:title>
</cp:coreProperties>
</file>