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EEFE-6B9D-4020-9128-499CD0CA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C4CD-3D37-4547-907B-48D5D1ED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EC37-8ACD-4C4E-BDB5-A4E3A642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C82F-E3ED-4AB0-8D97-C5E91A4F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C627-922A-4169-BB88-2F25D183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EB2D-4EC3-4D73-AEDB-152F5AC0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E124-931A-4874-9E6F-6F5265D8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3A13-327B-430C-9396-35495F89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AFD2-A2A5-418A-83B4-7D73002B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3DBD-716C-4C6E-9C3A-A0EF9ABE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F87C-C5D9-4D3E-BE2F-B4FBDCA1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97BF-02BB-46B7-BBA0-60D2600F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4DBA-6D6D-45E8-BDCA-23F89D89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C303-356D-4395-9EB7-6D4C33E9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0D3E-A894-4467-8D19-C17EECFF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1208-C348-40F9-945B-A89FFBC6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221D-07C8-4A61-A0AA-9158AB06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DF94-D178-48EF-A599-D117F708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C070-B928-4988-824F-0BAC4C32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7943-0D35-4830-ACD9-4C2303A0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ADE8-3EC6-445B-9EEA-0F7D7DE3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9AF2-24E1-42B6-8FBF-A31147A7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4219-7377-42D6-87F8-CA7219CE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8835-2EEB-4A42-B738-0CDD5E4E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Internet-Intranet F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7EDC-A3C1-49F7-B762-8A84DE148C9E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C8A7-41ED-466A-9A87-D01123C8657E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HT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ipos diferentes de displ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browser traduz o documento We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so das capacidades especificas de cada computad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o é lida uma página We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HTML (HyperText Markup Language): subconjunto do SGML (Standard Generalized Markup Language) o DTD (Document Type Definition) que define a sintaxe do docum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Versões  3.0, 3.2, 4.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A030-1086-401F-89EF-C10268EAE25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Forms: limitaçõ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equeno numero de elementos de inter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lementos pouco flexíve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lementos pouco extensíve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m processamento no cliente (ex: validação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cessamento no servid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B84B-464E-4960-A620-A18E7EFAF57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ynamic HTML (DHTML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É HTML que pode mudar após ter carregado pelo brows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ormado pelas seguintes tecnologi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inguagens de script (cliente)      -&gt; realiza a mudanç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ocument Object Model (DOM) -&gt; permite a mudanç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interação independente do conteúd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ascade Stylesheets (CSS)           -&gt; o que é mud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layout independente do conteúd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E912-E2E4-467D-8D5B-3683A190BFE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ynamic HTML (DHTML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iferente suporte pelos brows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7400" y="2895480"/>
            <a:ext cx="3886200" cy="459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HTML 1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3352680"/>
            <a:ext cx="3886200" cy="459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HTML + 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57400" y="3809880"/>
            <a:ext cx="1905120" cy="459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2520" y="3809880"/>
            <a:ext cx="1981080" cy="459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VB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648320"/>
            <a:ext cx="5867280" cy="459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Help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5105520"/>
            <a:ext cx="1905120" cy="459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Plug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5105520"/>
            <a:ext cx="1981080" cy="459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Activ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7800" y="5105520"/>
            <a:ext cx="1981080" cy="459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0F2C-E835-4F5B-BEB7-1B541C680E2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HTML: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ão é Java (criado como LiveScript 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Baseado em objetos mas não O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lementos HTML definem objetos organizados em jerarquia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FORM NAME=“myform”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INPUT TYPE=“button” NAME=“Button1”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/FORM&gt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&gt; document.my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&gt; document.myform.Button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FAAE-FCBE-422E-A6AD-836655B8F2F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HTML: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ão definidas funçõ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CRIPT language=“JavaScript”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unction bar() {document.write(“Hello”)}  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unções em &lt;HEAD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vent handlers no HTML ta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INPUT TYPE=“button” onClick=“bar()”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lementos não-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guranç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A5FB-3905-46AF-908D-4DF131E1DD1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HTML: D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ocument Object Model (DOM):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pressa a estrutura de um documento HTML de forma universal, sem referencia ao conteú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E4 :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o browser mantém informação sobre a estrutura do documento (jerarquia de elementos) e apresenta-a para leitura e manipula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tilizado por qq. programa: script, Java applet, ActiveX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rabalha com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toda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a estrutura do docum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0241-3FF8-49E5-AA91-0F0517664F0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HTML: D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OM trabalha através de objetos com proprieda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ada objeto pode ter outros objetos filh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eferencia aos objet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window.document.all(23).style.color=b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IMG SRC=“img2.gif” ID=“SecondImage”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132C-3097-463A-985F-25E867B7288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HTML: C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HTML: falta precisão e flexibilida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SS (Cascading StyleSheets) 199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trole mais preciso sobre os efeitos tipográfi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udança de muitos documentos através de um s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patibilidade em diferentes brows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enos código, páginas men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parar a forma da estrutura através de definições de forma a diferentes níveis. =&gt; Cascad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5E13-F689-41F0-8989-A05D1CF1B2C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HTML: C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SS baseia-se em regras: seletor + declaração (a propriedade e o valor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H1 {color:green; font-family: impact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 {text-indent:1cm; background:yellow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Qualquer tag HTML pode ser usado como selet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Heranç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 {color:blue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B&gt;I'll finish in &lt;I&gt; two &lt;/I&gt; weeks&lt;/B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315D-C7C7-493E-AB6A-4A24D642293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HTML: C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dicionando CSS à páginas Web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butida:  em cada pági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inking: Várias páginas utilizam o mesmo documento C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mportando: Pode misturar com outros métodos (IE4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-li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lass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.first {color:green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.second {color:blue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P CLASS=first&gt; Print it green &lt;/P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P CLASS=second&gt; Print it blue now &lt;/P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BF63-4811-4466-8086-87D3CAA58FF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HT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struções no documento: ta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página Web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2971800"/>
            <a:ext cx="3733560" cy="29304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HTML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HEA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TITLE&gt;Hello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/TITL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/HEA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BODY&gt;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Hello everybody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/BODY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/HTML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2819520"/>
            <a:ext cx="4038480" cy="3373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A HREF=“http://www.fasp.br”&gt;FASP&lt;/A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3352680"/>
            <a:ext cx="4038480" cy="3373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IMG SRC=“image0.gif”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3886200"/>
            <a:ext cx="4038480" cy="21895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TABL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T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TD&gt;Item1&lt;/T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TD&gt;Item 2&lt;/T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/T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/TABL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A7DD-9198-491F-8CFB-75A987EFACF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Help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lugi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ctiveX (OLE para red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Jav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04F4-01A5-4556-A724-AA59AB8DD34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xtensible Markup  Language: É uma volta ao SGML. Proposta da Netsca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P&gt;This is the picture of Thomas Field : &lt;IMG SRC=“tf.jpg”&gt; &lt;/P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P&gt;This is the picture of &lt;AUTHOR&gt; &lt;FIRSTNAME&gt; Thomas &lt;/FIRSTNAME&gt; &lt;SURNAME&gt; Field &lt;/SURNAME&gt; &lt;/AUTHOR&gt;: &lt;IMG SRC=“tf.jpg”&gt; &lt;/P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2443-CB50-48BA-B646-9B84EB70889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onteúdo dinâmic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G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xtensões 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S Active Server Page (AS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WebSite i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ldFusion CF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rver-Side 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I (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SAPI, WSAPI, NSAPI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B06A-49C3-4BEE-B2BE-2E936B83CBA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oldFusion CFML: exempl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CFQUERY NAME="ProductList" DATASOURCE="CompanyDB"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SELECT ProductName, Price FROM Produc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/CFQUERY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HTML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HEAD&gt;&lt;TITLE&gt;Product List&lt;/TITLE&gt;&lt;/HEAD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BODY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H1&gt;Company X Products&lt;/H1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CFOUTPUT QUERY="ProductList"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#ProductName# #NumberFormat(Price, "$_____.__")# &lt;BR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/CFOUTPUT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/BODY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/HTML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4754-98B9-4997-923D-4A676237968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Jav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imeiro passo para uma Web de obje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mentári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ácil de aprend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rtáv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depende da platafor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apacidade de extensã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randes aplicativ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erforma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Java vs. C++ (e os outro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9C95-60CE-4578-88A8-E3565612BC5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Active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Baseada em duas tecnologias 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bject Linking and Embedding (O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mponent Object Model (COM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CCAC-7226-4008-9B64-60D451C8CA8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rojeto de si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screver para a Web é diferente de escrever para imprimi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iferencias físicas (tecnologia) e psicológic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at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79% dos usuários não lêem todas as palavras (sca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er da tela é 25% mais lento que do pap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teúdo Web deve ter 50% menos palavras que o equivalente em pap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5AE2-D95A-4298-BD33-72A7ACB6F94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rojeto de si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iferencias entre papel e on-li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rabalhando com o design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canability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aveg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screvendo para ser li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screvendo para ser encontr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evis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E051-32D6-4255-88D2-54B3FB408C8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rojeto de si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bjetivo do s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jetar sites, não págin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ão projetar em HTM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sistê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mpla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erspectiva do usuár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teúdo é o mais importa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8E29-B37D-470B-AEA3-5C398FB7D65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Marketing do si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ite design.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dados da empresa, contatos, ampla informação, casos de estudo, etc.).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ódigo HTML.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title, meta tags: “Author”, “Description”, “keywords”, HTML geral, independente de plataform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erramentas de marketing.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sites de pesquisa, banners (intercâmbio), mala direta, estatísticas do sit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arketing extra.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newsgroups, grupos de discussão, classificados, FREEbies, etc. 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Bonus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chat room, guestbook, free graphics, newsroom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3112-876A-4E78-8DB2-D329A8F34EB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HTML: importânc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Linguagem suficientemente ger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ácil de aprender e utiliz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xtremamente flexív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renda com as páginas que encontr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FC3A-F3BB-49A4-A4E1-7F934B8E5E0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istributed comput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ternet: ilhas de program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MG: Common Object Request Broker Architecture CORBA (IDL),        Internet Inter-ORB Protocol IIO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S: Component Object Model (COM) / Distributed COM (DCOM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 Remote Method Invocation (RMI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E06-AB95-4691-8863-E9E923AB3B5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omparando ActiveX &amp; CORB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rquitetura, especific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uporte multi-platafor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uporte multi-linguag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Grau de desenvolvim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uporte para WW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guranç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scalabilidad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471E-DBE3-44C7-A1C8-41D21779CAB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xtensões HT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ágina Web padrão: estática e ocupa toda a te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Vantagens: fácil de criar, manter e carreg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svantage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ó incluem texto e image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formação estát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ão interagem com o usuá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página carregada é estát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5AD4-068B-4802-AE1E-44FBD924028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paganda na Web: fram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286000"/>
            <a:ext cx="731520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HTML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HEAD&gt;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TITLE&gt; Title &lt;/TITLE&gt;&lt;/HEA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NOFRAMES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BODY&gt;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/BODY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/NOFRAMES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FRAMESET   ROWS=“43,*”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FRAME SRC=“menu.html”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FRAME SRC=“item1.html”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/FRAMESET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/HTML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B63A-5B3E-4742-9345-2A1BB2FEA3B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rocessando novos tipos de dad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lugin: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grama para interpretar um tipo de d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specífico para cada novo tipo de d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é carregado quando necessár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A00B-A649-4A44-8FF0-1989FF56293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riando páginas on-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mmom Gateway Interface (CGI):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ermite associar URL a um programa que será executado no servidor. A saída do programa é enviada ao browser. (não ha diferencia para o browser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GI e propagan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Vantagens: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cesso e processamento de  dados no servid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esvantagens: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gramação difícil (C++, PERL, etc.), ocupa tempo no servidor e seguranç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3C0E-B589-42F9-A955-8B8C921B872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omo funciona o CG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4419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assando informação ao programa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ariável de ambiente QUERY_ST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http://search.excite.com/search.gw?search=tutorial&amp;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1828800"/>
            <a:ext cx="1371600" cy="8380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Usuá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2514600"/>
            <a:ext cx="0" cy="1219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3733920"/>
            <a:ext cx="10670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9520" y="3048120"/>
            <a:ext cx="2514600" cy="121896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3429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1676520"/>
            <a:ext cx="3276720" cy="17524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2133720"/>
            <a:ext cx="1066680" cy="3682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1752480"/>
            <a:ext cx="1066680" cy="6426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ervidor We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86600" y="1828800"/>
            <a:ext cx="1143000" cy="6426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grama CG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895480"/>
            <a:ext cx="1524240" cy="3682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isco lo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3657600"/>
            <a:ext cx="8380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172200" y="2437920"/>
            <a:ext cx="0" cy="12193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213372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72400" y="2514600"/>
            <a:ext cx="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391520" y="2514600"/>
            <a:ext cx="0" cy="380880"/>
          </a:xfrm>
          <a:prstGeom prst="line">
            <a:avLst/>
          </a:prstGeom>
          <a:ln w="22320">
            <a:solidFill>
              <a:srgbClr val="ffffff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629400" y="2286000"/>
            <a:ext cx="457200" cy="0"/>
          </a:xfrm>
          <a:prstGeom prst="line">
            <a:avLst/>
          </a:prstGeom>
          <a:ln w="22320">
            <a:solidFill>
              <a:srgbClr val="ffffff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257440" y="3809880"/>
            <a:ext cx="1143000" cy="0"/>
          </a:xfrm>
          <a:prstGeom prst="line">
            <a:avLst/>
          </a:prstGeom>
          <a:ln w="22320">
            <a:solidFill>
              <a:srgbClr val="ffffff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2438280"/>
            <a:ext cx="0" cy="1371600"/>
          </a:xfrm>
          <a:prstGeom prst="line">
            <a:avLst/>
          </a:prstGeom>
          <a:ln w="22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371600" y="2514600"/>
            <a:ext cx="0" cy="1447920"/>
          </a:xfrm>
          <a:prstGeom prst="line">
            <a:avLst/>
          </a:prstGeom>
          <a:ln w="22320">
            <a:solidFill>
              <a:srgbClr val="ffffff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396252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7147-55AA-43EE-A594-97C8DFD0D6C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Interação com o usuário: For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ermite ao usuário entrar informações que serão enviadas ao servidor para processar no CG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put: submit, reset, text, radio button, checkbox, filename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gurança (servidor e client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434340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FORM method=GET action="/mycgi/guestbook.p"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Seu nome:&lt;INPUT type=text name=realname size=30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TEXTAREA name=comments COLS=60 ROWS=4&gt;&lt;/TEXTAREA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INPUT type=submit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/FORM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F950-D404-44B0-BFF8-20B83BE65BF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Reinaldo Pérez Sánchez</cp:lastModifiedBy>
  <cp:lastPrinted>1998-09-30T14:40:06Z</cp:lastPrinted>
  <dcterms:modified xsi:type="dcterms:W3CDTF">1998-09-30T14:44:52Z</dcterms:modified>
  <cp:revision>76</cp:revision>
  <dc:subject/>
  <dc:title>CURSO INTERNET, INTRANET.</dc:title>
</cp:coreProperties>
</file>