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BB076CD-7398-4B30-AE7A-59ABB9E67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D31333F-8D82-44EE-AB16-C20A04DED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8131A0D-37F5-4D8A-9DC2-E1CC1B5478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B0AE3AC-7EFE-4C42-A2F5-CC5951BE4E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AB3E56-EA2E-40F0-843D-70F0C2AE24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6"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EE99E2-A06A-4736-9346-99E67630C7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F3210-DAC6-46EB-A311-3045B3DDE8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01574C-8AAE-476C-A969-AF7FD85176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08B61-F151-4571-AF13-87821D9024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168D0-D585-4240-A12C-65C041F24C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1B707-7D16-4192-969F-D6941C9EDA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645EF64-A752-4053-8D8C-74B6D0B13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C6108-3E1E-49C4-AC09-440AAA29B8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907C6-88C5-483D-9039-3DF096AA32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7"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849A8-C3E6-423E-B20C-EB85B87CCD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75727-6138-405A-AFE2-5FF90BFE077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5"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FDDAE-FB6A-49B0-A3E0-9530EAA09C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0497F8E-7921-4398-B649-92192FE6D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6D2A88B-3804-4EB9-94E0-E5EF84428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ADCF35B-8640-4C9F-817A-893C5EA16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64E4EFC-1DCF-45CE-BB0A-13D43DAE9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AC22918-4CB1-4B3A-BA31-1988C26F1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F4E949D-2114-410D-8D69-9333D6796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3DADA5-EABE-4C68-83AA-729C1305066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6480"/>
            <a:ext cx="17538120" cy="27380520"/>
            <a:chOff x="-8405280" y="6480"/>
            <a:chExt cx="17538120" cy="2738052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6480"/>
              <a:ext cx="773094112920" cy="273805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00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5" name="PlaceHolder 3"/>
          <p:cNvSpPr>
            <a:spLocks noGrp="1"/>
          </p:cNvSpPr>
          <p:nvPr>
            <p:ph type="ftr" idx="1"/>
          </p:nvPr>
        </p:nvSpPr>
        <p:spPr>
          <a:xfrm>
            <a:off x="2590920" y="6248520"/>
            <a:ext cx="39621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
            <a:hlinkClick r:id="" action="ppaction://hlinkshowjump?jump=firstslide"/>
          </p:cNvPr>
          <p:cNvSpPr/>
          <p:nvPr/>
        </p:nvSpPr>
        <p:spPr>
          <a:xfrm>
            <a:off x="8632800" y="568476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a:hlinkClick r:id="" action="ppaction://hlinkshowjump?jump=previousslide"/>
          </p:cNvPr>
          <p:cNvSpPr/>
          <p:nvPr/>
        </p:nvSpPr>
        <p:spPr>
          <a:xfrm>
            <a:off x="8632800" y="611496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8632800" y="645480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A2F1-7B26-4BE1-972A-0B4F4720F0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93752280" y="1465200"/>
            <a:ext cx="171988200" cy="21589560"/>
            <a:chOff x="-93752280" y="1465200"/>
            <a:chExt cx="171988200" cy="2158956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93752280" y="146520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ftr" idx="4"/>
          </p:nvPr>
        </p:nvSpPr>
        <p:spPr>
          <a:xfrm>
            <a:off x="2098800" y="6397200"/>
            <a:ext cx="3566880" cy="3906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5"/>
          </p:nvPr>
        </p:nvSpPr>
        <p:spPr>
          <a:xfrm>
            <a:off x="-360" y="6396120"/>
            <a:ext cx="2081160" cy="371520"/>
          </a:xfrm>
          <a:prstGeom prst="rect">
            <a:avLst/>
          </a:prstGeom>
          <a:noFill/>
          <a:ln w="0">
            <a:noFill/>
          </a:ln>
        </p:spPr>
        <p:txBody>
          <a:bodyPr lIns="0" rIns="0" tIns="0" bIns="0" anchor="b">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4A9E-C797-4658-AEB3-0885A4245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a:hlinkClick r:id="" action="ppaction://hlinkshowjump?jump=nextslide"/>
          </p:cNvPr>
          <p:cNvSpPr/>
          <p:nvPr/>
        </p:nvSpPr>
        <p:spPr>
          <a:xfrm>
            <a:off x="8632800" y="6454800"/>
            <a:ext cx="295200" cy="295200"/>
          </a:xfrm>
          <a:custGeom>
            <a:avLst/>
            <a:gdLst>
              <a:gd name="textAreaLeft" fmla="*/ 19080 w 295200"/>
              <a:gd name="textAreaRight" fmla="*/ 276120 w 295200"/>
              <a:gd name="textAreaTop" fmla="*/ 19080 h 295200"/>
              <a:gd name="textAreaBottom" fmla="*/ 276120 h 295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00ffff"/>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dt" idx="6"/>
          </p:nvPr>
        </p:nvSpPr>
        <p:spPr>
          <a:xfrm>
            <a:off x="293760" y="5925960"/>
            <a:ext cx="2063520" cy="463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66"/>
                </a:solidFill>
                <a:latin typeface="Arial"/>
              </a:rPr>
              <a:t>Definição de DNS </a:t>
            </a:r>
            <a:endParaRPr b="0" lang="en-US" sz="3600" spc="-1" strike="noStrike">
              <a:solidFill>
                <a:srgbClr val="ffcc66"/>
              </a:solidFill>
              <a:latin typeface="Arial"/>
            </a:endParaRPr>
          </a:p>
        </p:txBody>
      </p:sp>
      <p:sp>
        <p:nvSpPr>
          <p:cNvPr id="9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DNS (Domain Name System) trata-se de um bando de dados de nomes distribuídos. </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s nomes são estruturados como uma árvore lógica chamada de Domain Name Spac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ada domínio recebe um nome e pode conter sub-domínio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DEB91ED-8D83-465E-A48F-BD26500C7A26}" type="slidenum">
              <a:t>1</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strutura do DNS </a:t>
            </a:r>
            <a:endParaRPr b="0" lang="en-US" sz="3600" spc="-1" strike="noStrike">
              <a:solidFill>
                <a:srgbClr val="ffcc66"/>
              </a:solidFill>
              <a:latin typeface="Arial"/>
            </a:endParaRPr>
          </a:p>
        </p:txBody>
      </p:sp>
      <p:graphicFrame>
        <p:nvGraphicFramePr>
          <p:cNvPr id="94" name=""/>
          <p:cNvGraphicFramePr/>
          <p:nvPr/>
        </p:nvGraphicFramePr>
        <p:xfrm>
          <a:off x="1143000" y="1781280"/>
          <a:ext cx="6781680" cy="5076720"/>
        </p:xfrm>
        <a:graphic>
          <a:graphicData uri="http://schemas.openxmlformats.org/presentationml/2006/ole">
            <p:oleObj r:id="rId1" spid="">
              <p:embed/>
              <p:pic>
                <p:nvPicPr>
                  <p:cNvPr id="95" name="" descr=""/>
                  <p:cNvPicPr/>
                  <p:nvPr/>
                </p:nvPicPr>
                <p:blipFill>
                  <a:blip r:embed="rId2"/>
                  <a:stretch/>
                </p:blipFill>
                <p:spPr>
                  <a:xfrm>
                    <a:off x="1143000" y="1781280"/>
                    <a:ext cx="6781680" cy="5076720"/>
                  </a:xfrm>
                  <a:prstGeom prst="rect">
                    <a:avLst/>
                  </a:prstGeom>
                  <a:ln w="0">
                    <a:noFill/>
                  </a:ln>
                </p:spPr>
              </p:pic>
            </p:oleObj>
          </a:graphicData>
        </a:graphic>
      </p:graphicFrame>
      <p:sp>
        <p:nvSpPr>
          <p:cNvPr id="3" name="PlaceHolder 2"/>
          <p:cNvSpPr>
            <a:spLocks noGrp="1"/>
          </p:cNvSpPr>
          <p:nvPr>
            <p:ph type="sldNum" idx="3"/>
          </p:nvPr>
        </p:nvSpPr>
        <p:spPr/>
        <p:txBody>
          <a:bodyPr/>
          <a:p>
            <a:fld id="{04B2679C-4319-4F91-B0F0-F582E7BBCF72}"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Requisitos Básicos  </a:t>
            </a:r>
            <a:endParaRPr b="0" lang="en-US" sz="3600" spc="-1" strike="noStrike">
              <a:solidFill>
                <a:srgbClr val="ffcc66"/>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ame Server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rvidores Primários, Secundários e Master</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ndância</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Localidades Remota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Forwarders and Slave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aching-only Server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aching and Time to Liv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8986FEF-F242-429F-9C18-344A2076BF79}"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Variáveis</a:t>
            </a:r>
            <a:endParaRPr b="0" lang="en-US" sz="36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4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A— O registro do tipo A (Address) estabelece a associação entre um host (computador ou qualquer outro dispositivo de rede) e um número IP dentro de uma zona do DNS. Sua contraparte é o registro tipo PTR que associa um número IP a um host em um zona reversa (em um domínio do DNS tipo in-addr.arpa)</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CNAME— O registro do tipo CNAME (Canonical Name) cria um apelido (alias) específico para um host (computador ou qualquer outro dispositivo de rede). Este recurso pode ser utilizado para esconder detalhes da implementação de sua rede.</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9FD3CEB-3E31-463D-B8E7-F494F3A54D85}"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Variáveis</a:t>
            </a:r>
            <a:endParaRPr b="0" lang="en-US" sz="3600" spc="-1" strike="noStrike">
              <a:solidFill>
                <a:srgbClr val="ffcc66"/>
              </a:solidFill>
              <a:latin typeface="Arial"/>
            </a:endParaRPr>
          </a:p>
        </p:txBody>
      </p:sp>
      <p:sp>
        <p:nvSpPr>
          <p:cNvPr id="101" name="PlaceHolder 2"/>
          <p:cNvSpPr>
            <a:spLocks noGrp="1"/>
          </p:cNvSpPr>
          <p:nvPr>
            <p:ph/>
          </p:nvPr>
        </p:nvSpPr>
        <p:spPr>
          <a:xfrm>
            <a:off x="685800" y="1676520"/>
            <a:ext cx="7772400" cy="4114800"/>
          </a:xfrm>
          <a:prstGeom prst="rect">
            <a:avLst/>
          </a:prstGeom>
          <a:noFill/>
          <a:ln w="0">
            <a:noFill/>
          </a:ln>
        </p:spPr>
        <p:txBody>
          <a:bodyPr lIns="182520" rIns="182520" tIns="46080" bIns="46080" anchor="t">
            <a:normAutofit fontScale="94000"/>
          </a:bodyPr>
          <a:p>
            <a:pPr marL="322200" indent="-322200">
              <a:lnSpc>
                <a:spcPct val="90000"/>
              </a:lnSpc>
              <a:spcBef>
                <a:spcPts val="4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HINFO— O registro do tipo HINFO (host information) identifica o tipo de hardware e de sistema operacional que esta sendo utilizado em um host. A tabela contendo as associações pode ser encontrada na RFC 1700</a:t>
            </a:r>
            <a:endParaRPr b="0" lang="en-US" sz="2000" spc="-1" strike="noStrike">
              <a:solidFill>
                <a:srgbClr val="ffffff"/>
              </a:solidFill>
              <a:latin typeface="Times New Roman"/>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ISDN—o registro do tipo ISDN (Integrated Services Digital Network) é uma variação do registro tipo A (Address). Ele permite estabelecer uma associação entre um host (computador ou qualquer outro dispositivo de rede) um endereço IP e o endereço ISDN, que consiste em um número telefonico. Este tipo de registro funciona juntamente com registro RT (Route Through).</a:t>
            </a:r>
            <a:endParaRPr b="0" lang="en-US" sz="2000" spc="-1" strike="noStrike">
              <a:solidFill>
                <a:srgbClr val="ffffff"/>
              </a:solidFill>
              <a:latin typeface="Times New Roman"/>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MB (mailbox), MG (mail group), MINFO (mailbox information), MR MR (mailbox rename), são registros experimentais que tratam de informações relativas a caixas postais (Mailbox).</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7E3AF5C-1013-4DFF-AB82-4A57914F38F4}"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Variáveis</a:t>
            </a:r>
            <a:endParaRPr b="0" lang="en-US" sz="3600" spc="-1" strike="noStrike">
              <a:solidFill>
                <a:srgbClr val="ffcc66"/>
              </a:solidFill>
              <a:latin typeface="Arial"/>
            </a:endParaRPr>
          </a:p>
        </p:txBody>
      </p:sp>
      <p:sp>
        <p:nvSpPr>
          <p:cNvPr id="103" name="PlaceHolder 2"/>
          <p:cNvSpPr>
            <a:spLocks noGrp="1"/>
          </p:cNvSpPr>
          <p:nvPr>
            <p:ph/>
          </p:nvPr>
        </p:nvSpPr>
        <p:spPr>
          <a:xfrm>
            <a:off x="685800" y="1676520"/>
            <a:ext cx="7772400" cy="4114800"/>
          </a:xfrm>
          <a:prstGeom prst="rect">
            <a:avLst/>
          </a:prstGeom>
          <a:noFill/>
          <a:ln w="0">
            <a:noFill/>
          </a:ln>
        </p:spPr>
        <p:txBody>
          <a:bodyPr lIns="182520" rIns="182520" tIns="46080" bIns="46080" anchor="t">
            <a:normAutofit/>
          </a:bodyPr>
          <a:p>
            <a:pPr marL="343080" indent="-34308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MX— o registro do tipo MX (mail exchanger) especifica qual é o servidor responsável por processar ou enviar correio eletrônico dentro de um domínio.</a:t>
            </a:r>
            <a:endParaRPr b="0" lang="en-US" sz="2000" spc="-1" strike="noStrike">
              <a:solidFill>
                <a:srgbClr val="ffffff"/>
              </a:solidFill>
              <a:latin typeface="Times New Roman"/>
            </a:endParaRPr>
          </a:p>
          <a:p>
            <a:pPr marL="34308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NS — o registro do tipo NS (name server) identifica o nome servidor de DNS dentro de uma zona. Este registro aparece em todos as zonas de DNS inclusive o reverso.</a:t>
            </a:r>
            <a:endParaRPr b="0" lang="en-US" sz="2000" spc="-1" strike="noStrike">
              <a:solidFill>
                <a:srgbClr val="ffffff"/>
              </a:solidFill>
              <a:latin typeface="Times New Roman"/>
            </a:endParaRPr>
          </a:p>
          <a:p>
            <a:pPr marL="34308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PTR— o registro do tipo PTR (pointer) é responsável pela associação entre  um  endereço IP e um host (computador ou qualquer outro dispositivo de rede) dentro de uma zona reversa no DNS.</a:t>
            </a:r>
            <a:endParaRPr b="0" lang="en-US" sz="2000" spc="-1" strike="noStrike">
              <a:solidFill>
                <a:srgbClr val="ffffff"/>
              </a:solidFill>
              <a:latin typeface="Times New Roman"/>
            </a:endParaRPr>
          </a:p>
          <a:p>
            <a:pPr marL="34308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07EB6B1-FB60-4004-AC24-07FA69229D05}"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Variáveis</a:t>
            </a:r>
            <a:endParaRPr b="0" lang="en-US" sz="3600" spc="-1" strike="noStrike">
              <a:solidFill>
                <a:srgbClr val="ffcc66"/>
              </a:solidFill>
              <a:latin typeface="Arial"/>
            </a:endParaRPr>
          </a:p>
        </p:txBody>
      </p:sp>
      <p:sp>
        <p:nvSpPr>
          <p:cNvPr id="105" name="PlaceHolder 2"/>
          <p:cNvSpPr>
            <a:spLocks noGrp="1"/>
          </p:cNvSpPr>
          <p:nvPr>
            <p:ph/>
          </p:nvPr>
        </p:nvSpPr>
        <p:spPr>
          <a:xfrm>
            <a:off x="685800" y="1676520"/>
            <a:ext cx="7772400" cy="4114800"/>
          </a:xfrm>
          <a:prstGeom prst="rect">
            <a:avLst/>
          </a:prstGeom>
          <a:noFill/>
          <a:ln w="0">
            <a:noFill/>
          </a:ln>
        </p:spPr>
        <p:txBody>
          <a:bodyPr lIns="182520" rIns="182520" tIns="46080" bIns="46080" anchor="t">
            <a:normAutofit fontScale="93000"/>
          </a:bodyPr>
          <a:p>
            <a:pPr marL="318960" indent="-318960">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RP— o registro do tipo  RP (responsible person) indica quem é o responsável pelos recursos descritos em uma Zona ou domínio. Uma zona pode conter diversos registros deste tipo. Seu conteúdo esta divido em duas partes, sendo uma para o endereço eletrônico e a segunda parte para outras informações adicionais. contact.</a:t>
            </a:r>
            <a:endParaRPr b="0" lang="en-US" sz="2000" spc="-1" strike="noStrike">
              <a:solidFill>
                <a:srgbClr val="ffffff"/>
              </a:solidFill>
              <a:latin typeface="Times New Roman"/>
            </a:endParaRPr>
          </a:p>
          <a:p>
            <a:pPr marL="318960" indent="-31896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RT— o registro do tipo RT (route through) especifica um host (computador ou qualquer outro dispositivo de rede) intermediário responsável por rotear os pacotes até o  destination host. Este registro é utilizado juntamente com os registros ISDN and X25. Seu formato é idêntico ao registro MX</a:t>
            </a:r>
            <a:endParaRPr b="0" lang="en-US" sz="2000" spc="-1" strike="noStrike">
              <a:solidFill>
                <a:srgbClr val="ffffff"/>
              </a:solidFill>
              <a:latin typeface="Times New Roman"/>
            </a:endParaRPr>
          </a:p>
          <a:p>
            <a:pPr marL="318960" indent="-31896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SOA— o registro do tipo SOA (start of authority) indica que um servidor  de DNS é a melhor fonte de informações sobre um determinado domínio. Este é o primeiro registro em um banco de dados D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B6AC1A0-3F16-4435-86E4-8C8C8A923DB7}"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NS - Variáveis</a:t>
            </a:r>
            <a:endParaRPr b="0" lang="en-US" sz="3600" spc="-1" strike="noStrike">
              <a:solidFill>
                <a:srgbClr val="ffcc66"/>
              </a:solidFill>
              <a:latin typeface="Arial"/>
            </a:endParaRPr>
          </a:p>
        </p:txBody>
      </p:sp>
      <p:sp>
        <p:nvSpPr>
          <p:cNvPr id="107" name="PlaceHolder 2"/>
          <p:cNvSpPr>
            <a:spLocks noGrp="1"/>
          </p:cNvSpPr>
          <p:nvPr>
            <p:ph/>
          </p:nvPr>
        </p:nvSpPr>
        <p:spPr>
          <a:xfrm>
            <a:off x="685800" y="1676520"/>
            <a:ext cx="7772400" cy="4114800"/>
          </a:xfrm>
          <a:prstGeom prst="rect">
            <a:avLst/>
          </a:prstGeom>
          <a:noFill/>
          <a:ln w="0">
            <a:noFill/>
          </a:ln>
        </p:spPr>
        <p:txBody>
          <a:bodyPr lIns="182520" rIns="182520" tIns="46080" bIns="46080" anchor="t">
            <a:normAutofit fontScale="94000"/>
          </a:bodyPr>
          <a:p>
            <a:pPr marL="322200" indent="-32220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TXT— o registro do tipo TXT (text) geralmente é associado a informações gerais sobre o DNS.  O conteúdo deve ser menor que 256 caracteres</a:t>
            </a:r>
            <a:endParaRPr b="0" lang="en-US" sz="2000" spc="-1" strike="noStrike">
              <a:solidFill>
                <a:srgbClr val="ffffff"/>
              </a:solidFill>
              <a:latin typeface="Times New Roman"/>
            </a:endParaRPr>
          </a:p>
          <a:p>
            <a:pPr marL="32220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WKS— o registro do tipo WKS (well-known service) é usado para descrever os recursos providos por um protocolo particular em uma determinada interface, usualmente UDP ou TCP. </a:t>
            </a:r>
            <a:endParaRPr b="0" lang="en-US" sz="2000" spc="-1" strike="noStrike">
              <a:solidFill>
                <a:srgbClr val="ffffff"/>
              </a:solidFill>
              <a:latin typeface="Times New Roman"/>
            </a:endParaRPr>
          </a:p>
          <a:p>
            <a:pPr marL="322200" indent="0" algn="just">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gn="just">
              <a:lnSpc>
                <a:spcPct val="90000"/>
              </a:lnSpc>
              <a:spcBef>
                <a:spcPts val="499"/>
              </a:spcBef>
              <a:spcAft>
                <a:spcPts val="300"/>
              </a:spcAft>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 "/>
              </a:rPr>
              <a:t>X25— O registro do tipo  X25 (X.25) é uma variação do registro tipo A (Address). Ele estabelece a associação entre um endereço  IP e um endereço X.121. Este tipo de endereço especifica o endereço de rede em uma conexão do tipo X25 (renpac)</a:t>
            </a:r>
            <a:endParaRPr b="0" lang="en-US" sz="2000" spc="-1" strike="noStrike">
              <a:solidFill>
                <a:srgbClr val="ffffff"/>
              </a:solidFill>
              <a:latin typeface="Times New Roman"/>
            </a:endParaRPr>
          </a:p>
          <a:p>
            <a:pPr marL="3222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255C5DD-5FFD-46C1-8BE1-8E9CDE647666}" type="slidenum">
              <a:t>8</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5T14:57:31Z</dcterms:created>
  <dc:creator>Informatica</dc:creator>
  <dc:description/>
  <dc:language>en-US</dc:language>
  <cp:lastModifiedBy>Joao Carlos Nogueira Guirau</cp:lastModifiedBy>
  <dcterms:modified xsi:type="dcterms:W3CDTF">1999-08-11T19:57:10Z</dcterms:modified>
  <cp:revision>12</cp:revision>
  <dc:subject/>
  <dc:title>Internet, Intranet e Extranet </dc:title>
</cp:coreProperties>
</file>