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0191-B69D-4B2B-8201-D57550526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50A6-2FBA-41C6-A68E-E5C68983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291E-6B16-46A8-9C65-FAD29DC5F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5A1F-F95F-487C-88B0-1D054AE1A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67FA-C759-4121-818B-41496CB06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5FFEA-0436-4D86-93A0-A1AAE9B6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9B642-064B-40AD-BAE8-5BEEBE99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EAC20-DFE4-4596-BBF7-F2E10F6B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AD5A-D718-429B-9880-8F267854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8777-965C-46A2-A650-8B871FB0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ED51C-CE7D-48EF-ADAA-CCE932AC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1FD9-410E-495C-9FCD-69A9E3A3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70EC-6616-473E-BA27-B38349D2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9BC63-6960-4BFA-BCA8-F0A73333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3BA1A-8420-4A6B-AA3B-F856C9A8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3BED-97AE-4B6F-85FE-DFFC04BA5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04A27-A3E4-4DBB-BA2D-D57420BD8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DACB-9D51-423D-B5C0-E6E7E0C9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0710-2A33-4B4D-AEE1-DBFE5DB03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EF9F-8FB0-449C-A9BF-7CB699E5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B6E0-2CAE-4186-BD0B-73A7B821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86D2-5ACF-4C75-8E81-8CE9DC34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5B80-8D80-414E-95B4-468E759D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AC6A-662C-4BCB-99BC-3DD14F94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">
            <a:hlinkClick r:id="" action="ppaction://hlinkshowjump?jump=firstslide"/>
          </p:cNvPr>
          <p:cNvSpPr/>
          <p:nvPr/>
        </p:nvSpPr>
        <p:spPr>
          <a:xfrm>
            <a:off x="6781680" y="6499080"/>
            <a:ext cx="19814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9999"/>
                </a:solidFill>
                <a:latin typeface="Arial"/>
              </a:rPr>
              <a:t>Ir p/ primeira página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52280" y="55627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5866920"/>
            <a:ext cx="2590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8A48-D1AC-47F0-8E74-6349B65E9CD2}" type="slidenum">
              <a:rPr b="0" lang="pt-BR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00120" y="170820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90920" y="780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" name="">
            <a:hlinkClick r:id="" action="ppaction://hlinkshowjump?jump=firstslide"/>
          </p:cNvPr>
          <p:cNvSpPr/>
          <p:nvPr/>
        </p:nvSpPr>
        <p:spPr>
          <a:xfrm>
            <a:off x="6858000" y="6499080"/>
            <a:ext cx="182880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9999"/>
                </a:solidFill>
                <a:latin typeface="Arial"/>
              </a:rPr>
              <a:t>Ir p/ primeira página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152280" y="5486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151920" y="5791320"/>
            <a:ext cx="26672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F6B7-B650-41EF-83F3-A716463A1551}" type="slidenum">
              <a:rPr b="0" lang="pt-BR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90920" y="6854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6699"/>
                </a:solidFill>
                <a:latin typeface="Arial Narrow"/>
              </a:rPr>
              <a:t>Colocando seu Site na web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Aula 3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6699"/>
                </a:solidFill>
                <a:latin typeface="Arial Narrow"/>
              </a:rPr>
              <a:t>Projeto do seu site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Passos Iniciais do Projeto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Definição do conteúdo do site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Desenvolvimento do site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Flash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Dreamweave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Cold Fusi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Homesit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HotDo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Page Mil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Front Pag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6699"/>
                </a:solidFill>
                <a:latin typeface="Arial Narrow"/>
              </a:rPr>
              <a:t>Registro de domínio</a:t>
            </a:r>
            <a:br>
              <a:rPr sz="4000"/>
            </a:b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371240"/>
            <a:ext cx="60958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Domínio é o nome que identificará sua empresa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no seu endereço Internet . Por exemplo: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http://www.suaempresa.com.br .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O nome de domínio precisa ser registrado junto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aos órgãos competentes. É importante verificar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se o nome que se pretende registrar já não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existe, utilizado, por exemplo, por empresa de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outro ramo que eventualmente tenha o mesmo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nome principal que a sua.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Vejamos alguns detalhes: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www.intermax.com.br/dominio.htm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1) Pesquise um nome para registro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2) Avalie o custo de registro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6699"/>
                </a:solidFill>
                <a:latin typeface="Arial Narrow"/>
              </a:rPr>
              <a:t>Provedor</a:t>
            </a: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Provedor de Acesso à Interne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É o fornecedor de acesso à Internet .Quando você se conecta à Internet, na verdade seu computador se conecta ao do seu provedor, o qual está ligado permanentemente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à rede. 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Exemplo de provedor de acesso:</a:t>
            </a: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www.uol.com.br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1) Avalie quanto custa para se acessar à Internet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6699"/>
                </a:solidFill>
                <a:latin typeface="Arial Narrow"/>
              </a:rPr>
              <a:t>Hos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19160" y="1371240"/>
            <a:ext cx="60958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Host ou Servido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É o computador que abriga ou "hospeda" o site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de uma empresa. Algumas empresas têm como uma de suas principais atividades alugar espaço em seus computadores para os sites de outras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companhias.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Exemplos :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www.netbit.com.b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www.intermax.com.b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www.simplenet.com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6699"/>
                </a:solidFill>
                <a:latin typeface="Arial Narrow"/>
              </a:rPr>
              <a:t>Escolhendo um Provedor/Host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676520"/>
            <a:ext cx="6095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O que se deve ter em cont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Número de usuários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Conexões disponíveis no provedor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Serviços que oferece o provedor/host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9999"/>
                </a:solidFill>
                <a:latin typeface="Arial"/>
              </a:rPr>
              <a:t>e-mails, ftp, acesso fácil, cgi, java, segurança, relatórios, etc... 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9999"/>
                </a:solidFill>
                <a:latin typeface="Arial"/>
              </a:rPr>
              <a:t>www.uol.com.br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9999"/>
                </a:solidFill>
                <a:latin typeface="Arial"/>
              </a:rPr>
              <a:t>www.netbit.com.br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9999"/>
                </a:solidFill>
                <a:latin typeface="Arial"/>
              </a:rPr>
              <a:t>www.intermax.com.br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9999"/>
                </a:solidFill>
                <a:latin typeface="Arial"/>
              </a:rPr>
              <a:t>www.simplenet.com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6699"/>
                </a:solidFill>
                <a:latin typeface="Arial Narrow"/>
              </a:rPr>
              <a:t>Avaliando os custos de um host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Avalie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9999"/>
                </a:solidFill>
                <a:latin typeface="Arial"/>
              </a:rPr>
              <a:t>1) Custo de registro de um domínio </a:t>
            </a:r>
            <a:r>
              <a:rPr b="0" lang="pt-BR" sz="2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9999"/>
                </a:solidFill>
                <a:latin typeface="Arial"/>
              </a:rPr>
              <a:t>www.suaempresa.com.br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www.suaempresa.com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9999"/>
                </a:solidFill>
                <a:latin typeface="Arial"/>
              </a:rPr>
              <a:t>1) Custo de hospedagem de um site de 1Mb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Usando cgi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Sem cgi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6T20:43:01Z</dcterms:created>
  <dc:creator>Laboratório 102</dc:creator>
  <dc:description/>
  <dc:language>en-US</dc:language>
  <cp:lastModifiedBy>Laboratório 102</cp:lastModifiedBy>
  <dcterms:modified xsi:type="dcterms:W3CDTF">1999-08-18T20:38:46Z</dcterms:modified>
  <cp:revision>6</cp:revision>
  <dc:subject/>
  <dc:title>Colocando seu Site na web</dc:title>
</cp:coreProperties>
</file>