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8665-EF19-4ED8-945B-FFEB426EE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6F03-9024-4ACA-9EF4-698F9B8E6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B0E6-523F-4418-8D04-E861CC6F3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634B-2602-4FCE-A7D4-EAE6133EB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33AE-9DC4-4AE3-8C32-7BD16AE94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3012-37BC-430B-B205-94CFE9151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9B45-478B-4156-BA8C-722961119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F832-ACB4-49B5-867A-701AC2921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C12B-68FC-4AC6-9BF7-8B332AA0D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E95F-3615-42FB-B0F2-04D5A49D1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D9D6-8BAF-45F3-A23E-B68172C0D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7267F-08C8-48DE-80E7-337F23119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ABC6-F214-47F0-98C5-B9123C43098B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66680" y="2692440"/>
            <a:ext cx="6705720" cy="22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ASP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Jav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S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4d4d4d"/>
                </a:solidFill>
                <a:latin typeface="Tahoma"/>
              </a:rPr>
              <a:t>Algumas tecnologias da Interne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Jav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incipais característic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imples (similar C, C++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orientada a objetos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istribuída (TCP/IP embutido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robusta (verificações run-time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e arquitetura neutral (JVM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egura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ortável (variáveis, IDE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rpretada (lenta, Just-in-time compiler)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multithreaded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inâmica (execução em módulos)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8FB1-F668-475B-B2DB-E2D4ED59C0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Jav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mentário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Fácil de aprender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ortável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Independe da plataforma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Capacidade de extensão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Grandes aplicativos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erformanc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Java vs. C++ (e os outros)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5BB2-8B1D-47E3-A0A9-80F05F4838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SS: Introdu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Cascading Style Sheets (CSS): ferramenta potente na manutenção de sites Web, fornece maior controle sobre a aparência das páginas com recursos simple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uporte: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Netscape Communicator: &gt; 4.0x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MS Internet Explorer: ~3 (1996), &gt;4.0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7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Opera &gt;3.5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590D-1806-431D-9C75-6C9975C284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O que é CS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W3C Recomendation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23880" indent="-239760"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ascade Style Sheets 1 (CSS1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23880" indent="-239760"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ascade Style Sheets Positioning (CSSP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23880" indent="-239760"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ascade Style Sheets 2 (CSS2) (novo)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Definem uma linguagem: que tipos de sentencias podem ser criada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CSS: um arquivo de texto (.css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0D8E-A6FA-42BF-AE2A-C71AE21F01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orque usar CS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ites Web devem separar o conteúdo da aparência. (evitar bold, italic, etc.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aior controle da aparência do site (layout, cores, fontes, background, etc.)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ais fácil gerenciar grandes site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Compatibilidade entre navegadore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81160" indent="-2811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Páginas mais pequenas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1E35-0FA5-4912-8D21-B6ED64C24B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ascada e heranç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Cascada de folhas de estilo -&gt; hierarquia.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05280" indent="-30528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Estrutura de um site grande: folhas de estilo que importam de outras folhas de estil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nível superior: folha de estilo básica (corporativa),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ada divisão: folha de estilo local,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140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inclusive: folha estilo personalizad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B8A3-299A-4443-B2C9-F210FDFDCC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SS: Exemplos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HEAD&gt;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TITLE&gt;Testing &lt;/TITLE&gt;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STYLE TYPE="text/css"&gt;   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!--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     </a:t>
            </a: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P {font-family: verdana; color: red}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--&gt;  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/STYLE&gt;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&lt;/HEAD&gt;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5D45-B8EB-4213-AE26-04B9E138D0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SS: Tipos de sentencias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Existem quatro tipos de sentencia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57280" indent="-214200">
              <a:lnSpc>
                <a:spcPct val="7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@Regras (Ex: @import),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1" marL="557280" indent="-214200">
              <a:lnSpc>
                <a:spcPct val="7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Comentários ( /*Comment*/ ),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1" marL="557280" indent="-214200">
              <a:lnSpc>
                <a:spcPct val="7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Tags de comentários HTM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2" marL="8571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&lt;STYLE&gt;    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2" marL="8571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&lt;!--     Regras de CSS 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2" marL="8571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        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--&gt;  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2" marL="857160" indent="0">
              <a:lnSpc>
                <a:spcPct val="7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&lt;/STYLE&gt;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1" marL="557280" indent="-214200">
              <a:lnSpc>
                <a:spcPct val="7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Regras.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01653-1389-4A82-9D79-C2CC8225D3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SS: Como funcionam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CSS é um conjunto de instruções (sentencias) cada uma com duas partes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4d4d4d"/>
                </a:solidFill>
                <a:uFillTx/>
                <a:latin typeface="Tahoma"/>
              </a:rPr>
              <a:t>seletor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: identifica o elemento que é modificado,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lvl="1" marL="639000" indent="-245520">
              <a:lnSpc>
                <a:spcPct val="80000"/>
              </a:lnSpc>
              <a:spcBef>
                <a:spcPts val="15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4d4d4d"/>
                </a:solidFill>
                <a:uFillTx/>
                <a:latin typeface="Tahoma"/>
              </a:rPr>
              <a:t>declaração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: como modificar (contem propriedades e valores).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Exempl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63900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4d4d4d"/>
                </a:solidFill>
                <a:latin typeface="Tahoma"/>
              </a:rPr>
              <a:t>P {font-family: verdana; color: red}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6F5EE-332C-448D-96EC-CA39BCC0C0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O que são Active Server Pages?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ctive Server Pages (ASP) é uma linguagem de script baseada no servidor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esenvolvida pela Microsoft a partir do VisualBasic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utilizada para construir sites Web com bancos de dado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navegador não precisa de nenhum script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2B96-9513-40DB-ACB1-BE464F6877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fatos relacionados: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é gratuito para NT ou Windows95/98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cripts ASP podem ser testados offline com o Personal Web Server PW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ódigo ASP é misturado com HTML no documento Web: Não precisa ser compilado ou instalado por separ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scripts ASP são arquivos de texto puro: Bloco de Notas ou Visual Interdev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5EF0-1CC5-44EA-800E-51CEF7D33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fatos relacionados (cont.):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ódigo ASP não está ligado a nenhum navegador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permite ao usuário modificar bancos de dados (ver, editar, gerenciar) desde qualquer navegador (HTML pura) através de ODB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suporta componentes do servidor construídos com outras linguagens (Java, C++, Visual Basic and Delphi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SP suporta VBScript e Jscript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A3E0-A527-4485-85F4-F66F8330AD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Alguns dados sobre ASP: 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Lançado inicialmente em janeiro de 1997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predecessores: CGI e Perl, (dentro de Microsoft: IDC e WebDB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us competidores:                           ColdFusion (</a:t>
            </a:r>
            <a:r>
              <a:rPr b="0" lang="pt-BR" sz="2200" spc="-1" strike="noStrike" u="sng">
                <a:solidFill>
                  <a:srgbClr val="4d4d4d"/>
                </a:solidFill>
                <a:uFillTx/>
                <a:latin typeface="Verdana"/>
              </a:rPr>
              <a:t>www.allaire.com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, MetaHTML (</a:t>
            </a:r>
            <a:r>
              <a:rPr b="0" lang="pt-BR" sz="2200" spc="-1" strike="noStrike" u="sng">
                <a:solidFill>
                  <a:srgbClr val="4d4d4d"/>
                </a:solidFill>
                <a:uFillTx/>
                <a:latin typeface="Verdana"/>
              </a:rPr>
              <a:t>www.metahtml.org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, ZOPE (</a:t>
            </a:r>
            <a:r>
              <a:rPr b="0" lang="pt-BR" sz="2200" spc="-1" strike="noStrike" u="sng">
                <a:solidFill>
                  <a:srgbClr val="4d4d4d"/>
                </a:solidFill>
                <a:uFillTx/>
                <a:latin typeface="Verdana"/>
              </a:rPr>
              <a:t>www.zope.org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,  PHP (</a:t>
            </a:r>
            <a:r>
              <a:rPr b="0" lang="pt-BR" sz="2200" spc="-1" strike="noStrike" u="sng">
                <a:solidFill>
                  <a:srgbClr val="4d4d4d"/>
                </a:solidFill>
                <a:uFillTx/>
                <a:latin typeface="Verdana"/>
              </a:rPr>
              <a:t>www.php.net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, etc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Java, e ActiveX permitem apresentar bancos de dados em páginas Web, mas com navegadores específic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43360" indent="-24336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xistem versões de ASP para UNIX, Lotus Domino e Netscape Enterprise Server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A883-FB2C-4C5D-BC6C-4464DCB541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ASP: Exemplo 1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937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html&gt;&lt;head&gt; &lt;/head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title&gt;response.asp&lt;/title&gt;&amp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body color="#FFFFFF"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%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when=now()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ommorow=dateadd("d",1,when)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response.write "Now &lt;b&gt;" &amp; when &amp; "&lt;/b&gt;&lt;br&gt;"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response.write "tommorow &lt;b&gt;" &amp; tommorow &amp; "&lt;/b&gt;&lt;br&gt;"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%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/body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&lt;/html&gt;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77560" indent="0">
              <a:lnSpc>
                <a:spcPct val="6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CC20-7B25-48D8-82D7-E623DD2DF6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ASP: Exemplo 2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&lt;html&gt;&lt;head&gt; &lt;TITLE&gt;dbsimple.asp&lt;/TITLE&gt; &lt;/head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&lt;body bgcolor="#FFFFFF"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&lt;%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' !!! Open Databas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DO  UNTIL rstemp.eof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' put fields into variable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ubid=rstemp("pubid")   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name=rstemp("name"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response.write pubid &amp; " &amp;nbsp ”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response.write name &amp; "&lt;BR&gt;"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  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rstemp.movenext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%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&lt;/body&gt;&lt;/html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236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0DBC-BDC6-47D1-BBB8-51E2048ACA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ldFusion CFML: exempl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7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CFQUERY NAME="ProductList" DATASOURCE="CompanyDB"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SELECT ProductName, Price FROM Products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/CFQUERY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HTML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HEAD&gt;&lt;TITLE&gt;Product List&lt;/TITLE&gt;&lt;/HEAD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BODY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H1&gt;Company X Products&lt;/H1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CFOUTPUT QUERY="ProductList"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                          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#ProductName# #NumberFormat(Price,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                                                   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"$_____.__")# &lt;BR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/CFOUTPUT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	</a:t>
            </a: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/BODY&gt; 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lnSpc>
                <a:spcPct val="7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4d4d4d"/>
                </a:solidFill>
                <a:latin typeface="Tahoma"/>
              </a:rPr>
              <a:t>&lt;/HTML&gt;</a:t>
            </a: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  <a:p>
            <a:pPr marL="29484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D8DA-EA31-4EBC-A0CB-B328174AC7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Jav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envolvida pela Sun Microsystems: 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"the network is the computer”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ercado inicial: eletrônica de consum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Uso com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rograma independente,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programa dentro do navegador: applet (fortes restrições de segurança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imeiro passo para uma Web de objet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A8A5-FA73-45BC-8126-F9072E69C0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11-23T13:32:21Z</dcterms:modified>
  <cp:revision>44</cp:revision>
  <dc:subject/>
  <dc:title>Webonomics</dc:title>
</cp:coreProperties>
</file>