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BB6F-BF42-4361-A599-E0819E8FF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1B03-7B88-4013-B682-399EDE7CF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8D28-F704-4553-AE36-CC339A03A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8FBB-DCA1-4B69-93E0-016C1A3CF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F11A-EBCD-4F24-9AB8-589D6E60A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D40B-A9F0-47A0-8162-E2A8ABE2B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5D8D-DF4B-476D-B03C-CB5E2DD12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9F33-25CD-4A1C-9D08-309D6D089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B18A-4620-4C19-98D6-A394E8FF3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27E0-A1C7-47C2-8CBA-2E7FC4768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00CE-86F1-4413-A10E-9669C1B20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6F26-9F93-4574-B69B-E500D85C3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616680" indent="-23724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48600" indent="-18972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3" marL="1328040" indent="-18972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4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5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6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70F0-17A2-4A9A-BEC6-08D1C00E4708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2692440"/>
            <a:ext cx="6705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Algumas idéias sobre a tecnologia de Active Server Pages (ASP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d4d4d"/>
                </a:solidFill>
                <a:latin typeface="Tahoma"/>
              </a:rPr>
              <a:t>Breve introdução à ASP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O que são as Active Server Page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ctive Server Pages (ASP) é uma linguagem de script baseada no servidor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É utilizada para construir sites Web com bancos de dado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navegador não precisa de nenhum script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4150-1432-4947-BE6E-41185D9857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lguns fatos relacionados: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P é gratuito para NT ou Windows95/98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scripts ASP podem ser testados offline com o Personal Web Server PW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ódigo ASP é misturado com HTML no documento Web: Não precisa ser compilado ou instalado por separad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scripts ASP são arquivos de texto puro: Bloco de Notas ou Visual Interdev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72EA-94AE-488B-898B-6D146716DD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lguns fatos relacionados (cont.):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ódigo ASP não está ligado a nenhum navegador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P permite ao usuário modificar bancos de dados (ver, editar, gerenciar) desde qualquer navegador (HTML pura) através de ODBC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P suporta componentes do servidor construídos com outras linguagens (Java, C++, Visual Basic and Delphi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P suporta VBScript e Jscript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3D3A-CE0F-4B86-AF6A-3B125901EC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lguns dados sobre ASP: 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Lançado inicialmente em janeiro de 1997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eus predecessores: CGI e Perl, (dentro de Microsoft: IDC e WebDB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eus competidores: ColdFusion, MetaHTML e PHP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Java, RDS e ActiveX também permitem apresentar bancos de dados em páginas Web, mas com navegadores específico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xistem versões de ASP para UNIX, Lotus Domino e Netscape Enterprise Server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203D-3E51-4FFC-9A79-0AA9521368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Um exempl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937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html&gt;&lt;head&gt; &lt;/head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title&gt;response.asp&lt;/title&gt;&amp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body color="#FFFFFF"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%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when=now()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ommorow=dateadd("d",1,when)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response.write "Now &lt;b&gt;" &amp; when &amp; "&lt;/b&gt;&lt;br&gt;"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response.write "tommorow &lt;b&gt;" &amp; tommorow &amp; "&lt;/b&gt;&lt;br&gt;"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%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/body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/html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D314-2658-4449-B69B-83BD0C11BA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1:37:13Z</dcterms:created>
  <dc:creator>Reinaldo Pérez Sánchez</dc:creator>
  <dc:description/>
  <dc:language>en-US</dc:language>
  <cp:lastModifiedBy>Reinaldo Pérez Sánchez</cp:lastModifiedBy>
  <dcterms:modified xsi:type="dcterms:W3CDTF">1999-11-23T04:03:25Z</dcterms:modified>
  <cp:revision>35</cp:revision>
  <dc:subject/>
  <dc:title>Webonomics</dc:title>
</cp:coreProperties>
</file>