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793-0CF3-4674-AF58-0182638A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0FA-7384-4189-8CFE-46CF3C74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B334-AE06-4B84-9978-845AE56A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6816-B515-4704-9838-375A8E04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75AC-2155-493C-80CC-49F60DA1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E0DB-3B2F-4217-836F-EAF2FF87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8A01-86A2-4EA5-925F-6FFA8C27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F170-1501-4601-9CFB-8C3C991B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0075-9C16-4B77-8F2B-AAB017ED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ED63-BA7F-45B8-B8BC-9840D8D5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CE1F-A426-4599-89A4-31940034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4FC-2259-4B3F-999F-27F3C2BC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CBC2-655D-4FEC-ABDA-8DE22DD9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04BC-2D62-400C-A6D0-C76CAF8C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6DA2-B51F-43CA-A294-616DAFA6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DA72-5FB5-4F8B-ACF7-03520F34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C67B-1DD8-4E11-93CA-4D2B5134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DF8-2E44-4EC2-B6B0-64956B6E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650B-BD91-4249-BC76-8D4CDCED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4C2D-78C6-457D-8FEA-8132DECA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36D-8718-4520-869F-62F10058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91F-5D2A-41E1-9A49-440F01EA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A61D-4448-46CE-AD82-94F57476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D1F-E8ED-4E4A-973C-4F95771F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Internet-Intranet F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ADAA-A6B2-4FC1-94CA-2C15BE3D2955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8194-832E-4D2B-B4D8-CA83FBE6D2AD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HT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ipos diferentes de displ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browser traduz o documento We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so das capacidades especificas de cada computa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o é lida uma página We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HTML (HyperText Markup Language): subconjunto do SGML (Standard Generalized Markup Language) o DTD (Document Type Definition) que define a sintaxe do docum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Versões  3.0, 3.2, 4.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7C5A-463F-46FF-B6AA-54003AD18AE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Forms: limitaçõ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queno numero de elementos de inter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lementos pouco flexíve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lementos pouco extensíve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m processamento no cliente (ex: validação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cessamento no servid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D4BC-1F9E-44F4-AAF8-9D3E851A130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ynamic HTML (DHTML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É HTML que pode mudar após ter carregado pelo brows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ormado pelas seguintes tecnologi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nguagens de script (cliente)      -&gt; realiza a mudanç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ocument Object Model (DOM) -&gt; permite a mudanç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interação independente do conteú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ascade Stylesheets (CSS)           -&gt; o que é mud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layout independente do conteú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A4FB-2AB9-445B-A776-31FD2EF97BA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ynamic HTML (DHTML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iferente suporte pelos brows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2895480"/>
            <a:ext cx="3886200" cy="459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HTML 1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3352680"/>
            <a:ext cx="3886200" cy="459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HTML + 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3809880"/>
            <a:ext cx="1905120" cy="459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3809880"/>
            <a:ext cx="1981080" cy="459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VB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648320"/>
            <a:ext cx="5867280" cy="459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Help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5105520"/>
            <a:ext cx="1905120" cy="459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Plug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5105520"/>
            <a:ext cx="1981080" cy="459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ctiv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5105520"/>
            <a:ext cx="1981080" cy="459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869E-1E7C-4A0C-B63B-3968A7EEDB5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HTML: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é Java (criado como LiveScript 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Baseado em objetos mas não O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lementos HTML definem objetos organizados em jerarquia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FORM NAME=“myform”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INPUT TYPE=“button” NAME=“Button1”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/FORM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&gt; document.my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&gt; document.myform.Button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4178-30D6-4BF8-B91D-4CFDCC3C2F2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HTML: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ão definidas funçõ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CRIPT language=“JavaScript”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unction bar() {document.write(“Hello”)} 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unções em &lt;HEAD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vent handlers no HTML ta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INPUT TYPE=“button” onClick=“bar()”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lementos não-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guranç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258-2CA0-4953-AB7E-74D2A13E4B9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HTML: D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ocument Object Model (DOM)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pressa a estrutura de um documento HTML de forma universal, sem referencia ao conteú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E4 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o browser mantém informação sobre a estrutura do documento (jerarquia de elementos) e apresenta-a para leitura e manipul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tilizado por qq. programa: script, Java applet, ActiveX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rabalha com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toda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a estrutura do docum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E452-AEFD-49BA-8458-23AAFF7F0EE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HTML: D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OM trabalha através de objetos com proprieda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da objeto pode ter outros objetos filh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ferencia aos obje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window.document.all(23).style.color=b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IMG SRC=“img2.gif” ID=“SecondImage”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45A8-5D08-4EA1-B487-9C346F41D2E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HTML: C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HTML: falta precisão e flexibilida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SS (Cascading StyleSheets) 199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trole mais preciso sobre os efeitos tipográf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udança de muitos documentos através de um s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patibilidade em diferentes brows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enos código, páginas men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parar a forma da estrutura através de definições de forma a diferentes níveis. =&gt; Cascad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8DFD-F9DD-43AD-872D-5F57A99D98D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HTML: C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SS baseia-se em regras: seletor + declaração (a propriedade e o valor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1 {color:green; font-family: impact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 {text-indent:1cm; background:yellow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Qualquer tag HTML pode ser usado como selet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Heranç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 {color:blue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B&gt;I'll finish in &lt;I&gt; two &lt;/I&gt; weeks&lt;/B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CDA-CEF4-4F05-82CB-409B9E6311B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HTML: C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dicionando CSS à páginas Web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butida:  em cada pági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nking: Várias páginas utilizam o mesmo documento C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mportando: Pode misturar com outros métodos (IE4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-li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las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.first {color:green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.second {color:blue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P CLASS=first&gt; Print it green &lt;/P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P CLASS=second&gt; Print it blue now &lt;/P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2CCC-A774-4B85-8D3B-8C9CB65BE3A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HT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struções no documento: ta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página Web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2971800"/>
            <a:ext cx="3733560" cy="29304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HTML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HEA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TITLE&gt;Hello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/TITL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/HEA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BODY&gt;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Hello everybody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/HTML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2819520"/>
            <a:ext cx="4038480" cy="3373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A HREF=“http://www.fasp.br”&gt;FASP&lt;/A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3352680"/>
            <a:ext cx="4038480" cy="3373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IMG SRC=“image0.gif”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3886200"/>
            <a:ext cx="4038480" cy="21895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TABL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T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TD&gt;Item1&lt;/T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TD&gt;Item 2&lt;/T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/T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/TABL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D73B-BD6C-4976-90DF-023BD81B98D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Help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lugi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ctiveX (OLE para red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Jav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FCAE-EDFA-4A58-8585-08DBAC0AE9A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X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tensible Markup  Language: É uma volta ao SGML. Proposta da Netsc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P&gt;This is the picture of Thomas Field : &lt;IMG SRC=“tf.jpg”&gt; &lt;/P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P&gt;This is the picture of &lt;AUTHOR&gt; &lt;FIRSTNAME&gt; Thomas &lt;/FIRSTNAME&gt; &lt;SURNAME&gt; Field &lt;/SURNAME&gt; &lt;/AUTHOR&gt;: &lt;IMG SRC=“tf.jpg”&gt; &lt;/P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DA04-7CF3-4C62-97D1-ABC6713F72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nteúdo dinâmic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G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tensões 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S Active Server Page (AS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WebSite i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ldFusion CF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rver-Side 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I (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SAPI, WSAPI, NSAPI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EE7E-F4EB-4DB6-82A7-95A190F18C8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ldFusion CFML: exempl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CFQUERY NAME="ProductList" DATASOURCE="CompanyDB"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SELECT ProductName, Price FROM Produc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/CFQUERY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HTML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HEAD&gt;&lt;TITLE&gt;Product List&lt;/TITLE&gt;&lt;/HEAD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BODY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H1&gt;Company X Products&lt;/H1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CFOUTPUT QUERY="ProductList"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#ProductName# #NumberFormat(Price, "$_____.__")# &lt;BR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/CFOUTPUT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/BODY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/HTML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7EC-C994-4497-AF35-6CA6F41A55F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Jav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imeiro passo para uma Web de obje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entári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ácil de aprend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rtáv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depende da platafor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apacidade de extensã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randes aplicativ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erform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Java vs. C++ (e os outro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2E93-4AA7-4FA1-844A-5BF3EEFF002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Active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Baseada em duas tecnologias 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bject Linking and Embedding (O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ponent Object Model (COM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124E-0BE4-41A3-B370-90866483BDF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rojeto de si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screver para a Web é diferente de escrever para imprim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iferencias físicas (tecnologia) e psicológic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a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79% dos usuários não lêem todas as palavras (sca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er da tela é 25% mais lento que do pap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teúdo Web deve ter 50% menos palavras que o equivalente em pap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D77F-6C7C-49E9-B486-D242864719A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rojeto de si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iferencias entre papel e on-l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rabalhando com o design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canability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aveg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screvendo para ser li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screvendo para ser encontr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vis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CC35-3256-466C-BA0E-C55D48BA772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rojeto de si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bjetivo do s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jetar sites, não págin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projetar em HTM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sistê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mpla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rspectiva do usuár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teúdo é o mais importa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D74-8657-4C9C-A0ED-6457B34526E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Marketing do si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ite design.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dados da empresa, contatos, ampla informação, casos de estudo, etc.).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ódigo HTML.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title, meta tags: “Author”, “Description”, “keywords”, HTML geral, independente de plataform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erramentas de marketing.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sites de pesquisa, banners (intercâmbio), mala direta, estatísticas do sit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arketing extra.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newsgroups, grupos de discussão, classificados, FREEbies, etc. 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Bonus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chat room, guestbook, free graphics, newsroom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E86B-0755-4B0C-BFE3-730EE63E324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HTML: importânc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Linguagem suficientemente ge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ácil de aprender e utiliz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tremamente flexív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renda com as páginas que encontr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B3D5-D282-4321-B021-5C5DE66AAC2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istributed compu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ternet: ilhas de program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MG: Common Object Request Broker Architecture CORBA (IDL),        Internet Inter-ORB Protocol IIO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S: Component Object Model (COM) / Distributed COM (DCOM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Remote Method Invocation (RMI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DCCE-5CAC-4D51-860C-F0DD28AE433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mparando ActiveX &amp; CORB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rquitetura, especific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uporte multi-platafor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uporte multi-linguag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Grau de desenvolvim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uporte para WW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guranç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scalabilidad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A2B-2E69-40DD-A4BE-EF1EE88FA98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xtensões HT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ágina Web padrão: estática e ocupa toda a te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Vantagens: fácil de criar, manter e carreg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svantage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ó incluem texto e image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formação estát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ão interagem com o usuá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página carregada é estát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9BA1-C71D-48C4-87C0-AAEACD1A80F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paganda na Web: fram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286000"/>
            <a:ext cx="731520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HTML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HEAD&gt;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TITLE&gt; Title &lt;/TITLE&gt;&lt;/HEA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NOFRAMES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BODY&gt;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/NOFRAMES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FRAMESET   ROWS=“43,*”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FRAME SRC=“menu.html”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FRAME SRC=“item1.html”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/FRAMESET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Times New Roman"/>
              </a:rPr>
              <a:t>&lt;/HTML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0B80-A8CF-4DA9-B617-71A9D04F133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rocessando novos tipos de dad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lugin: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grama para interpretar um tipo de d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specífico para cada novo tipo de d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é carregado quando necessár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DA69-6178-483D-86DD-CFAEF57B888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riando páginas on-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mom Gateway Interface (CGI):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ermite associar URL a um programa que será executado no servidor. A saída do programa é enviada ao browser. (não ha diferencia para o browser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GI e propagan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Vantagens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cesso e processamento de  dados no servid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esvantagens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gramação difícil (C++, PERL, etc.), ocupa tempo no servidor e seguranç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933F-19AC-4B69-A7B8-84656B1CCB2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mo funciona o CG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4419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ssando informação ao programa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riável de ambiente QUERY_ST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ttp://search.excite.com/search.gw?search=tutorial&amp;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1828800"/>
            <a:ext cx="1371600" cy="8380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Usuá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2514600"/>
            <a:ext cx="0" cy="1219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3733920"/>
            <a:ext cx="10670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3048120"/>
            <a:ext cx="2514600" cy="121896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3429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1676520"/>
            <a:ext cx="3276720" cy="1752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2133720"/>
            <a:ext cx="1066680" cy="368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1752480"/>
            <a:ext cx="1066680" cy="6426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ervidor We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86600" y="1828800"/>
            <a:ext cx="1143000" cy="6426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grama CG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895480"/>
            <a:ext cx="1524240" cy="368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isco lo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3657600"/>
            <a:ext cx="8380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172200" y="2437920"/>
            <a:ext cx="0" cy="12193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21337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2400" y="2514600"/>
            <a:ext cx="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391520" y="2514600"/>
            <a:ext cx="0" cy="380880"/>
          </a:xfrm>
          <a:prstGeom prst="line">
            <a:avLst/>
          </a:prstGeom>
          <a:ln w="22320">
            <a:solidFill>
              <a:srgbClr val="ffffff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629400" y="2286000"/>
            <a:ext cx="457200" cy="0"/>
          </a:xfrm>
          <a:prstGeom prst="line">
            <a:avLst/>
          </a:prstGeom>
          <a:ln w="22320">
            <a:solidFill>
              <a:srgbClr val="ffffff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257440" y="3809880"/>
            <a:ext cx="1143000" cy="0"/>
          </a:xfrm>
          <a:prstGeom prst="line">
            <a:avLst/>
          </a:prstGeom>
          <a:ln w="22320">
            <a:solidFill>
              <a:srgbClr val="ffffff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2438280"/>
            <a:ext cx="0" cy="1371600"/>
          </a:xfrm>
          <a:prstGeom prst="line">
            <a:avLst/>
          </a:prstGeom>
          <a:ln w="22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371600" y="2514600"/>
            <a:ext cx="0" cy="1447920"/>
          </a:xfrm>
          <a:prstGeom prst="line">
            <a:avLst/>
          </a:prstGeom>
          <a:ln w="22320">
            <a:solidFill>
              <a:srgbClr val="ffffff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396252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A356-B726-4C57-A825-A79FDEBC42F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Interação com o usuário: For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ermite ao usuário entrar informações que serão enviadas ao servidor para processar no CG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put: submit, reset, text, radio button, checkbox, filename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gurança (servidor e client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434340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FORM method=GET action="/mycgi/guestbook.p"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Seu nome:&lt;INPUT type=text name=realname size=30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TEXTAREA name=comments COLS=60 ROWS=4&gt;&lt;/TEXTAREA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INPUT type=submit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/FORM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36CB-32F2-4F3C-9DAF-6C05AE1970B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Reinaldo Pérez Sánchez</cp:lastModifiedBy>
  <cp:lastPrinted>1998-09-30T14:40:06Z</cp:lastPrinted>
  <dcterms:modified xsi:type="dcterms:W3CDTF">1998-09-30T14:44:52Z</dcterms:modified>
  <cp:revision>76</cp:revision>
  <dc:subject/>
  <dc:title>CURSO INTERNET, INTRANET.</dc:title>
</cp:coreProperties>
</file>