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F14-A6D2-462F-BD26-F0EE590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2F8-3792-462E-98A6-D0FDBF7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F3C-2D4D-482C-88C9-4506704F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1A4-9BE8-451C-89F0-18794722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C82B-7E17-43B6-83FD-E23423B7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49F-F3DC-4643-8214-8305D95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BF9-4204-47C7-A6EB-58D3D421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3B6-9373-4B94-96F2-B522481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D5E2-0147-47E4-ABE4-089D07AA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D290-BC67-4EF1-A488-7F0DCE86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24C2-3FF3-4CFE-98A5-FACD0F6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03A-7E3E-40B2-9E23-50EC4CA1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C822-7F21-4D49-8524-9B956549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4FF-7F83-4DFB-B522-5C2D719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5430-C948-4D9F-8EAB-3466014E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91A6-0130-4F3D-984D-12B3C25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00C5-4764-45A3-BFCE-8772985D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8B2-D1BF-48E6-87C1-8EE776C3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B93-8FD2-4158-9B7A-96CA7EAC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386-11D0-422C-AF6B-80C4359A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D8D-7E65-4514-9A95-36D4EDF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455-9373-4C49-A60A-9419EE5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4D9-75E3-45FA-9191-204FF00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7D5-5187-4DD1-97B5-2EA71CF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588-AE52-4158-AF63-9C8A4D0D5DE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0AB3-3328-4F04-A213-5C3D9DD1B85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acesso à informação: proble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rmatos de arquivos proprietários e incompatí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erramentas de consulta caras, não intuitivas ou inexist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lização freqüente do mate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randes orçamentos de impress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formações desatualizadas fechadas em sistemas obsole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esso difícil a informações vit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formações redundantes e duplic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A60-F7F4-42A4-A9B3-FE09D8D2836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ando uma Intranet si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S Personal Web Server, MS Office‘97, MS FrontPage’98, um brow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mada de conteú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mada de naveg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ublicação e pesqu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escimento futu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riante +complexa, ++potente, ++barata: Servidor Lin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EAE-9146-47A0-9801-A75AFBF315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safio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fra-estrutura da rede e aplica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lidade da informação (ca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erramentas de public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erenciamento-&gt;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eguir que seja usad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esci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082-77BA-4D49-9292-B4E5E8A188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emplos de Intran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P: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pera uma das maiores Intranets do mundo: ESP (Electronic Sales Partner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unicação com distribuidores e revended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nuais técnicos, catálogos, listas de preços, promoçõ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3000 documentos (5Tb de informaçã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 manual ou catálogo na Intranet -&gt; economia de $10000 (valor de imprimir e remitir o documento a 2000 pesso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presentante de vendas: economia de 5 h por sema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2F5-F610-4737-B930-6E6CC43821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 = gerenci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 = uma ferramen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ínimo (tem um custo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dentificar o que tem que ser proteg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valiar os riscos possíveis em cada po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 lógica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identificação e autentic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 física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martcard, biométrica (rosto, voz, forma da mão, iris, etc.)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475-D917-43FF-AD6E-F70B70B843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 na Intrane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ranç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nça nos limites Internet/Intranet: firew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nça na Internet e na Intra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idenciabil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entic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=&gt; CRIPTOGRAF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F80-8780-4C65-A235-12FB1208ED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irewa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uma barreira inteligente entre a rede local e a Internet: só permite tráfego autori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em precisa de um firew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trando em uma re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niffer”, “spoofer”, “crack”,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curity holes”: SMTP, TCP/IP, DNS, WWW, FTP, Telnet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9A3-B5BE-4F28-9074-6E6270290B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irewalls: tip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tandard OSI (Open System Interconnec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s de firewal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a geração: filtros de paco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2a geração: Gateways de aplicações (Proxy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3a geração: Stateful Multi-Layer Inspection (Inspeção de Estado Multicamad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D45-9A90-45A0-ADF4-7238AA7A06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ptograf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rigem na área mili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ois tipos de criptograf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goritmo simétrico: DES (56 bit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goritmo de chave pública: RSA (1024)        (one-way functions: parecem segur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utentic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go que o usuário conhece (password, ...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go que o usuário tem (cartão, chave, ...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racterísticas físicas (biometr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16E-5498-431D-9911-332A1352D6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ptograf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utentic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ivac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ssinatura digi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ertificado digital -&gt;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câmbio de ch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ódigo de autenticação de mensagem: hash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imestamp: evita o repl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on-repud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B9C-EA64-451C-AE76-CC40529AAE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: Protocolo SS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i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idenci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nipu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lsa ident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1640" y="42667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olução S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pt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gridade dos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rtificado de autent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824840"/>
            <a:ext cx="80773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cure Socket Layer (SSL): protocolo de segurança nas comunicações da Netscape que usa a criptografia de chave pública. (proteção apenas na transmissã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balha entre os protocolos TCP e de aplic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48E-79FF-48ED-A6C9-A10CB444AD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Web como rede de informação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esso à inform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ependente da platafor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versos tipos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Browser como interface univers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034960"/>
            <a:ext cx="198108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ra do 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5034960"/>
            <a:ext cx="198108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ra do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5034960"/>
            <a:ext cx="198108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ra do conteú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5356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5356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DE8-8456-4107-B6C5-5790A11103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: Protocolo 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tandard aberto para o processamento seguro de pagamentos na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ptografia de chave públic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rtificados digitai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idencialidade do conteú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ão único da Visa e Mastercard (1997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da parte envolvida na transação comercial tem acesso apenas à informação necessária à sua fun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184-412B-4997-AB06-B78EF9D479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Segurança: Protocolo 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ssos de uma transação segu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352680"/>
            <a:ext cx="2057400" cy="808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352680"/>
            <a:ext cx="205740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erci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352680"/>
            <a:ext cx="1904760" cy="762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an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438280"/>
            <a:ext cx="3962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1 - Envia certificado de comerci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2362320"/>
            <a:ext cx="396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4 - Confirma trans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572000"/>
            <a:ext cx="396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2 - Envia pedido de compra e certificado de comerci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5720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3 - Envia solicitação de pag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320" y="3048120"/>
            <a:ext cx="2057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33760" y="3048120"/>
            <a:ext cx="2057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320" y="4419720"/>
            <a:ext cx="2057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05160" y="4419720"/>
            <a:ext cx="2057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67080" y="411444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30481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162920" y="411444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419112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30481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41148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3048120"/>
            <a:ext cx="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738960"/>
            <a:ext cx="609480" cy="398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3738960"/>
            <a:ext cx="609480" cy="398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3753360"/>
            <a:ext cx="6094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644080"/>
            <a:ext cx="609480" cy="3988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5638680"/>
            <a:ext cx="5105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ertificado Digital da entidade certific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EDA-27BD-4851-B09B-F65CA738F4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s vs. Group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são mutuamente exclus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roupware (workflow, collaborative computing, etc.) -&gt; aplicações com fo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anet -&gt; fazer on-line o conteúdo exist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s combin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C90-EC72-4ACA-80B0-41B516CC0E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irtual Private Networks (VP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PN fornece conexão com redes ou usuários remotos através de um canal criptografado (“tunneling”) na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VPN pode ser implementada como Intranet e eliminar o uso da W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lexibilidade (extensão a parceir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blemas: segurança, estabilidade, performance, compatibilidade (L2TP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55C-9F99-4E67-9DCC-9B74877BBD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ata warehouse para Intr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 data warehouse para Intranet é uma combinação de tecnologias que permitem ao usuá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lta dinâmica a bancos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alisar os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rmatar o resultado em um brow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A70-5EC2-4E67-AEEB-AD24DF03487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or que construir um DWI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uperioridade esmagado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pital intelectual=Capital financei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ta warehouse -&gt; dados histó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ranet -&gt; processamento e comunic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spostas à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que?, quando?,  onde?, como?,  por que?, o que aconteceria se…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2E0-AAFF-42C3-9CB7-325FB92CC0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ponentes básicos de DW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ta warehouse: repositório completo e preciso de dados estruturados (financeiros, de marketing, comportamentai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LAP (On-line Analitical Processing): ferramentas de acesso e análise de dados (consulta e relatório, análise multidimensional, análise estatística, mineração de dad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s Internet (Intranet): comunicação e colaboraçã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265-C10A-4151-BE54-06941C7ED3F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Juntando os conce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ranet altera um dogma básico: ela é voltada para todos os usuá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necessidade do usuário não tem ligação com a análise dos dados ou a metodologia de recuper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browser como interface cliente univers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valor da inform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F12-70F2-494A-9F43-EDCD79D3D4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ineração de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o processo de extração de informação válida, previamente desconhecida e compreensível partindo de grandes bancos de dados e o uso de esta informação para a tomada de decisões nos negó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volve quatro pas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leção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nsformação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neração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pretação de resul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85F-C624-4438-A55A-DFC7DEE1CB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ineração de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perações da mineração de 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ação de modelos de predição e classific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álise de lin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mentação da base de d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tecção de desv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583-0782-450C-8EF3-E1B878F87D9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cnologias que fazem possível a Intran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CP/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MT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E6C-CD9A-4AE5-8EDA-DDFA70385F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ineração de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écnicas que implementam as operações da mineração de 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dução supervisio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coberta de associa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coberta de seqüên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luste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écnicas estatís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isualiz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950-0716-412F-AEC3-79BC3F3A7B7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: característ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tótipos ráp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cal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avegação simp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esso desde a maioria das platafo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 integrar estratégias distribuí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gra fontes de informação existentes (legac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tensível a vários tipos de mí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833-8AB7-482F-BF63-77B0F6171C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: benefíc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eço com pouco investi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is fácil de atualizar (imediata, por evento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nutenção da informação mais bar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suários familiarizados com a metáfora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riedade de forma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iste um grande número de aplicativos (plataforma abert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03A-EED8-4C90-AA4B-CBC67C15A5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: Custo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grande atrativo da Intranet: não são ca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ranet </a:t>
            </a:r>
            <a:r>
              <a:rPr b="0" lang="pt-B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ã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melhora diretamente os custos operacion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figuração bás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rvidor, sistema operacional, servidor WWW (servidores de e-mail, news, FTP, bancos de dados, calendar, etc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rowser: interface univers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188-DBBB-49C0-BB34-6ED25C97DF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ntranet: Como está sendo usad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istemas de gerenci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formação de ven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cursos humanos/benefíci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e técnico/aju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nanç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balho em grup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oletim da empre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cumentação ISO 90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ACE-5EB9-481B-96EB-76AC6DCDDB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riando a Intr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calable -&gt; programa pilo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dentificar área de instalação. (fluxo de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dentificar fonte de inform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dida dos custos e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exão com Intern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exão direta à Interne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exão à Internet via Provedor (ISP).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tensão a outras ár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0DC-0312-4EF6-BFB1-902B2457B2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struindo a Intr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43360" y="1878120"/>
            <a:ext cx="5236920" cy="4168800"/>
          </a:xfrm>
          <a:prstGeom prst="bevel">
            <a:avLst>
              <a:gd name="adj" fmla="val 2208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815640"/>
            <a:ext cx="144792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rvidor Web públ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291760"/>
            <a:ext cx="144756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rvidor Web in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362320"/>
            <a:ext cx="762120" cy="304560"/>
          </a:xfrm>
          <a:prstGeom prst="leftRightArrow">
            <a:avLst>
              <a:gd name="adj1" fmla="val 39583"/>
              <a:gd name="adj2" fmla="val 55260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552240" y="3333600"/>
            <a:ext cx="571680" cy="304920"/>
          </a:xfrm>
          <a:prstGeom prst="leftRightArrow">
            <a:avLst>
              <a:gd name="adj1" fmla="val 50000"/>
              <a:gd name="adj2" fmla="val 37323"/>
            </a:avLst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752480"/>
            <a:ext cx="1905120" cy="1447920"/>
          </a:xfrm>
          <a:prstGeom prst="flowChartDelay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153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Internet 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3586680"/>
            <a:ext cx="17524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rvidor da r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367720"/>
            <a:ext cx="144792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Fire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4866480"/>
            <a:ext cx="144792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3739320"/>
            <a:ext cx="17524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ervidor da r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4501080"/>
            <a:ext cx="99072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653720"/>
            <a:ext cx="144756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4288320"/>
            <a:ext cx="99036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5415480"/>
            <a:ext cx="144756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050440"/>
            <a:ext cx="99036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3200"/>
            <a:ext cx="22860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2743200"/>
            <a:ext cx="1676520" cy="9907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343400" y="2743200"/>
            <a:ext cx="99072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971800"/>
            <a:ext cx="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5840" y="3962520"/>
            <a:ext cx="15228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486400" y="4114800"/>
            <a:ext cx="53352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4114800"/>
            <a:ext cx="1522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C54-1F66-47A0-919C-629413CAFCD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de Julho de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10-07T19:29:34Z</cp:lastPrinted>
  <dcterms:modified xsi:type="dcterms:W3CDTF">1998-10-07T19:34:07Z</dcterms:modified>
  <cp:revision>65</cp:revision>
  <dc:subject/>
  <dc:title>CURSO INTERNET, INTRANET.</dc:title>
</cp:coreProperties>
</file>