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8218-B547-4A36-BD36-5DE9602DE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2A22-4EAE-482E-86D8-3348C85BB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C194-D227-4871-BBE9-478435F2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4682-8BA8-4E81-8E65-506359C66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94EC-316A-4439-B427-E99C1DC86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B571-FC9C-407A-B825-22ED37ECA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730B-6C76-4692-BD4A-A568B8F17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EF3F-12AA-473E-81DF-C4AF415D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9BA-D26D-4AF6-9C38-6B1D716D9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57D8-696A-4939-B4D5-57ACA52C6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8786-E1D4-44B0-9303-BF6C58DC6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F2D9-C58E-4475-BB1C-99B84704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AB7-E05D-48F1-825B-0DBE1635A560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Verdana"/>
              </a:rPr>
              <a:t>Princípios essenciais para fazer crescer os negócios na Web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Webonomics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té o menor dos negócios pode competir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a Web qualquer negócio pode virar globa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criatividade, a inteligência e as habilidades humanas importam cada vez mai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quenas companhias agindo como se fossem grandes, e a grandes companhias apresentando a agilidade das pequen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nteúdo em inglês é predominant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queda dos preços e o aumento da disponibilidade dos serviços de telecomunicaçõ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3758-C036-4DD6-A156-1F1B51B413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gilidade para acompanhar o mercad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a Web a vantagem competitiva dura pouc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clientes são seus melhores juize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ra mudar rapidamente: prestar atenção aos interesses dos client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site deve acrescentar novas características, melhoras e serviços a intervalos regula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ecnologias revolucionarias podem acabar com o seu negóci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1E94-B3DF-4466-A406-9E04CB7AF4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Introdu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Livro de  E. I. Schwartz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Webonomics: o estudo da produção, distribuição e consumo de produtos, serviços e idéias na Web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 uma nova economia</a:t>
            </a:r>
            <a:r>
              <a:rPr b="0" lang="pt-BR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017A-5B21-4710-BD3E-0EBFFEE38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8680" y="1279440"/>
            <a:ext cx="7423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Quantidade é menos importante do que a qualidade da experiênci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egócios na Web necessitam das pessoas voltando a visitar o sit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ma comunidade on-line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não é um mídia de massas, é uma mídia interativ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 publicações on-line não substituirão às publicações impress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ites de informação serão lucrativos por cobrar por novos serviços. 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4D1A-721D-429B-9B95-20E159951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8680" y="1279440"/>
            <a:ext cx="7423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é para obter resultado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começa onde a propaganda tradicional termin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te de marketing precisa alcançar resultad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consumidores na Web procuram ativamente informação (push-pull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odelo de preços e vendas de propagand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importância da propaganda nas mídias de massas diminui: saturação, click-away, cinismo do público e concorrênci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vias principais para fazer o marketing de um site.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529C-84D1-4E0D-9072-8FC5033BF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ompensar os clientes por revelar dados pessoai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eocupação com privacidade dos dados pessoai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requer algo significativo em troc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insuficiente coletar informações pessoais, é necessário que sejam utilizad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ode ser mais útil oferecer descontos, do que oferecer algo nov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m limites à coleta de tais dados: políticas claras sobre o uso desses da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0685-F40F-4CD3-B486-0D03C0B24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ompras on-line só de produtos de alto conteúdo de informa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informação é o que vende produtos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geografia é irrelevante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iferenciação: maior seleção, experiência superior no ramo e menores preç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pras on-line nunca suplantarão a experiência pessoal de compra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pras on-line: livros, CDs, vinhos, imóveis, carros, seguros, computadores, boletos aéreos, et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036C-D592-4195-AC6B-8CA6E470A7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uto-serviço: grau máximo de confor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uto-serviço: imprescindível em muitas industri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berta 24h x 7 dias, ideal auto-serviç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m alguns casos é a via para reduzir custos, aumentar a eficiência e encorajar a reforçar dos client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bancos estão virando lojas financeir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pessoal de serviços não deve virar obsole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A0BB-2486-400E-A053-5261A0CFF5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oedas baseadas em valores: sistemas monetários próprio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BV: clientes leais ganham pontos que trocam por produtos e serviços reais (empresas aeronáuticas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: ferramenta para gerenciar suas contas nestas novas moed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inheiro digital: não têm conseguido decolar ou têm sido integrados no cartão de crédit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stema de micro-pagament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confiança é a qualidade de mais valor no cyberespaço: emitir e respaldar MBV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B969-E185-43C7-ABF8-9545D524A1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cas importam ainda mais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rcas estão sendo reavaliadas na economia da Web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lientes: marcas são mais que frases de marketing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difícil estabelecer uma marca nova na Web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Web para lançar uma marca além dos produtos aos que ela está associada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unidade de interesses em torno da marc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91A3-1B68-43F7-BB4B-A281ECFF5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14T03:21:33Z</dcterms:modified>
  <cp:revision>14</cp:revision>
  <dc:subject/>
  <dc:title>Webonomics</dc:title>
</cp:coreProperties>
</file>