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4D1-2D33-4F9E-8508-BEDB05FE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A80-9057-4D6B-9088-6A1947D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83F-EF3C-4983-9954-5004B30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A41-70FA-41CD-B12E-E0FB2673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7DF0-1903-4E5E-9D63-093534AD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CE6C-3AF9-4A90-B4CC-023E1D6B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7B7-601E-47AD-9107-2F2DB36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C34B-2B23-4EF3-902A-5FDCC7B1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2CAE-6331-4210-93B1-C277178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565-B95E-417F-AEC5-B2CD2E89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D692-6A2D-4D2D-9BF9-78CDB49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654-5263-4253-B7A7-46853EEE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A96-6DB7-4992-A912-2917CD3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FD0B-B3B9-4A53-BB1C-57AA077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C55C-6F49-4FD6-B751-F608800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970-854F-4E5E-9981-2CCA5A69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BD8-09C6-4ADC-BEEC-E80A38FE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FAA-8240-4350-9630-737F1A4F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16-4217-4429-A39E-701B5D7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9FF-1E02-41BD-9EA2-AB7E2B1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9A3-2DC1-4E3F-8A7B-7AE740BA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342-200D-43D4-A717-4F56E94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1FF-61C1-4233-9D4E-A51D3D9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C0F-080E-4818-982D-A87AABC8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4AF-3053-4FA8-A74C-5A52D6146D1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A5D4-C016-4335-9762-96EC004D413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tilha de recurs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tilha =&gt; economia de re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tilha =&gt; demora na transmis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utação de pac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vita demora de dados pequ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dentificação de pac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manhos variá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nsmissão instantânea (pare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ncionamento automá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E6F-6BE4-4AC2-98C6-F8836422A5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NS: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rvidores: Primário, Secundário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olução de no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ursiv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ativ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ver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dns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87656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630-8C8A-474F-B324-B4D96347B0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orque a Internet trabalha bem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trabalha b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mento do número de computadores, do trafego, velocidade dos computadores, velocidade das red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P fornece flexi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fornece esta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/IP foi desenvolvido visando maximizar a eficiência e o desempen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90B-305C-41B9-BAA5-6BDFC1A113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os protocolos d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licativos de nível superior que utilizam o protocolo TC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 (Telecomunication  Network): permite trabalhar em um host dist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 (File Transfer Protocol): transmite arquivos pel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MTP (Simple Mail Transfer Protocol): transmissão de e-mail na Internet (ligado ao POP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AFD-1FB2-45E3-9C5F-7FFAA8CC8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de U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opher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il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909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opher://gopher.umc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://ftp.mcp.com/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://c:windows/readme.t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://www.fasp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ilto:reyps@net.ipen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ws:alt.fan.en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://onramp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95D-62C6-4667-9782-78F5C04E5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WWW: 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ipertexto e hipermíd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impõe ordem na in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ações múltiplas entre informa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ção: brows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ter, display, salvar, imprimir, nave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o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saic, Navigator, Explorer, (Ope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125-88AF-475F-8462-C12FE2161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WWW: Como funcio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quitetura cliente-serv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ks com URL.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www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pen.br/te/ted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ceso a diferentes servi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uitivo =&gt;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38A-A360-4ACE-859D-EC04812BE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SI Referenc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705040" cy="3962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52680" y="1828800"/>
            <a:ext cx="5791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1983: Open Systems Interconn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Referência padrão e ferramenta de estudo para redes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0C3-CBEB-41E3-800D-5112B308F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ilha TCP/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988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envolvimento desde 1975. Lançado em 198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rrespondência com O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metria de protocolos: comunicação entre cam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idade do serviço: utilizar apenas os serviços necessá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97180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3D1-8F4B-4F74-B3ED-C6D6D2B45C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tocolo 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protocolo IP: como é formado um pacote e como o router deve passar um paco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ftware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gramas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gramas IP em outras re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lusão de uma rede s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ereço único para cada computador: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00.136.52.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4BE-D545-4D4C-BEDC-83E3E03A7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tocolo TC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e como a informação será dividida em pacotes e enviada pela Internet. 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ajuda ao IP a garantir a transfer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cotes duplicados, desordenados, perdidos 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cuperação de pacotes perdidos: reconhecimento e timeout variá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e IP trabalham ju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2EC-7B3F-48AA-9142-F302C6BF51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capsulamento dos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0CF-416A-4740-B720-C5F8C73CB2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dereços 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stema independente de endere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gistro de endereços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lasses de endereços I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3352680"/>
          <a:ext cx="6629400" cy="297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66294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60A-1E94-4E42-96B9-1096F700E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plicando os h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800" y="190476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ereç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gmen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ste de er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ole de flux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7242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B8B-17F9-4C04-AE2A-766EFA952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NS: Nomeando comput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s em lugar do endereço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 mais usado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nus, thor, merlin, calvin, gandal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s únicos:  &lt;=  sufixo. (organiz., país):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www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pen.br/te/ted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NS: Domain Name System:banco de dados distribu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P e nomes não estão relacion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F65-9E49-4A77-A4C6-7944457A2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27T18:32:18Z</cp:lastPrinted>
  <dcterms:modified xsi:type="dcterms:W3CDTF">1999-09-15T18:07:05Z</dcterms:modified>
  <cp:revision>69</cp:revision>
  <dc:subject/>
  <dc:title>CURSO INTERNET, INTRANET.</dc:title>
</cp:coreProperties>
</file>