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944-471F-45C4-8304-1065D1A0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062-36E8-4D50-BEF6-57A74ED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DEA-A619-4ECB-99D4-6A51A8E6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A71-F8CC-4760-98DA-926B204D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DA0-139C-4D07-941F-EE134444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144-9FC3-4EBD-85E2-310BECB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D99B-FB82-45B7-A27F-1CF0768B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0CD-A92E-4711-AC4D-91A17D5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BB8-E875-4C82-8E47-AEA2A59F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460-4DA7-417A-A656-CECA02A6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ED24-7738-4B6C-83FF-86BB23E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22B-8961-40E4-BD53-F735BC5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B73-5F52-4655-97C8-7DB61C2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8B7F-9CF9-4606-A809-7D44819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E42-BD6C-436F-B859-511BA1E9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12E-3C49-496A-8644-8B5AE9C1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BF59-D4D2-4C19-9811-882D6271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CB6-8C95-4973-B74E-81929E1B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DC9-5D72-4B88-A32C-9C999C6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E57-B232-4DB6-9A18-93597CB8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355-A7CE-4CD5-86B5-F8B87012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FE3-BF30-460C-A473-DF4F0E2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3AA-E47E-4EAD-88B8-6E8E24E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5BD-56A9-4D8F-9AF3-78BF2DAC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BD0-D530-4793-9C34-5E6710F22EE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DB0-64FC-4245-ACD1-FB8EA3C98B9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 com a organização da informação na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ferramentas de pesquisa Internet procuram recursos que contêm certas palavras chaves que você forne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o de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 gratui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976-0F15-4239-8E1A-D67A6049C0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Yahoo!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yahoo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retório de +200000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do pelo cadastro de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usar e bem organi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r pela hierarquia de serviços, subcategorias e s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98B-AA8B-4550-A3CE-C252E5CFD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os sistem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é?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www.cade.com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ner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taMiner, BookMiner, NewsMiner, SoftMiner, CDMiner, CopaMiner.                          (www.miner.dcc.ufmg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nde Achar: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ww.ondeachar.com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necedores de conteú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A0C-9A71-4BE7-8C54-85A85174C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colher a ferramen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CB3-D43F-4FD3-B89B-84ED5381B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ebendo a informação em ca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Pu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intCast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nais Microsoft e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A73-3E95-4060-8C25-D8D8C448A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é inerentemente insegura: dados trafegando por ro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a situação não é exclusiva d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lu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ptografia de chave pú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inatura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rtificado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EE0-245E-462F-B615-A402641132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iscos de segurança ao enviar 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escu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rceiros manipulando a inform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alsa ident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ris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ír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terial não-desejado (para crianç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ok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F7-4F55-467F-AFC5-7F7749E31E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gando a conta n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-cash ou Cyber-coins: wallet eletrôn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pagamentos, chaves +768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ure Electronic Transaction (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abilidade do pagamento e do ped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gridade dos dados transmit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belecer identidade do dono do cart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e Socket Layer (SSL):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tes seguros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s://  &amp; cade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EC9-EFC0-4CFB-99E5-D1825E2F9A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errament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a dois tipos de ferramentas de pesquis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Índice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retório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binados com 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térios de sele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reensão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guração d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evância dos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06B-B327-4928-8AA3-DC9CAB2CF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Índice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 três par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obot (ou spider, ou worm, ou crawl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ex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tor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Altav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C26-3C1C-4DC7-AD9B-0886BBA04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retório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varrem a Internet procurando páginas Web: os usuários registram suas pág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resultado pode ser igual àquele dos índices de pesqu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: Yah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555-EDC8-4FAD-A682-BC5CAED93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écnicas de pesqui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ja específ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use palavras com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renda a ajustar su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variações de palav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sinôn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frases entre asp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e maiúsculas se desej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enda a ferramenta que está us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1E5-94D1-41F4-94A4-D77013532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binando palav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: AND, NEAR, OR,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net AND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anet NEAR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guar NOT car NOT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cluindo ou omitindo: +,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+Tutorial + HTML -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urar índices do assu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F2C-842E-485B-9EE7-BA376CD526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ltavista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altavista.digital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de de +3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simples e avanç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ultado: Link com primeiras frases da pág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inamento de uma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dução de páginas encontr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850-9358-49AA-A2A4-DF3F0D959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cite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excite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Web e Use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Índice e catálogo editorial (+60000 sit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boolea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por exemp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versos serviços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People Finder, E-mail Lookup, Yellow Pages, Maps, Stock Quotes, Book Flights, Newsgroup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672-77BD-4D15-8C3D-4FF4E1F56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foseek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(www.infoseek.com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 +55 milhões de 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ierarquia de catego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torna resultados altamente relev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tem pesquisa booleana, mas encadeia pesqui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squisa variantes de palav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servi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FC7-C026-47CB-BCC8-BA20F34A65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27T18:32:18Z</cp:lastPrinted>
  <dcterms:modified xsi:type="dcterms:W3CDTF">1999-09-15T18:07:50Z</dcterms:modified>
  <cp:revision>69</cp:revision>
  <dc:subject/>
  <dc:title>CURSO INTERNET, INTRANET.</dc:title>
</cp:coreProperties>
</file>