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935F5-3090-421B-8F9F-3D3D704299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39679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94FEB-D607-4CBC-AFA0-B63A8E9CF8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7972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67DB7-85E4-4556-B2FB-8F096E523A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4640" y="20574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5600" y="20574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39679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4640" y="39679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5600" y="39679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288C2-F5E2-4747-9AE2-E73C80E76C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14040" y="20574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1404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20574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2263D-F551-41C0-B83D-B26F6650A4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7972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39679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14040" y="39679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04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7972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64640" y="20574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5600" y="20574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14040" y="39679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64640" y="39679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5600" y="39679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AAEE2-5094-4D21-9422-A3E3F25056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DF555-B041-4404-B90B-1287CFCC5A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BE92D-1FF7-4DF8-9EE5-C324C9045A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65F98-CB63-47C7-8A39-6C90D03205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6BADE-34A3-4DE3-93D1-43B551B257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7972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364D9-35C4-4D00-9122-508A8AFB47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39679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ED99A-656A-4DEB-8B50-DC60F226AA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99ccff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0574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616680" indent="-237240">
              <a:spcBef>
                <a:spcPts val="195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2" marL="948600" indent="-18972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3" marL="1328040" indent="-189720">
              <a:spcBef>
                <a:spcPts val="195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4" marL="1707480" indent="-189720">
              <a:spcBef>
                <a:spcPts val="1950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5" marL="1707480" indent="-189720">
              <a:spcBef>
                <a:spcPts val="1950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6" marL="1707480" indent="-189720">
              <a:spcBef>
                <a:spcPts val="1950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01C9-93E9-4EE5-8592-426D3AA8C193}" type="slidenum">
              <a:rPr b="0" lang="en-US" sz="14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99ccff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457200"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4d4d4d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4d4d4d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4d4d4d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66680" y="2692440"/>
            <a:ext cx="67057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d4d4d"/>
                </a:solidFill>
                <a:latin typeface="Tahoma"/>
              </a:rPr>
              <a:t>Idéias muito otimistas sobre o comércio eletrônico e como funciona na realidade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4d4d4d"/>
                </a:solidFill>
                <a:latin typeface="Tahoma"/>
              </a:rPr>
              <a:t>Os mitos 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Converte os produtos em "comodities”?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Priceline.com: você da o preço e os fornecedores competem com ofertas (só na Web), OnSale.com, eBay.com, 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agentes de compra on-line: Excite Product Finder, MySimon, etc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mas preço não é tudo, o cliente quer marcas e serviços de confiança, (Dell e Amazon não têm os menores preços)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a diferenciação dos produtos agregando valor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EE1AE-1D6E-402C-9644-E07F42BA550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Resumindo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o comércio eletrônico é uma tendência econômica significativa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32640" indent="-33264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porém, muitas das regras fundamentais dos negócios não mudam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32640" indent="-33264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é necessário: capital, liderança e execução novadoras, marketing abrangente, persistência e aplicação inteligente das tecnologias da informação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0BB42-5528-4760-858E-FB8F7D505C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Introdução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Crescimento exponencial além das predições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Situação de “gold-rush”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=&gt; exageração e simplificação da realidade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D58A8-681B-42F8-8102-58096A9790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É fácil?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as barreiras para entrar são muito baixas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pedir que funcione de forma efetiva, que seja escalável e que tenha êxito torna a tarefa muito difícil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integração com a infra-estrutura de informática: ao site Web como a parte visível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como garantir o tráfego de clientes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tecnologia em constante evolução.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construir o site é apenas uma peça do projeto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F1667-7376-4B83-8A46-5364B4A580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É barato?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de fato, se comparado com uma empresa real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29040" indent="-329040">
              <a:spcBef>
                <a:spcPts val="975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porém, um projeto completo de site para comércio nunca é barato, (MS Site Server Commerce Edition: &gt;US$5,000.00; em média projeto básico: US$750,000.00)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29040" indent="-329040">
              <a:spcBef>
                <a:spcPts val="488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grande parte do trabalho (e dos recursos) é com os integradores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29040" indent="-329040">
              <a:spcBef>
                <a:spcPts val="488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marketing: Amazon.com ~ US$30M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1CF26-12D2-4D55-ADDE-20AD782964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Todos estão fazendo?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ter um site corporativo não significa estar trabalhando com comércio eletrônico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91600" indent="-29160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(Rupert Murdoch)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91600" indent="-29160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comércio eletrônico não é necessariamente a opção para todos, não agora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91600" indent="-29160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chances como a da Amazon.com são poucas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91600" indent="-29160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em alguns casos, tem que esperar passar uma geração de executivos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0A61E-F475-4728-9720-211F377C7F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É lucrativo?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6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para cada Dell existem muitos casos de fracasso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60640" indent="-260640">
              <a:spcBef>
                <a:spcPts val="6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a compra de produtos “subjetivos” tem falhado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60640" indent="-260640">
              <a:spcBef>
                <a:spcPts val="6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os sistemas de pagamento não são adequados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60640" indent="-260640">
              <a:spcBef>
                <a:spcPts val="6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as vendas on-line são apenas uma fração das vendas totais. Exemplo: % do total nos EUA em 1998 :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564480" indent="-217080"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vendas on-line de livros: 5%, música: 2%,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564480" indent="-217080"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vendas de viagens 1% do total de US$488 billion,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564480" indent="-217080"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propaganda na Web ganho apenas 0.4%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260640" indent="-260640">
              <a:spcBef>
                <a:spcPts val="6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Business-to-Business: in 2003 -&gt; trilhões US$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60640" indent="-260640">
              <a:spcBef>
                <a:spcPts val="6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muitas empresas estão pelo potencial do mercado, não pelos lucros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0FCA1-299E-47D9-9AC8-EA049B864C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A Web iguala os concorrentes?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326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supostamente, empresas iniciantes concorrem diretamente com grandes corporações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43360" indent="-243360">
              <a:spcBef>
                <a:spcPts val="326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exemplos: Amazon, E-Trade,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43360" indent="-243360">
              <a:spcBef>
                <a:spcPts val="326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Com notáveis exceções os maiores jogadores no comércio eletrônico são grandes empresas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43360" indent="-243360">
              <a:spcBef>
                <a:spcPts val="326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tamanho significa: poder da marca, confiança,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43360" indent="-243360">
              <a:spcBef>
                <a:spcPts val="326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a Internet não mudou a forma de ganhar a confiança, apenas igualou a troca de informações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43360" indent="-243360">
              <a:spcBef>
                <a:spcPts val="326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acesso a mercados globais não significa êxito no funcionamento nesse mercado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43360" indent="-243360">
              <a:spcBef>
                <a:spcPts val="326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a Web permite diminuir o número de fornecedores: concentração nos grandes.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1C483-5F9C-437F-BA18-EDAFEF6982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Elimina os intermediários?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em princípio a Web fornece acesso global instantâneo, então eliminemos os intermediários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74320" indent="-274320"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Dell vende ~ US$10M em PCs por dia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74320" indent="-274320"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como regra, a Web complementa os canais de distribuição existentes, não substitui eles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74320" indent="-274320"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Cisco: 70% das vendas on-line são para revendedores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74320" indent="-274320"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os distribuidores tradicionais estão entrando na Web, é muito vantajoso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74320" indent="-274320"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surgem intermediários de industrias específicas: PlasticsNet, ChemDex, MetalSite, pcOrder, etc.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74320" indent="-274320">
              <a:spcBef>
                <a:spcPts val="6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vários fornecedores =&gt; intermediários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4A647-6E5A-4E2E-94D3-61E61D2873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Significa o fim do marketing de massas?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a Web permite o marketing one-to-one a baixo custo e em grande escala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98440" indent="-298440"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personalização permite manter os clientes mas não atrair novos,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98440" indent="-298440"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mais uma vez, a marca é que conta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98440" indent="-298440"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Yahoo compra tempo de propaganda no estádio durante as Series Mundiais, Dell compra propaganda impressa em várias revistas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98440" indent="-298440"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no comércio eletrônico a construção da marca com marketing de massas é mais importante que nunca,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984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984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B3F6D-AB30-4950-B251-89DE572E13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4T01:37:13Z</dcterms:created>
  <dc:creator>Reinaldo Pérez Sánchez</dc:creator>
  <dc:description/>
  <dc:language>en-US</dc:language>
  <cp:lastModifiedBy>Reinaldo Pérez Sánchez</cp:lastModifiedBy>
  <dcterms:modified xsi:type="dcterms:W3CDTF">1999-09-14T14:36:03Z</dcterms:modified>
  <cp:revision>31</cp:revision>
  <dc:subject/>
  <dc:title>Webonomics</dc:title>
</cp:coreProperties>
</file>