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012-E002-4955-9FD5-DA853B1A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2DF-ADAC-400C-9810-94F89A71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A50-6FF2-4471-9F3E-891A30AE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D7C-4DD4-45A1-B2A4-844D9F74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6541-4533-4B90-8333-EEECF788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5741-DA1C-4021-B83E-D00FF4D0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C5D0-3587-401A-9267-71986B8F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DEAD-C418-4E2D-8A6E-98149DAC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73CE-745C-40EF-8823-BFE46F41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3D0D-C945-43C9-B673-06F54908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8A82-7EA0-4A5B-8F10-6A94CB4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F00-DD71-46E7-A78A-F6BCF0E2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2D8A-195E-41BF-98E8-D3441835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1F2D-C8F0-4395-A6D2-2B741964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D875-FCE0-4E5C-99C1-52A4DC83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09CC-BD39-47C4-8A89-0915D9B6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D1AA-D0ED-4B78-852B-055B032F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D0A-62F8-4462-B6F5-98FDFEFF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657-3F78-4CAB-9587-8DB03841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238-D2DA-4C1B-92A6-154B9BEF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43F-EE31-4805-A38E-1ADD7DD8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501-2EA9-4A6D-98E8-732792CB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948-8268-44E2-AE96-F8AB8139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00E-61B2-423F-8546-7E26BD5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2F25-03E7-4890-B1A5-51038F2B3051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Internet-Intranet F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88C3-953A-425A-B3F4-36A7854753E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0C06-79BE-4C9C-B974-C6F90BC5322F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AD47-672D-4C34-B783-9449E4122CD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r-hightech.com/CursoInternetIntrane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URSO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60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fessores: PhD. Aucyone A. da Sil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Sc. Reinaldo Pérez Sánch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AS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istoria: O inicio da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69: Criado o Advanced Research Projects Agency (ARPA) pelo Departamento de Defesa dos EUA. O bem-sucedido resultado foi a ARPAnet. Objetivo: interligar laboratórios de pesquisa (universidade e área milit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54E-6F38-4F27-8DD9-55CEE234C1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05378-F22D-45A9-A73F-A4405CEDB4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istoria: NS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nos 80: A NSF decide que, para manter os EUA competitivos, era preciso fornecer acesso à rede a cada pesquisador das áreas de ciência e engenhar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88: Backbone NSF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92: ANS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95: vBNS: propriedade de companhias priv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A34-808A-4FD3-B616-D62D7128F1B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6ABBF-3F60-4FF1-A6DB-4465B671F1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istoria: Crescimento Exponenc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1600200"/>
          <a:ext cx="7543800" cy="46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5438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FC6-EBAF-419F-A60F-7F8A47A9119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3AB3B-8834-4F8C-B482-C05E4A0167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istoria: Crescimento Exponenc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 começo de 1997 um novo computador era adicionado à Internet a cada 4 segund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gnifica que a Internet dobra de tamanho a cada 10 me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ey de Metcalfe: o valor de uma rede cresce dramaticamente com cada novo elemento adicion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557-A9E5-49B7-8FF6-74996145AB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0CC6B-C48D-4480-A401-C2647603FD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istoria: O fim do cresciment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rescimento exponencial deve termin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atual permite apenas 4,294,967,296 computadores na re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 as taxas atuais a Internet ultrapassaria a produção mundial de computado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rém, o fim do crescimento da Internet já foi predito várias vez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2FA-2979-444B-876B-203B1662B7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038A5-3ED7-4C90-AEDF-ABAFCED9DF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rnet: Bras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95: Liberada a exploração comercial da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bril/1996: 300 mil usuári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98: 1,3 milhões. 18</a:t>
            </a:r>
            <a:r>
              <a:rPr b="0" lang="pt-BR" sz="36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ição mund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2000: 5,2 milhõ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senvolvimento das telecomunicaçõ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99F-F5C2-47FE-BE44-5AFB408F23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BCB60-91B9-410E-9AA4-2E0175F4F4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rnet: Bras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assinantes" descr=""/>
          <p:cNvPicPr/>
          <p:nvPr/>
        </p:nvPicPr>
        <p:blipFill>
          <a:blip r:embed="rId1"/>
          <a:stretch/>
        </p:blipFill>
        <p:spPr>
          <a:xfrm>
            <a:off x="0" y="1539720"/>
            <a:ext cx="8763120" cy="535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C0E-9880-4CC8-8FA3-151448AEE1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80703-2028-44AD-8FFE-66FD0F36C5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rnet: Bras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rovedores" descr=""/>
          <p:cNvPicPr/>
          <p:nvPr/>
        </p:nvPicPr>
        <p:blipFill>
          <a:blip r:embed="rId1"/>
          <a:stretch/>
        </p:blipFill>
        <p:spPr>
          <a:xfrm>
            <a:off x="0" y="1585800"/>
            <a:ext cx="9144000" cy="527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A47-4E3A-4D36-ABF8-C0A1BE871A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6D385-2DED-4D64-B812-BCD3BE7883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rnet: Bras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usuarios" descr=""/>
          <p:cNvPicPr/>
          <p:nvPr/>
        </p:nvPicPr>
        <p:blipFill>
          <a:blip r:embed="rId1"/>
          <a:stretch/>
        </p:blipFill>
        <p:spPr>
          <a:xfrm>
            <a:off x="0" y="1523880"/>
            <a:ext cx="8763120" cy="511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3E5-9E06-4ED2-BA30-714F0A8642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8382E-FA9B-4075-9D16-866BEE2386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rnet: Coordena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AB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Advisory Bo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I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Network Information Center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TF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Research Task For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F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 for Com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N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Network Counc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TF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Engineering Task Fo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249-230C-4124-8922-841EFD06C8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8259E-F5CB-471E-82C0-F2FA484A84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copo do cur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urso cur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ernet: tema amplo e em evolu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so efetivo das ferrament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FA2-1CC3-4B9D-8DFF-4F31895009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CB528-B834-4C4A-A655-2EC3C08604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rnet: Componentes fís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oteador: Conecta diferentes redes com o mesmo protocolo.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circuito ou computad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ateway: Conecta redes com protocolos difer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ridge: Segmenta o tráfego de re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145-59AE-4C12-B59C-E9C58CDA12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15F2E-AFB0-4CBD-A9BE-631EF2825F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rnet: Exemplo de Transa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371600" y="1523880"/>
          <a:ext cx="67057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7057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ED9-DA82-452B-9780-D3F418C8A48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C8E12-CEC4-4EBE-B135-BB27609A1D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de: Elementos bás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gações fís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ipos de re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ut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129-1FE2-441C-91F9-AD08791BBD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181AE-FCCE-4EC2-BC93-CF5889188E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de: Ligações físic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bo de fibra ót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bo coax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bo em par tranç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gações sem f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F3F-391D-4EEA-8857-DCFA0F7354F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56137-9717-427A-BE99-5550EBC6BC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de: Tipos de re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AN: Local Area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N: Metropolitan Area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WAN: Wide Area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EA3-8AFD-4DD3-9545-1891945FC2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1F121-EC67-4E52-B1A7-274C069727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de: Comuta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r pacotes: linha compartilhada por vários processos de comunic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r circuito: linha exclusiva em cada ca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tráfego na Internet é baseado na comutação de pac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233-2532-4CD2-BFB1-47A382C2F46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A0AD5-12E2-4B40-A4B4-32A97B895A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nteú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rodu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rviços da Inter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ublicando na Inter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ra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volução da Inter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5A8-B239-43F0-AB08-6D795698BA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B141B-478E-4B85-AE9D-02F0B6E25A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bjetivos do cur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ender os princípios de funcionamento da Inter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hecer as ferramentas para utilizar os recursos da Internet (WWW, e-mail, ftp, listas de interesse, conversa on-line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render a encontrar informação na Inter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ender que aplicativos e tecnologias permitem tirar proveito dos recursos da Internet (criação de home pages, Java, intranet, extranet, comercio eletrônico, groupware, etc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099-BD8A-4FF5-ACAD-4F7704FE34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46CC4-6C6D-4FFC-86AF-647E65679D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etalhes do cur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á dirigido a computadores PC rodando Windows 9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ágina com material do cur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http://internet.fasp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-mail para conta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reinaldops@hotmail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ucyone_silva@uol.com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abalho de cur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120-31DF-49A6-B092-92DFA38430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779B6-1D18-485F-9B15-1149DE5BF2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ecnologias revolucionari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lef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utomó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267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rasil ho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124080"/>
            <a:ext cx="647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fluencia na socie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9AD-9A40-4BB0-9534-78440B8276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20786-8220-4E11-B191-E9728F5B87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ternet é uma gigantesca rede de redes de computado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esta rede são oferecidos uma grande variedade de serviç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também a vasta comunidade de pessoas que se conecta à re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2B0-AD47-4B3B-9BC4-BB7E35AE51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6293F-935C-4F7F-ACDD-C3D8106F74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istoria: 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desenvolvimento de redes de computadores começou a crescer nos finais dos anos 7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oram desenvolvidas muitas tecnologias de 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performance da LAN determina seu cus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ada tecnologia LAN trabalha com alguns tipos de computa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&gt; Existem várias tecnologias LAN que são incompatí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95B-FDAF-4D98-A99C-9DFD977619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DAD02-4622-47EE-96FE-2D437E3C97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istoria: W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AN inclui um computador adicional a cada site da rede para se conectar às linhas de transmissão e manter a comunicação independente dos computadores que utilizam a W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AN são custosas e compl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AN são incompatíveis entre se e com as 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3CE-AD93-46F2-A967-E7D24512DA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86C23-0D2F-4E05-8001-2A533C8639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Laboratório 102</cp:lastModifiedBy>
  <cp:lastPrinted>1998-10-20T04:06:42Z</cp:lastPrinted>
  <dcterms:modified xsi:type="dcterms:W3CDTF">1999-08-10T11:11:31Z</dcterms:modified>
  <cp:revision>36</cp:revision>
  <dc:subject/>
  <dc:title>CURSO INTERNET, INTRANET.</dc:title>
</cp:coreProperties>
</file>