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401-4D1D-4B57-840B-8C09ABE8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CF7-D93E-4274-B1E6-4FD1E9B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407-0427-45BB-964F-C586DF8C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2FE-E5B3-47F6-8EC3-6739939E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EC33-9305-4361-B8AD-8A66409C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723-5AE0-4D1F-A518-B934C983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E5D-67D4-4C19-B2ED-72D12ED3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D33-4FF1-4065-A4B2-910A4E8B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F725-9F1C-4E22-98CE-9168AB29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C40-DE0A-4857-8446-596FBEB5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787C-5059-4ECF-AB94-12787B9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B87-BA80-4042-907E-91805FD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57A5-0325-47C7-BEE6-68555741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32AC-9485-4E76-8D28-CE953C9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1655-7734-47DF-B823-3275AB0F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33D-142D-49F0-8D7B-75DD9F57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17A6-C43D-4414-8AA2-E3460DF1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C12-B836-45E8-AB97-FA525EE7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A5A-A68E-4ADC-8E50-E2C6E6D6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4BC-4519-44F3-8D5C-5CB3C9D5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E39-0832-461D-9C99-C81F71B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6C6-788C-44E3-8231-343DAE28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E2F-8EAA-42A3-88BC-9DEC58E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B39-A010-4F86-B17F-EA2640D8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4040"/>
                <a:ext cx="161640" cy="293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2440" y="4562640"/>
                <a:ext cx="55440" cy="110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7840" y="4366800"/>
                <a:ext cx="55440" cy="111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D9D8-746A-4FFA-82D6-7FA2E6B35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2920"/>
                  <a:ext cx="225360" cy="40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2880" y="38592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6440" y="11448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BEE-4BF0-4E53-B531-9704C9124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NET, INTRANET E EXTRANE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ÉRCIO ELETRÔNICO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cyone Augusto da Silva, Ph.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SP/H&amp;R Associ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e 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que fazer negócios na 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otenciais para o cliente e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preço da mercadoria (promoção e desco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tempo de aquisição da mercadoria dese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a competição entre as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clientes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visitas a empresa (loja) no dia a 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da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controle de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acesso aos produtos de interes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ara o fornec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identificação do 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definição do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cash-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a eficiência de op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icipação no processo de compra d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os processos pagamento/receb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comunicação entre fornecedor e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suporte on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ípio Bá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Vender bits é muito mais fácil do que vender átomo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õ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Competitividade entre as maiores empresas do mercado da Web  tem trazido novas tecnologias para aumentar a segurança no comércio eletrônic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seleção do browser é fundamental na questão de segurança (SSL - Secure Sockets Layer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 Protocolo S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ovas tecnologias usando Inteligência Artificial vem sendo testadas para serem usadas na Web (impressão digita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ributos do Comércio Eletrônico vi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biqüidade (documentação eletrônica virtual em qualquer lugar e em qualquer temp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ações sem dinheiro vivo (dinheiro digital/cart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diferenciador entre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oção de protocolos de comunicação comuns (TCP/IP -Transmission Control Protocol/Internet Protocol e HTTP) e uso de softwares padrões (browsers e servidores We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s reduzidos de implementação e manute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a direta, marketing, transmissão de dados, redução de ligações telefônicas/fax, materiais de consumo, logística etc.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 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no tempo para completar as transações comerc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dências Futuras do Comércio Eletrô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scimento contínuo paralelo a evolução da segurança nas transações vi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os riscos nesta a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ques internacionais (Hackers e/ou competido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transmissão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autent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hor aceitação do uso do cartão d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Smart Card (Cartões de crédito com processador on-board e memó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ção da Internet com  técnicas avançadas em uso nas atividades comerciais (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volução da tecnologia Internet é constante e oferece promissoras oportunidades para as atividades de comércio virtu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se constitui na porta de entrada para o comércio sem front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8" name="10ecom1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59712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10ecom2" descr=""/>
          <p:cNvPicPr/>
          <p:nvPr/>
        </p:nvPicPr>
        <p:blipFill>
          <a:blip r:embed="rId3"/>
          <a:stretch/>
        </p:blipFill>
        <p:spPr>
          <a:xfrm>
            <a:off x="4737240" y="1676520"/>
            <a:ext cx="284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81" name="10ecom3" descr=""/>
          <p:cNvPicPr/>
          <p:nvPr/>
        </p:nvPicPr>
        <p:blipFill>
          <a:blip r:embed="rId2"/>
          <a:stretch/>
        </p:blipFill>
        <p:spPr>
          <a:xfrm>
            <a:off x="304920" y="1701720"/>
            <a:ext cx="4267080" cy="4062600"/>
          </a:xfrm>
          <a:prstGeom prst="rect">
            <a:avLst/>
          </a:prstGeom>
          <a:ln w="0">
            <a:noFill/>
          </a:ln>
        </p:spPr>
      </p:pic>
      <p:pic>
        <p:nvPicPr>
          <p:cNvPr id="182" name="10ecom4" descr=""/>
          <p:cNvPicPr/>
          <p:nvPr/>
        </p:nvPicPr>
        <p:blipFill>
          <a:blip r:embed="rId3"/>
          <a:stretch/>
        </p:blipFill>
        <p:spPr>
          <a:xfrm>
            <a:off x="4648320" y="1657440"/>
            <a:ext cx="4190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volu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1360" y="1682280"/>
            <a:ext cx="7721280" cy="4064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          Intranet            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990              1996                 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3657600"/>
            <a:ext cx="6856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84" name="10ecom5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96216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10ecom6" descr=""/>
          <p:cNvPicPr/>
          <p:nvPr/>
        </p:nvPicPr>
        <p:blipFill>
          <a:blip r:embed="rId3"/>
          <a:stretch/>
        </p:blipFill>
        <p:spPr>
          <a:xfrm>
            <a:off x="4876920" y="1657440"/>
            <a:ext cx="396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a 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rede projetada para o processamento de informações dentro de uma empresa ou organizaçã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ismo de integração das pessoas, processamento e disseminação da informação dentro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difere Internet/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é uma rede pública, global e amplamente aberta para qualquer pessoa que tem uma conexã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é restrita as pessoas que estão conectadas em uma rede privada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utiliza aplicações associadas a Internet tal como: Páginas Web, browsers, FTP, e-mail e newsgrou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cterísticas princip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85680" y="2365200"/>
          <a:ext cx="6532560" cy="405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2365200"/>
                    <a:ext cx="653256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que as empresas estão adotando a In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oferece o meio de se trocar informações através da rede de computadores da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elimina os contratempos de distribuição de cópias de documentos internos (manuais, instruções, seminários, lista de preços, boletins informativos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rásticas de custos com material de consumo (papel, xerox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é garan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or da Intranet nas atividades comer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e conhec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publ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as oportunidades de negó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acesso a informação intern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são de ve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io rápido para acessar as informações necessários para as v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ctar clientes com os sistema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xões para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onibilidade on-line de catálogos e dados import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drásticas em softwares e distribuição de papé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rápidos as inform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produ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inamento (novos e antigos empreg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inâmica de informações de trabal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orte aos grupos de trabalh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úteis sempre disponíveis (relató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a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o pôr operadores de suporte (via telefo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on-line a serem oferecidas aos clien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controlado a rede pelo 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sucesso de uma Intranet depe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hecimento do ROI a ser obtido pelo uso da 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u de conhecimento da ferramenta pela Diretoria d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inamento dos funcionários para uso da ferram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do sistema de acordo com as necessidades e cres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ualização das informações (estímulos as publicações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sso a Internet/In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ção Internet/Intranet varia de empresa par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soment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o acesso a Internet 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essoas fora da empresa não podem ver a Intranet (firewal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bos sistemas requerem uma rede TCP/IP (Transmission Control Protocol/Internet Protocol) para promover o tráfego de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sso externo controlado pôr mecanismos de segurança (firewa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Intranet promete uma mudança fundamental na forma de comunicação entre os empregados de uma empresa num grau não experimentado desde a invenção do telefon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ranet: Slashing the Cost of Business - Ian Campb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elatório de análise de ROI de Intranet corporativ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plicações Gerai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ientíf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uca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er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dade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 surgimento da Extranet é uma conseqüência natural da evolução das atividades geradas pela Internet e Intranet, principalmente no comércio eletrô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um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undo dos negócios (cara-a-cara) você convida o cliente e parceiros a entrar em sua empresa sem necessariamente lhes dar as chaves do seu escritó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net oferece a mesma oportunidade de abrir ao externo as informações e sistema de sua Intranet sem dar acesso a dados e informações confidenciais de su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reside o sucesso d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integrado com as tecnologias de  autenticação e cript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a Virtual Private Network (VPN) para estabelecer a conexão entre os membros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á apoiada nas conhecidas tecnologias: a Web, a Internet, aplicações groupware e firew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ência de plataformas específicas em uso pelas empresas membro da Extra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protocolo TCP/IP, browser e servidor We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a de tempo e dinheiro no atendimento aos cli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ções da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group privado no qual a empresas associadas pode realizar troca de idéias e experiê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ware no qual as empresas associadas podem desenvolver produtos em conjunto que todas podem u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as de trein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ca de catálogos de produtos entre as empresas associ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enciamento e controle do andamento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endimento rápido e eficiente aos clientes a qualquer m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idados impor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üência de acesso 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áter de sigilo d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(benefícios e vantage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il do membro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ilidade de investimentos e su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idados na 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ocidade de linhas telef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humano (habilidades a novas tecnolog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ção da Internet/Intranet/Extranet com tecnologias avançadas que aumentem a dinâmica do comércio eletrônico. Podemos citar os  Sistemas Intelige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eração de dados (Data M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es Ne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s Especia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ógica Di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ção eficaz para os problemas de segurança na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ção de sistemas de reconhecimentos de impressões digitais (&lt; US$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rt Cards nas transações comerciais (Em amplo uso na Euro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o 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, Intranet e Extranet são tecnologias que ainda possuem um amplo campo para serem aplicadas no Brasil, principalmente no que diz respeito a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nsformações Significativ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da alta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ção de Conhec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rcialização (comércio glob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nda e Mark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ssional (adaptação e novas profissõ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ógica (desenvolvimento e integração de novas tecnologi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statística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COMDEX/CANADA- Jul98)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ários  : 1997 -----60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 -----132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ações comerciais on-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7 -----US$9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2 -----US$327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UNDAMENTA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dade Cul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bitos do Consumidor/Internau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Interne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ta-se de uma fonte global de recursos gerada pôr conexões físicas entre milhares redes privad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Internet é o espaço virtual, mundo virtual ou “cyberspac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orld Wide Web (WW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parte d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via virtual de informações super-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 grupo de documentos, dados ou multimídia armazenados numa rede (A Internet) que pode ser acessado de forma remota através de “hyperlink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esso da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utralidade de plataform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ponibilidade glob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tribuição automática de softw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ácil mecanismo de distribuir e/ou receber informaçõ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 número de usuários para se dar suporte  pode ser ilimi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envolvimento rápido da tecnologia de comunic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I é automát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Ipen</dc:creator>
  <dc:description/>
  <dc:language>en-US</dc:language>
  <cp:lastModifiedBy>Reinaldo Pérez Sánchez</cp:lastModifiedBy>
  <dcterms:modified xsi:type="dcterms:W3CDTF">1999-08-23T20:19:25Z</dcterms:modified>
  <cp:revision>27</cp:revision>
  <dc:subject/>
  <dc:title>AS TRES ONDAS: INTERNET, INTRANET E EXTRANET</dc:title>
</cp:coreProperties>
</file>