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E277-FA38-450F-9D14-850241017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7842-A662-4FFE-B68B-7CF240CCA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CD00-ADF7-44C5-8C3F-CB9DE30F3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38D-4D2B-400F-A812-646E31C57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B161-91A8-46D4-B5C0-5B6B44FA5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C2F6-6A27-40F3-968F-2806BC638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2C79-30DB-4FC6-9C35-0D3ABDF9A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92CB-A6F1-4CC0-88D4-520E2B754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9ACE-8296-4A52-B4A1-80406F827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581C-BFFB-4326-81A0-B1ECC2D70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EBE7-9802-4246-A384-AE8102C9D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1D28-FD77-4D64-8830-FCCD18C02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542-3A6A-492F-8C13-684636E61661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o aumentar o tráfego qualificado n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colha do nome d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locação destacada nos sites de pesquisa: (até um 70% do tráfeg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e ou alugue listas de e-mails qualifica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ça, troque ou compre links de sites concorri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Faça marketing off-line por todas as vias possívei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74B4-A298-4A2E-A088-2D5373C6EF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is simples, utiliza uma única chave para criptografar e recuperar os dad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rápido desde o ponto de vista computacional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nível de segurança depende do tamanho da chave até um lim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rande problema: gerenciamento da chav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drão DES (utilizado nos órgãos do governo dos EUA) chave simétrica de 56 bits, mas na prática são utilizados apenas 40 bits. Já foi quebr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0FC9-90C7-494A-B5D2-D1976B4B1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públ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 duas chaves: a pública e a privada, cada uma a inversa da outr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álculo complexo: chega a ser até 1000 vezes mais lento que o sistema anterior e precisa de chaves até 10 vezes maior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so combinado: sistema de chave pública para estabelecer uma comunicação segura e só então trocar a chave de algum sistema de chave simétrica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algoritmo de chave pública mais conhecido é o RSA (Rives-Shamir-Adleman, 1977) com chaves de 512, 1024 e 2048 bit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F364-1BCC-4E5E-B2A6-E04D277E0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Quebra por força bruta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381880" cy="443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47400" y="5698080"/>
            <a:ext cx="47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ASIC: Application Specific IC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PGA: Field-programmable Gate Arra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1050-DA8A-4B20-9CB9-9587AE55F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ecessidade de identif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Baseados na criptografia de chave públic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CDs podem ser usados em quatro áre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elecer conexões Web seguras (SSL 3.0 ou HTTPS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 de clientes Web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sinar e criptografar e-mail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ublicar softwar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D68F-B815-477A-98AE-7951A82AE2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ão emitidos pelas autoridades certificadoras, ligação entre a chave (um número) e uma entidade (pessoa, organização, conta, equipamento, etc.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Qualquer organização pode ser uma autoridade certificadora. Mais difícil é encontrar clientes que a levem a serio. Ex: Verisign, Thawte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Ds mais comuns: certificados de assinaturas (contêm informações básicas (nome, organização, local, e-mail, etc.), a chave pública e a assinatura digital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Outro tipo comum de CD: de intercâmbio de chaves que é utilizado para criptografar os dados a serem enviados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194B-C24A-46C0-B3D9-CEE14D9806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Socket Layer SS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tocolo de segurança mais utilizado na Internet (Netscape Navigator 1.0 e MS IE 3.0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ptografa os dados na pilha TCP/IP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arante a segurança durante a sessão de comunicações navegador-servidor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tabelecendo comunicação segur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rotocolo de handshak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rcâmbio de CD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Perigos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Solução SSL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onfidenciabil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riptograf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Manipulaçã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Integridade dos dado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Falsa ident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ertificad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B539-1A7D-4E64-BF49-BE7585C4C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Electronic Transaction SE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53280" cy="4187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6200" y="1218960"/>
            <a:ext cx="269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(www.setco.org)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A034-E896-46A9-9DBD-523CF97542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Tendências na padroniza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ensible Markup Language XM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lectronic Commerce Modeling Language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ECML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ecml.org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: carteira eletrônica com formato universal, lançada por grandes companhias. Em conjunto com SSL e SE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lectronic Commerce and Consumer Protection Group: coalizão de grandes companhias para estabelecer um ambiente legal mundial “estável e previsível”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bolero.net - Sistema de importação e exportação pela Internet permite que empresas façam negócios internacionais de forma padronizad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C8C4-1569-498F-9B16-B079857F0B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in-house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ust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esempenh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lexi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erramentas existentes: BD (MySQL, </a:t>
            </a: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PostgreSQL</a:t>
            </a: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), SSL, PERL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uport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AAFD-3732-4C2E-AF94-198D0A3E2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prontas: MiniVend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minivend.com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stema completo de comércio eletrônico (catálogo eletrónico com sistema de vendas) </a:t>
            </a:r>
            <a:r>
              <a:rPr b="1" lang="pt-BR" sz="2600" spc="-1" strike="noStrike">
                <a:solidFill>
                  <a:srgbClr val="4d4d4d"/>
                </a:solidFill>
                <a:latin typeface="Verdana"/>
              </a:rPr>
              <a:t>gratuito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(GNU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abalha em Unix, Windows 95, 98, N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ocessamento online de cartões de crédito com  CyberCash, Authorize.Net, e PaymentNet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gurança com SSL e PGP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mpla conectividade com BD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98FC-34BE-44B4-B197-FD1FBCD0C0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otas jornalísticas para anunciar seu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oque ou compre banners em outro sites (curta duraçã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gue comissão aos afiliados que mandam cli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rketing cuidadoso em salas de chat, newsgroups e listas de discussão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ja o patrocinador de sites com tráfic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ão faça spam!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5DAC-A68E-4F38-9A3A-1C268355AC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Intershop (</a:t>
            </a:r>
            <a:r>
              <a:rPr b="0" lang="pt-BR" sz="3000" spc="-1" strike="noStrike">
                <a:solidFill>
                  <a:srgbClr val="4d4d4d"/>
                </a:solidFill>
                <a:latin typeface="Verdana"/>
              </a:rPr>
              <a:t>www.intershop.com</a:t>
            </a: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istema completo para a criação de lojas virtuais massiv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Integração com os sistemas de gerenciamento empresarial exist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Facilidades de administração (para o Commerce Service Provider CSP e para o comerciante, conceito de ePage), Store Design Wizard, ajuda em contexto com busca total, gerenciamento de comunidade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9148-BDE8-475D-8CAB-247FEFDC7E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Posição nos sistemas de pesquis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lguns fato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Mais de 95% dos usuários da Web encontram informação partindo dos 6 principais sistemas de pesquisa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Yahoo teve ~40 milhões de visitantes únicos em agosto de 1999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 pessoas raras vezes conferem a partir dos primeiros 30 itens encontrados na pesquisa (90% do tráfego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A8BB-16F1-4874-BE19-F6133C129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nt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r páginas pontes (ou "doorway"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e sites especializados no cadastro em sistemas de pesquis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racterísticas das págin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um &lt;TITLE&gt; o mais descritivo possível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Inclua uma descrição do site bem no começo da pág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tags &lt;META&gt;, exemplo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:     &lt;META name="keywords" content="HTML, programação, Web design"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B49A-96BE-4584-B16D-21A0DA426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82% dos problemas de segurança teve origem nos próprios quadros das empresa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usadores de problema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Autorizados - 58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não-autorizados - 24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-empregados - 1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Hackers, terrorista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oncorrente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(Fonte: PricewaterhouseCoopers e InformationWeek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ABEC-A32E-4027-83A8-CB07B73DB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Requerimentos de Segurança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onfidenciabilidade: Proteção contra pessoas não autorizada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gridade: Manter a consistência d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: Garantia da identidade da pessoa que cria 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Não repudio:  O criador dos dados pode ser identificado como tal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6F1A-CE27-4012-BCB9-6C4F8C0FB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meaças à segurança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azamento de informações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iolação da integr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troca de ident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negação de serviço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so ilegítim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maior parte dos problemas de segurança na Internet são do tipo controle de acesso e de autent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6C13-9BDD-4B2F-8120-48CBF8451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elemento cultur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política de controle de acesso à informação,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ultura de gerenciamento de informação confidenci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=&gt; Uma forma eficiente de atacar a segurança de um sistema é começar com o teste dos usuários pouco cuidados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gramas grandes (um servidor Web) contêm erros. =&gt; manter-se atualizado sobre os upgrades existentes para o seu sistem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25CA-309D-41C9-ACB3-EA62E3897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riptografi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uas grandes categorias de algoritm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pública (assimétrica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D648-6516-47E4-A223-93CD2E6B55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28T16:59:38Z</dcterms:modified>
  <cp:revision>50</cp:revision>
  <dc:subject/>
  <dc:title>Marketing, Segurança e Exemplos</dc:title>
</cp:coreProperties>
</file>