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877-6CED-47C6-90BD-EB5FDDD0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B73-6E3D-4E33-A376-8ECAECB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4D4-10E7-4359-AE1E-C3092CC6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2C7-AFFE-4D52-9474-89E76903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D62-0BC6-4A18-AA01-7FD60DE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CC0-E75D-4174-8691-31AB90F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264-EDB1-46CC-A4AB-1CEF03DC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EF6-B951-4395-AE57-1E71E36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66E-CF44-460B-BB99-E19EBE8C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EF1-65DB-4FB2-BEBD-80EBBED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54F-25B1-4DA9-B6F9-E6ADCC6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DC5-883E-4C68-A16A-60EB0A8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D5B-2DC6-4BF8-98E5-5C4466F2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ושגים בסיסיים באסטרונומ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חגורת האסטרואיד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46280" y="1293840"/>
            <a:ext cx="6238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צדק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7640" y="1341360"/>
            <a:ext cx="6774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42,98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778,33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.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שבתאי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7720" y="1341000"/>
            <a:ext cx="75675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0,536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,429,40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9.54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7309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אורנוס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6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1,118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,870,990,00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9.2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038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נפטון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142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49,53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בקו המשוו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4,504,0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30.06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56000" y="242100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פלוטו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358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27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5,913,52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39.5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56000" y="263700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שביט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719520" cy="496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800600" y="1484280"/>
            <a:ext cx="41068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פנים השמ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ליב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זור קרינ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זור הסע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אטמוספיר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פוטוספי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כרומוספי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טר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סיווג כוכב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84720" y="1341360"/>
            <a:ext cx="2602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דיאגרמ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rtzsprung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ssel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5622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לידתו של כוכ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4633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אסטרונומ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למה "נומיה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חייו של כוכב - גלקסיו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ספירלי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אליפטי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לקסיות לא מוגדר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016360" cy="199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71640" y="3068640"/>
            <a:ext cx="2089080" cy="165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403280" y="4869000"/>
            <a:ext cx="1257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ותו של כוכ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הגודל קובע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1.4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ננס לב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כוכב ניוטרו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על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מסות שמש – חור שח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אז איך מגלים חור שחור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ס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קרינה מדיסקת ספיח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עדשות כביד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סילוני פליט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2411280" cy="184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521080" cy="1865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4560" y="4727520"/>
            <a:ext cx="2484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שאלות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קצת סדרי גוד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אדם –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פיל אפריקאי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ירח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כדור הארץ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שמש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מערכת השמש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מרחק לכוכב הקרוב ביותר –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גלקסיות טיפוסיות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צבירי גלקסיות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</a:rPr>
              <a:t>היקום הנצפה 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^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מט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ערכת 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351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המרכיבי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העיקרי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246400"/>
            <a:ext cx="91440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מערכת השמ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720" y="1528920"/>
            <a:ext cx="23860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מסלולי הקפ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0600" y="2060640"/>
            <a:ext cx="8429400" cy="46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8459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חמה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4,880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57,910,000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0.38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71294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נגה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91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,103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08,2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0.7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כדור הארץ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97160" y="1341360"/>
            <a:ext cx="727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2,75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49,60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.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11280" y="2492280"/>
            <a:ext cx="4254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ff"/>
                </a:solidFill>
                <a:latin typeface="Arial"/>
              </a:rPr>
              <a:t>מאדים -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6919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קוטר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6,794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ק"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מרחק מהשמש: 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227,940,000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1.52</a:t>
            </a:r>
            <a:r>
              <a:rPr b="0" lang="he-IL" sz="2800" spc="-1" strike="noStrike">
                <a:solidFill>
                  <a:srgbClr val="0000ff"/>
                </a:solidFill>
                <a:latin typeface="Arial"/>
              </a:rPr>
              <a:t> י"א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84360" y="2459160"/>
            <a:ext cx="43992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0:07:48Z</dcterms:created>
  <dc:creator>Harel</dc:creator>
  <dc:description/>
  <dc:language>en-US</dc:language>
  <cp:lastModifiedBy>Harel</cp:lastModifiedBy>
  <dcterms:modified xsi:type="dcterms:W3CDTF">2004-04-13T01:57:02Z</dcterms:modified>
  <cp:revision>6</cp:revision>
  <dc:subject/>
  <dc:title>שקופית 1</dc:title>
</cp:coreProperties>
</file>