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22C-B621-4BFB-B64F-B8F0E230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BB8-9EBD-4C8F-AFE8-0A311DCC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813-8CBA-41F9-9BC6-E800570C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F3B-6118-488D-B686-5BC8AD7A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EAF-59A3-41DA-971C-2DE5D1F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61C-191C-48A1-AC4B-4D25D24C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5EA-19A9-461C-AC55-F6F2A7B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472-5B6C-4E45-A50E-E98B1A8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100-7402-4027-AD9F-72DF10F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E66-120E-4FD4-89C0-B8A81A0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D0B-F765-472F-8056-14E7D07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592-1048-4BB4-8BB4-3EB2FB5F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80D6-A63C-47C9-B3D1-CDADC4261A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43280" y="684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 * (3-X)+ sin(4 * X ^ 2)-7/(2+X-(3^X)) *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5"/>
          <p:cNvSpPr/>
          <p:nvPr/>
        </p:nvSpPr>
        <p:spPr>
          <a:xfrm>
            <a:off x="25092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6"/>
          <p:cNvSpPr/>
          <p:nvPr/>
        </p:nvSpPr>
        <p:spPr>
          <a:xfrm>
            <a:off x="1476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7"/>
          <p:cNvSpPr/>
          <p:nvPr/>
        </p:nvSpPr>
        <p:spPr>
          <a:xfrm>
            <a:off x="971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8"/>
          <p:cNvSpPr/>
          <p:nvPr/>
        </p:nvSpPr>
        <p:spPr>
          <a:xfrm>
            <a:off x="2700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9"/>
          <p:cNvSpPr/>
          <p:nvPr/>
        </p:nvSpPr>
        <p:spPr>
          <a:xfrm>
            <a:off x="2195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3924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1"/>
          <p:cNvSpPr/>
          <p:nvPr/>
        </p:nvSpPr>
        <p:spPr>
          <a:xfrm>
            <a:off x="341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2"/>
          <p:cNvSpPr/>
          <p:nvPr/>
        </p:nvSpPr>
        <p:spPr>
          <a:xfrm>
            <a:off x="5148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3"/>
          <p:cNvSpPr/>
          <p:nvPr/>
        </p:nvSpPr>
        <p:spPr>
          <a:xfrm>
            <a:off x="464328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4"/>
          <p:cNvSpPr/>
          <p:nvPr/>
        </p:nvSpPr>
        <p:spPr>
          <a:xfrm>
            <a:off x="6372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5"/>
          <p:cNvSpPr/>
          <p:nvPr/>
        </p:nvSpPr>
        <p:spPr>
          <a:xfrm>
            <a:off x="586728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6"/>
          <p:cNvSpPr/>
          <p:nvPr/>
        </p:nvSpPr>
        <p:spPr>
          <a:xfrm>
            <a:off x="7596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7"/>
          <p:cNvSpPr/>
          <p:nvPr/>
        </p:nvSpPr>
        <p:spPr>
          <a:xfrm>
            <a:off x="709308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8"/>
          <p:cNvSpPr/>
          <p:nvPr/>
        </p:nvSpPr>
        <p:spPr>
          <a:xfrm>
            <a:off x="385560" y="2655720"/>
            <a:ext cx="709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ca cada letra de la expresión en una lista doblemente enla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espacios son ign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tras son convertidas en minús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3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0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4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8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6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1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3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5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6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8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9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0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1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2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3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4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5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6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7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8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9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0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1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2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3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4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5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6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7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8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9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5651640" y="251316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sta de nodos azules es el curso lógico del desarrollo de la expresión a evalu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1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1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4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8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1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2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1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3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4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5724360" y="2160720"/>
            <a:ext cx="33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nodo azul representa un ACUM (un término que denota una subexpresión encerrada en parénte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valuar se va de ACUM en ACUM y evalúa la subexpresión colocando el resultado en el A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7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7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9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4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6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5651640" y="314172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nodos verdes representan que ese ACUM requiere el resultado de un ACUM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651640" y="1217520"/>
            <a:ext cx="336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 se evalúa una subexpresión. De arriba abajo las sumas y re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ultiplicaciones y divisiones generan una desviación a la der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3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3"/>
          <p:cNvSpPr/>
          <p:nvPr/>
        </p:nvSpPr>
        <p:spPr>
          <a:xfrm>
            <a:off x="5651640" y="121752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vegando a la derecha, las potencias generan una desviación oblic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8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9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5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6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7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8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9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0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2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3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4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5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6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651640" y="836640"/>
            <a:ext cx="336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sencillo evaluar, se va de arriba abajo, si se encuentra una desviación a la derecha se toma esta hasta que 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desviación derecha encuentra una desviación oblicua entonces toma esta nueva des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4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7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0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2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3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4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5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7"/>
          <p:cNvSpPr/>
          <p:nvPr/>
        </p:nvSpPr>
        <p:spPr>
          <a:xfrm>
            <a:off x="2700360" y="1773360"/>
            <a:ext cx="230508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do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>
            <a:off x="3851280" y="3284640"/>
            <a:ext cx="0" cy="20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3905640" y="4456080"/>
            <a:ext cx="18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umas y res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0"/>
          <p:cNvSpPr/>
          <p:nvPr/>
        </p:nvSpPr>
        <p:spPr>
          <a:xfrm>
            <a:off x="5003640" y="234936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5945400" y="2492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Derecha (multiplica y div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2"/>
          <p:cNvSpPr/>
          <p:nvPr/>
        </p:nvSpPr>
        <p:spPr>
          <a:xfrm>
            <a:off x="4932360" y="3284640"/>
            <a:ext cx="1944720" cy="143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>
            <a:off x="6015240" y="472428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s pot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4"/>
          <p:cNvSpPr/>
          <p:nvPr/>
        </p:nvSpPr>
        <p:spPr>
          <a:xfrm flipV="1">
            <a:off x="3708360" y="189000"/>
            <a:ext cx="0" cy="1582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3784320" y="10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Arriba (los nodos az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H="1" flipV="1">
            <a:off x="468360" y="549360"/>
            <a:ext cx="223200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7"/>
          <p:cNvSpPr/>
          <p:nvPr/>
        </p:nvSpPr>
        <p:spPr>
          <a:xfrm>
            <a:off x="250920" y="15638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objAcum (los acums que se necesi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0:44:29Z</dcterms:created>
  <dc:creator>Usuario Anónimo</dc:creator>
  <dc:description/>
  <dc:language>en-US</dc:language>
  <cp:lastModifiedBy>Usuario</cp:lastModifiedBy>
  <dcterms:modified xsi:type="dcterms:W3CDTF">2007-09-03T05:40:44Z</dcterms:modified>
  <cp:revision>18</cp:revision>
  <dc:subject/>
  <dc:title>Diapositiva 1</dc:title>
</cp:coreProperties>
</file>