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D9AD-030D-4252-B09A-6CBF2094C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0E3A-C07C-4AF2-948A-A4C5B6149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D4F4-1DFF-4B6C-A00B-FD71A2909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E452-BBEB-4130-AC31-8C67B76F1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C483-0ED2-46B0-B09F-C008BAFE96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9FB5-458E-4DFA-B745-5C3158124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F720-A7B4-487B-B3AC-DD6C69296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8FAE-4A77-460B-AADC-1272D47A5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3198-4F52-4928-B390-F8F934C3D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1761-E0E9-45ED-8F08-109C0D6A0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EAB7-5FBA-4B75-9BF8-1499B872B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001F-D9F2-4838-ABBF-FC6AC8CB0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3968-2EE4-4B65-8FFD-674CEDF64135}" type="slidenum"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ior Engineering Manag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mar Bashi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partment of Avionics Enginee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llege of Aeronautical Enginee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F32C-2B58-4F15-8094-845E817830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5715000"/>
            <a:ext cx="8458200" cy="8380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ed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1055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4956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862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2767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6668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0574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yered Model of Monitor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657600" y="5180760"/>
            <a:ext cx="5257800" cy="550800"/>
            <a:chOff x="3657600" y="5180760"/>
            <a:chExt cx="5257800" cy="550800"/>
          </a:xfrm>
        </p:grpSpPr>
        <p:sp>
          <p:nvSpPr>
            <p:cNvPr id="85" name=""/>
            <p:cNvSpPr/>
            <p:nvPr/>
          </p:nvSpPr>
          <p:spPr>
            <a:xfrm>
              <a:off x="3657960" y="5180760"/>
              <a:ext cx="3440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Raw Data Captur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571464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7600" y="4571280"/>
            <a:ext cx="5257800" cy="550800"/>
            <a:chOff x="3657600" y="4571280"/>
            <a:chExt cx="5257800" cy="550800"/>
          </a:xfrm>
        </p:grpSpPr>
        <p:sp>
          <p:nvSpPr>
            <p:cNvPr id="88" name=""/>
            <p:cNvSpPr/>
            <p:nvPr/>
          </p:nvSpPr>
          <p:spPr>
            <a:xfrm>
              <a:off x="3657600" y="457128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Collect Observed Dat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510552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657600" y="3961800"/>
            <a:ext cx="5486400" cy="550800"/>
            <a:chOff x="3657600" y="3961800"/>
            <a:chExt cx="5486400" cy="550800"/>
          </a:xfrm>
        </p:grpSpPr>
        <p:sp>
          <p:nvSpPr>
            <p:cNvPr id="91" name=""/>
            <p:cNvSpPr/>
            <p:nvPr/>
          </p:nvSpPr>
          <p:spPr>
            <a:xfrm>
              <a:off x="3657600" y="3961800"/>
              <a:ext cx="5486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Summerisation and Analysi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7600" y="44956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657600" y="3351960"/>
            <a:ext cx="5257800" cy="550800"/>
            <a:chOff x="3657600" y="3351960"/>
            <a:chExt cx="5257800" cy="550800"/>
          </a:xfrm>
        </p:grpSpPr>
        <p:sp>
          <p:nvSpPr>
            <p:cNvPr id="94" name=""/>
            <p:cNvSpPr/>
            <p:nvPr/>
          </p:nvSpPr>
          <p:spPr>
            <a:xfrm>
              <a:off x="3657600" y="335196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User Displa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57600" y="388584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657600" y="2742480"/>
            <a:ext cx="5257800" cy="550800"/>
            <a:chOff x="3657600" y="2742480"/>
            <a:chExt cx="5257800" cy="550800"/>
          </a:xfrm>
        </p:grpSpPr>
        <p:sp>
          <p:nvSpPr>
            <p:cNvPr id="97" name=""/>
            <p:cNvSpPr/>
            <p:nvPr/>
          </p:nvSpPr>
          <p:spPr>
            <a:xfrm>
              <a:off x="3657600" y="2742480"/>
              <a:ext cx="487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Intelligent Interpretati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327672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657600" y="2133000"/>
            <a:ext cx="5257800" cy="550800"/>
            <a:chOff x="3657600" y="2133000"/>
            <a:chExt cx="5257800" cy="550800"/>
          </a:xfrm>
        </p:grpSpPr>
        <p:sp>
          <p:nvSpPr>
            <p:cNvPr id="100" name=""/>
            <p:cNvSpPr/>
            <p:nvPr/>
          </p:nvSpPr>
          <p:spPr>
            <a:xfrm>
              <a:off x="3657600" y="213300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Monitoring Contro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57600" y="26668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57600" y="1523160"/>
            <a:ext cx="5257800" cy="550800"/>
            <a:chOff x="3657600" y="1523160"/>
            <a:chExt cx="5257800" cy="550800"/>
          </a:xfrm>
        </p:grpSpPr>
        <p:sp>
          <p:nvSpPr>
            <p:cNvPr id="103" name=""/>
            <p:cNvSpPr/>
            <p:nvPr/>
          </p:nvSpPr>
          <p:spPr>
            <a:xfrm>
              <a:off x="3657600" y="152316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Decision Making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57600" y="205704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FD03-BF64-46C7-9960-8B1CD14D0E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tributing 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1055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438280"/>
            <a:ext cx="2895480" cy="6098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1600200"/>
            <a:ext cx="289548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762120"/>
            <a:ext cx="281916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6172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6172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51055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295280" y="5791320"/>
            <a:ext cx="6019920" cy="457200"/>
            <a:chOff x="1295280" y="5791320"/>
            <a:chExt cx="6019920" cy="457200"/>
          </a:xfrm>
        </p:grpSpPr>
        <p:sp>
          <p:nvSpPr>
            <p:cNvPr id="121" name=""/>
            <p:cNvSpPr/>
            <p:nvPr/>
          </p:nvSpPr>
          <p:spPr>
            <a:xfrm flipV="1">
              <a:off x="1295280" y="5791320"/>
              <a:ext cx="144792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742840" y="5791320"/>
              <a:ext cx="167652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19720" y="5791320"/>
              <a:ext cx="144756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5867280" y="5791320"/>
              <a:ext cx="144792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42640" y="4876920"/>
            <a:ext cx="6629760" cy="304560"/>
            <a:chOff x="1142640" y="4876920"/>
            <a:chExt cx="6629760" cy="304560"/>
          </a:xfrm>
        </p:grpSpPr>
        <p:sp>
          <p:nvSpPr>
            <p:cNvPr id="126" name=""/>
            <p:cNvSpPr/>
            <p:nvPr/>
          </p:nvSpPr>
          <p:spPr>
            <a:xfrm flipV="1">
              <a:off x="617220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74320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57164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1142640" y="4876920"/>
              <a:ext cx="16002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95280" y="3886200"/>
            <a:ext cx="6400800" cy="380880"/>
            <a:chOff x="1295280" y="3886200"/>
            <a:chExt cx="6400800" cy="380880"/>
          </a:xfrm>
        </p:grpSpPr>
        <p:sp>
          <p:nvSpPr>
            <p:cNvPr id="131" name=""/>
            <p:cNvSpPr/>
            <p:nvPr/>
          </p:nvSpPr>
          <p:spPr>
            <a:xfrm flipV="1">
              <a:off x="1295280" y="388620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495680" y="388620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696080" y="388620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4495680" y="2209320"/>
            <a:ext cx="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495680" y="1371240"/>
            <a:ext cx="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95280" y="3048120"/>
            <a:ext cx="6400800" cy="304560"/>
            <a:chOff x="1295280" y="3048120"/>
            <a:chExt cx="6400800" cy="304560"/>
          </a:xfrm>
        </p:grpSpPr>
        <p:sp>
          <p:nvSpPr>
            <p:cNvPr id="137" name=""/>
            <p:cNvSpPr/>
            <p:nvPr/>
          </p:nvSpPr>
          <p:spPr>
            <a:xfrm flipV="1">
              <a:off x="4495680" y="3048120"/>
              <a:ext cx="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95280" y="3048120"/>
              <a:ext cx="32004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95680" y="3048120"/>
              <a:ext cx="3200400" cy="304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81A2-537E-4848-A1E9-B70F2E0964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1752480"/>
            <a:ext cx="6172200" cy="4800600"/>
          </a:xfrm>
          <a:prstGeom prst="cloudCallout">
            <a:avLst>
              <a:gd name="adj1" fmla="val -8717"/>
              <a:gd name="adj2" fmla="val 9921"/>
            </a:avLst>
          </a:prstGeom>
          <a:solidFill>
            <a:srgbClr val="ffc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abling Distributed 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9436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403848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1911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1752480"/>
            <a:ext cx="2743200" cy="6098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362320"/>
            <a:ext cx="289548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943600"/>
            <a:ext cx="289584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76720"/>
            <a:ext cx="281952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20968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510552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029200"/>
            <a:ext cx="2743200" cy="6858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276720"/>
            <a:ext cx="2743200" cy="6094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0B06-D8FA-4300-89F5-3D7BB9892F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tomated Performanc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2743200"/>
            <a:ext cx="3505320" cy="2286000"/>
          </a:xfrm>
          <a:prstGeom prst="cloudCallout">
            <a:avLst>
              <a:gd name="adj1" fmla="val -31384"/>
              <a:gd name="adj2" fmla="val 42013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onitored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1905120"/>
            <a:ext cx="1981440" cy="6858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4952880"/>
            <a:ext cx="2057400" cy="6858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5867280"/>
            <a:ext cx="2057400" cy="76212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666880"/>
            <a:ext cx="2209680" cy="121932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248520" y="2590920"/>
            <a:ext cx="533160" cy="8380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4952880"/>
            <a:ext cx="457200" cy="9907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4038480"/>
            <a:ext cx="457200" cy="9907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523880"/>
            <a:ext cx="89154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6362640" y="4076280"/>
            <a:ext cx="53341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752480"/>
            <a:ext cx="685800" cy="1143000"/>
          </a:xfrm>
          <a:prstGeom prst="upDownArrow">
            <a:avLst>
              <a:gd name="adj1" fmla="val 50000"/>
              <a:gd name="adj2" fmla="val 33179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1905120"/>
            <a:ext cx="1143000" cy="533160"/>
          </a:xfrm>
          <a:prstGeom prst="leftRightArrow">
            <a:avLst>
              <a:gd name="adj1" fmla="val 50000"/>
              <a:gd name="adj2" fmla="val 42678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943600"/>
            <a:ext cx="2743200" cy="533520"/>
          </a:xfrm>
          <a:prstGeom prst="leftRightArrow">
            <a:avLst>
              <a:gd name="adj1" fmla="val 50000"/>
              <a:gd name="adj2" fmla="val 102358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5029200"/>
            <a:ext cx="1295280" cy="533520"/>
          </a:xfrm>
          <a:prstGeom prst="leftRightArrow">
            <a:avLst>
              <a:gd name="adj1" fmla="val 50000"/>
              <a:gd name="adj2" fmla="val 48331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3886200"/>
            <a:ext cx="2449800" cy="2972520"/>
            <a:chOff x="228600" y="3886200"/>
            <a:chExt cx="2449800" cy="297252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3886200"/>
              <a:ext cx="2449800" cy="2972520"/>
              <a:chOff x="228600" y="3886200"/>
              <a:chExt cx="2449800" cy="2972520"/>
            </a:xfrm>
          </p:grpSpPr>
          <p:sp>
            <p:nvSpPr>
              <p:cNvPr id="170" name=""/>
              <p:cNvSpPr/>
              <p:nvPr/>
            </p:nvSpPr>
            <p:spPr>
              <a:xfrm>
                <a:off x="228600" y="4495680"/>
                <a:ext cx="1371600" cy="1219320"/>
              </a:xfrm>
              <a:prstGeom prst="can">
                <a:avLst>
                  <a:gd name="adj" fmla="val 25000"/>
                </a:avLst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0080" y="5911560"/>
                <a:ext cx="2218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Arial"/>
                  </a:rPr>
                  <a:t>Performanc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Arial"/>
                  </a:rPr>
                  <a:t>Data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14400" y="3886200"/>
                <a:ext cx="0" cy="762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33520" y="3886200"/>
              <a:ext cx="761760" cy="762120"/>
            </a:xfrm>
            <a:prstGeom prst="upDownArrow">
              <a:avLst>
                <a:gd name="adj1" fmla="val 50000"/>
                <a:gd name="adj2" fmla="val 1991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37A0-FEF6-4B98-96C1-3CCC7CB0D8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5562720"/>
            <a:ext cx="8534160" cy="8380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ed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49528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43434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7339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1240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51460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905120"/>
            <a:ext cx="3200400" cy="8380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ons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nction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295280"/>
            <a:ext cx="3200400" cy="8384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505320" y="5028480"/>
            <a:ext cx="5257800" cy="550800"/>
            <a:chOff x="3505320" y="5028480"/>
            <a:chExt cx="5257800" cy="550800"/>
          </a:xfrm>
        </p:grpSpPr>
        <p:sp>
          <p:nvSpPr>
            <p:cNvPr id="184" name=""/>
            <p:cNvSpPr/>
            <p:nvPr/>
          </p:nvSpPr>
          <p:spPr>
            <a:xfrm>
              <a:off x="3505680" y="5028480"/>
              <a:ext cx="3440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Raw Data Captur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556236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505320" y="4419000"/>
            <a:ext cx="5257800" cy="550800"/>
            <a:chOff x="3505320" y="4419000"/>
            <a:chExt cx="5257800" cy="550800"/>
          </a:xfrm>
        </p:grpSpPr>
        <p:sp>
          <p:nvSpPr>
            <p:cNvPr id="187" name=""/>
            <p:cNvSpPr/>
            <p:nvPr/>
          </p:nvSpPr>
          <p:spPr>
            <a:xfrm>
              <a:off x="3505320" y="441900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Collect Observed Dat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5320" y="49528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505320" y="3809160"/>
            <a:ext cx="5410080" cy="550800"/>
            <a:chOff x="3505320" y="3809160"/>
            <a:chExt cx="5410080" cy="550800"/>
          </a:xfrm>
        </p:grpSpPr>
        <p:sp>
          <p:nvSpPr>
            <p:cNvPr id="190" name=""/>
            <p:cNvSpPr/>
            <p:nvPr/>
          </p:nvSpPr>
          <p:spPr>
            <a:xfrm>
              <a:off x="3505320" y="3809160"/>
              <a:ext cx="5410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Summerisation and Analysi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5320" y="4343400"/>
              <a:ext cx="518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199680"/>
            <a:ext cx="5257800" cy="550800"/>
            <a:chOff x="3505320" y="3199680"/>
            <a:chExt cx="5257800" cy="550800"/>
          </a:xfrm>
        </p:grpSpPr>
        <p:sp>
          <p:nvSpPr>
            <p:cNvPr id="193" name=""/>
            <p:cNvSpPr/>
            <p:nvPr/>
          </p:nvSpPr>
          <p:spPr>
            <a:xfrm>
              <a:off x="3505320" y="319968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User Displa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373356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505320" y="2590200"/>
            <a:ext cx="5257800" cy="550800"/>
            <a:chOff x="3505320" y="2590200"/>
            <a:chExt cx="5257800" cy="550800"/>
          </a:xfrm>
        </p:grpSpPr>
        <p:sp>
          <p:nvSpPr>
            <p:cNvPr id="196" name=""/>
            <p:cNvSpPr/>
            <p:nvPr/>
          </p:nvSpPr>
          <p:spPr>
            <a:xfrm>
              <a:off x="3505320" y="2590200"/>
              <a:ext cx="487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Intelligent Interpretati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5320" y="312408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505320" y="1980360"/>
            <a:ext cx="5257800" cy="550800"/>
            <a:chOff x="3505320" y="1980360"/>
            <a:chExt cx="5257800" cy="550800"/>
          </a:xfrm>
        </p:grpSpPr>
        <p:sp>
          <p:nvSpPr>
            <p:cNvPr id="199" name=""/>
            <p:cNvSpPr/>
            <p:nvPr/>
          </p:nvSpPr>
          <p:spPr>
            <a:xfrm>
              <a:off x="3505320" y="198036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Monitoring Contro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05320" y="251460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505320" y="1370880"/>
            <a:ext cx="5257800" cy="550800"/>
            <a:chOff x="3505320" y="1370880"/>
            <a:chExt cx="5257800" cy="550800"/>
          </a:xfrm>
        </p:grpSpPr>
        <p:sp>
          <p:nvSpPr>
            <p:cNvPr id="202" name=""/>
            <p:cNvSpPr/>
            <p:nvPr/>
          </p:nvSpPr>
          <p:spPr>
            <a:xfrm>
              <a:off x="3505320" y="1370880"/>
              <a:ext cx="4529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00"/>
                  </a:solidFill>
                  <a:latin typeface="Arial"/>
                </a:rPr>
                <a:t>Decision Making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05320" y="1904760"/>
              <a:ext cx="5257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276720" y="4952880"/>
            <a:ext cx="556236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Moni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434340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73392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124080"/>
            <a:ext cx="556236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3124080"/>
            <a:ext cx="5562360" cy="83844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ser 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51460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514600"/>
            <a:ext cx="5562360" cy="8380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ser 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1905120"/>
            <a:ext cx="5562360" cy="838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1295280"/>
            <a:ext cx="5562360" cy="838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ontrol S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D16E-0482-4A6B-9CD3-0E74779385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Data and its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203480"/>
            <a:ext cx="190512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6320" y="2117880"/>
            <a:ext cx="1470600" cy="1890720"/>
            <a:chOff x="76320" y="2117880"/>
            <a:chExt cx="1470600" cy="1890720"/>
          </a:xfrm>
        </p:grpSpPr>
        <p:sp>
          <p:nvSpPr>
            <p:cNvPr id="216" name=""/>
            <p:cNvSpPr/>
            <p:nvPr/>
          </p:nvSpPr>
          <p:spPr>
            <a:xfrm>
              <a:off x="76320" y="2575080"/>
              <a:ext cx="1371600" cy="60948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040" y="3183120"/>
              <a:ext cx="146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rimi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120" y="211788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209680" y="2346480"/>
            <a:ext cx="213372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Gene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umma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89240" y="3260880"/>
            <a:ext cx="2043000" cy="1814400"/>
            <a:chOff x="2289240" y="3260880"/>
            <a:chExt cx="2043000" cy="1814400"/>
          </a:xfrm>
        </p:grpSpPr>
        <p:sp>
          <p:nvSpPr>
            <p:cNvPr id="221" name=""/>
            <p:cNvSpPr/>
            <p:nvPr/>
          </p:nvSpPr>
          <p:spPr>
            <a:xfrm>
              <a:off x="2438280" y="3565440"/>
              <a:ext cx="1371600" cy="68580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9240" y="4249800"/>
              <a:ext cx="20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umma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4080" y="326088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419720" y="3336840"/>
            <a:ext cx="228600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naly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96760" y="4251240"/>
            <a:ext cx="1523160" cy="1631880"/>
            <a:chOff x="4496760" y="4251240"/>
            <a:chExt cx="1523160" cy="1631880"/>
          </a:xfrm>
        </p:grpSpPr>
        <p:sp>
          <p:nvSpPr>
            <p:cNvPr id="226" name=""/>
            <p:cNvSpPr/>
            <p:nvPr/>
          </p:nvSpPr>
          <p:spPr>
            <a:xfrm>
              <a:off x="4648320" y="4556160"/>
              <a:ext cx="1371600" cy="68580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6760" y="54234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ncid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4120" y="425124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858000" y="4419720"/>
            <a:ext cx="2286000" cy="91440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orre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Incid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640840" y="5334120"/>
            <a:ext cx="2817360" cy="1342800"/>
            <a:chOff x="5640840" y="5334120"/>
            <a:chExt cx="2817360" cy="1342800"/>
          </a:xfrm>
        </p:grpSpPr>
        <p:sp>
          <p:nvSpPr>
            <p:cNvPr id="231" name=""/>
            <p:cNvSpPr/>
            <p:nvPr/>
          </p:nvSpPr>
          <p:spPr>
            <a:xfrm>
              <a:off x="7086600" y="5638680"/>
              <a:ext cx="1371600" cy="685800"/>
            </a:xfrm>
            <a:prstGeom prst="can">
              <a:avLst>
                <a:gd name="adj" fmla="val 25000"/>
              </a:avLst>
            </a:prstGeom>
            <a:solidFill>
              <a:srgbClr val="339933"/>
            </a:solidFill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40840" y="62172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ff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72400" y="533412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447920" y="2879640"/>
            <a:ext cx="761760" cy="1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946680"/>
            <a:ext cx="6098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95288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2209680"/>
            <a:ext cx="3657600" cy="1219320"/>
          </a:xfrm>
          <a:custGeom>
            <a:avLst/>
            <a:gdLst/>
            <a:ahLst/>
            <a:rect l="l" t="t" r="r" b="b"/>
            <a:pathLst>
              <a:path w="2304" h="768">
                <a:moveTo>
                  <a:pt x="0" y="432"/>
                </a:moveTo>
                <a:lnTo>
                  <a:pt x="0" y="0"/>
                </a:lnTo>
                <a:lnTo>
                  <a:pt x="2304" y="0"/>
                </a:lnTo>
                <a:lnTo>
                  <a:pt x="2304" y="76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943600" y="2132280"/>
            <a:ext cx="2484000" cy="1296720"/>
            <a:chOff x="5943600" y="2132280"/>
            <a:chExt cx="2484000" cy="1296720"/>
          </a:xfrm>
        </p:grpSpPr>
        <p:sp>
          <p:nvSpPr>
            <p:cNvPr id="239" name=""/>
            <p:cNvSpPr/>
            <p:nvPr/>
          </p:nvSpPr>
          <p:spPr>
            <a:xfrm>
              <a:off x="5943600" y="2209680"/>
              <a:ext cx="0" cy="1219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960" y="213228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ystem Stat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&amp;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06BD-F932-4BDA-8DA3-B2261BE00E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2952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Continuous monitorin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certain system can generate performance data of the order of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megabytes every hou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Historical performance dat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quired to be maintained for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significantly long dura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NAGEMENT AND PROCESSING OF PERFORMANCE INFORMATION FOR EFFICIENT AND ACCURATE ANALYSIS IS A MAJOR CHALLEN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2D3A-28F4-47C7-BF7C-D4F7C662A0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istics of Primitive Performanc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905120"/>
            <a:ext cx="8991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ources of the system under observation monitored as a series of continuous experi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a sets collected at monitors retrieved regularly by the control station and merged with the performance data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mitive data tables may manage several attributes of the device’s performanc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CFDC-030B-4612-8E45-2F0AE49F2D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istics of Primitive Performanc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1523880"/>
            <a:ext cx="8991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mitive database may be partitioned on the basis of tests conducted, resources monitored, monitoring periods, etc., to improve the database performanc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ed data stored in chronological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 station logs stored as instrumentatio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rumentation data required to validate the measurements that the monitors make on the monitored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2DBB-9806-4D54-BABB-49660D3AF0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2280" y="763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acteristics of Summarised Performanc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sation is an expensive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es analysed with the monitor status and observed system’s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ysis is iterative in nature, results of analysis generate requirements for more summaries for subsequent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es may be cached for further re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ies redundant with respect to the primitiv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55B7-B863-4633-8E40-CFD52310E4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Examples from Practical Lif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yered Model for Performance Monitoring System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utomating Performance Monitoring Activit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formation Processing and Analysis Cy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Information: The Key Product of a Monitoring Activit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formation Presentation and Dissemin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Epilogu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F9DA-C3BD-4CBC-87CC-D92062B9C8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76320"/>
            <a:ext cx="883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using Summaries to Enhanc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2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ypes of summari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d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omposable to additiv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-additive and non-decompos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mediate Information structu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summaries can be derived from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anularity can be varied without processing primi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derivation is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67FB-D617-4FAF-BB96-2B8C3B5C41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320" y="76320"/>
            <a:ext cx="9067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Intermediate Information Structu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52388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ttribute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equency distribution of monitor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jacent distributions of disjoint data sets added to form attribute distributions of coarser gran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uracy dependant on the distribution class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rted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tribute values sorted in increasing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jacent sorted values of disjoint data sets can be combined using merge-sort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tes accurat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789E-34ED-448D-B6C9-4DD35F3810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cidents and Ef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32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er level description of phenomena occurring on the observed system during an analysis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rrelated incidents form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nted in a subjective manner in the form of Incident and Effect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ident Reports may also present the graphic representation of the inc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8992-3337-473A-B33E-E52EC21770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tabase for Incident Re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ore key attributes of Incident Reports in a data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ident Report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ta and time when ra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ident Report Number of previous related in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ources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xtual description of the in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ormanc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gitised and linked to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otted when required after deriving the summaries from the performanc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C4F2-FCC0-4B9F-9CB8-604D615460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0"/>
          <a:ext cx="9144000" cy="6838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8E99-1DF2-4155-AC29-883572D8E3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Generic Architecture of a Database for Performance Monitoring Syste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2133720"/>
            <a:ext cx="8229600" cy="68580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atabase Interfa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57200" y="3581280"/>
            <a:ext cx="2285640" cy="1676160"/>
            <a:chOff x="457200" y="3581280"/>
            <a:chExt cx="2285640" cy="1676160"/>
          </a:xfrm>
        </p:grpSpPr>
        <p:sp>
          <p:nvSpPr>
            <p:cNvPr id="262" name=""/>
            <p:cNvSpPr/>
            <p:nvPr/>
          </p:nvSpPr>
          <p:spPr>
            <a:xfrm>
              <a:off x="2011320" y="4198680"/>
              <a:ext cx="73152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98680"/>
              <a:ext cx="73116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200" y="3581280"/>
              <a:ext cx="2285640" cy="794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429000" y="3581280"/>
            <a:ext cx="2361960" cy="1676160"/>
            <a:chOff x="3429000" y="3581280"/>
            <a:chExt cx="2361960" cy="1676160"/>
          </a:xfrm>
        </p:grpSpPr>
        <p:sp>
          <p:nvSpPr>
            <p:cNvPr id="266" name=""/>
            <p:cNvSpPr/>
            <p:nvPr/>
          </p:nvSpPr>
          <p:spPr>
            <a:xfrm>
              <a:off x="5034960" y="4198680"/>
              <a:ext cx="75600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4198680"/>
              <a:ext cx="75564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3581280"/>
              <a:ext cx="2361960" cy="794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400800" y="3581280"/>
            <a:ext cx="2361960" cy="1676160"/>
            <a:chOff x="6400800" y="3581280"/>
            <a:chExt cx="2361960" cy="1676160"/>
          </a:xfrm>
        </p:grpSpPr>
        <p:sp>
          <p:nvSpPr>
            <p:cNvPr id="270" name=""/>
            <p:cNvSpPr/>
            <p:nvPr/>
          </p:nvSpPr>
          <p:spPr>
            <a:xfrm>
              <a:off x="8006760" y="4198680"/>
              <a:ext cx="75600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4198680"/>
              <a:ext cx="755640" cy="10587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00800" y="3581280"/>
              <a:ext cx="2361960" cy="794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219320" y="4495680"/>
            <a:ext cx="685800" cy="60984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7080" y="4572000"/>
            <a:ext cx="685800" cy="6094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4572000"/>
            <a:ext cx="685800" cy="6094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129528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294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288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8006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772400" y="28195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334120" y="129528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rot="5400000">
            <a:off x="2666880" y="358092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 rot="5400000">
            <a:off x="2703960" y="438084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rot="5400000">
            <a:off x="5676120" y="369540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5400000">
            <a:off x="5710680" y="4491720"/>
            <a:ext cx="685800" cy="692280"/>
          </a:xfrm>
          <a:prstGeom prst="downArrow">
            <a:avLst>
              <a:gd name="adj1" fmla="val 50000"/>
              <a:gd name="adj2" fmla="val 2523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" y="5257800"/>
            <a:ext cx="8077320" cy="1295280"/>
            <a:chOff x="457200" y="5257800"/>
            <a:chExt cx="8077320" cy="1295280"/>
          </a:xfrm>
        </p:grpSpPr>
        <p:sp>
          <p:nvSpPr>
            <p:cNvPr id="289" name=""/>
            <p:cNvSpPr/>
            <p:nvPr/>
          </p:nvSpPr>
          <p:spPr>
            <a:xfrm>
              <a:off x="609480" y="6172200"/>
              <a:ext cx="7925040" cy="380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" y="5257800"/>
              <a:ext cx="609480" cy="914400"/>
            </a:xfrm>
            <a:prstGeom prst="upArrow">
              <a:avLst>
                <a:gd name="adj1" fmla="val 50000"/>
                <a:gd name="adj2" fmla="val 3750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77320" y="5257800"/>
              <a:ext cx="457200" cy="914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057400" y="5257800"/>
            <a:ext cx="4952880" cy="762120"/>
            <a:chOff x="2057400" y="5257800"/>
            <a:chExt cx="4952880" cy="762120"/>
          </a:xfrm>
        </p:grpSpPr>
        <p:sp>
          <p:nvSpPr>
            <p:cNvPr id="293" name=""/>
            <p:cNvSpPr/>
            <p:nvPr/>
          </p:nvSpPr>
          <p:spPr>
            <a:xfrm>
              <a:off x="2057400" y="5257800"/>
              <a:ext cx="380880" cy="457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7400" y="5715000"/>
              <a:ext cx="4800600" cy="304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00800" y="5257800"/>
              <a:ext cx="609480" cy="762120"/>
            </a:xfrm>
            <a:prstGeom prst="upArrow">
              <a:avLst>
                <a:gd name="adj1" fmla="val 50000"/>
                <a:gd name="adj2" fmla="val 3126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18840" y="380916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62040" y="380916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83400" y="380916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6C3A-4AF5-4F3B-A4B6-3BB5D33FB1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erformance Information Presentation and Dissemination</a:t>
            </a:r>
            <a:endParaRPr b="0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y Issu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kind of information is suitable for a particular category of user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the required information is to be presented to a particular category of user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ver what medium should that information be communicated to a specific user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0EAC-C234-418C-B9CE-6DA0377763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User Categorisation</a:t>
            </a:r>
            <a:endParaRPr b="0" lang="en-US" sz="4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ystem Operators/Maintaine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ne grained real-time information on system behaviour and performance for effective maintenance and operation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ystem Manage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formance summaries over a suitable period of time to indicate overall system behaviour and resource utilisa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ustome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arse grained summaries indicating that service level agreements are being complied by the service provider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FB89-ABCE-4213-930C-8FC79B89EF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sentation Forma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antaneous Displ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ular Listing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ormance Graph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ngle Attribute Graph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Attribute Graph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ynamic Visualis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FA49-39A0-4DFC-947C-955A59ECD4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sentation Guideli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Data formats should be portabl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ource of data and its time and date of collection should be clearly marked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Results should be accurate, unambiguous and consist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est the measurement, summarisation and charting proces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ark charts and reports with test conditions, software generating the results and other relevant label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inimise chances of confusion by consistent present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3CC4-F5B4-4DDD-A016-9D799166A8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entary Concep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ability of 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huma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r 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achin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o perform an assigned task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el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ni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strume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hat receives and shows,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ontinuousl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information about the working of some entity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echniqu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hat allow an entity to b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observ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determine its performanc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chieving particular objectives under specific constraint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BD71-BB97-4A5D-95E6-E0DB3245C5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semination Techn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aper-based repor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ortable magnetic, optical and magneto-optical medi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Electronic Communic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l-up connectiv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unication via Int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stomised Applica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t Clien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loiting the World Wide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sed on Internet Technolog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loy Standarised Formats and Applica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 Effective Thin Client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DDD7-0D7D-4721-880F-AC9E70F50B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log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management aspects vital throughout the lifecycle of a syste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takeholders inclu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eveloper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perators, maintainers and administrator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rmer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management invol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easurement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ata Processing and Summaris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esent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ssemination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606A-F838-4676-8998-4D3F7D3C47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 a Nutshel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pecifi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easurab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a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greem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n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ealisti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e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he monitoring require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295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Be SMART to Moni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1A0E-0B03-4A82-B2E4-7438F7A5B2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nalysis and measurement of system’s performance vital to its successful management and optimal operation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analysis is pre-dominantly a theoretical study of system’s mathematical mode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erformance monitoring involves practical measurements on the system during its operation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rovides information 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aturation and failure condition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are system capacity for allocating further task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F095-52FD-4674-855F-A81EE3F1DD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LVES SIGNIFICANT ISSUES IN THE EFFICIENT REAL-TIME OPERATION OF THE SYSTEM AS WELL AS ITS OPTIMAL LONG TERM ADMINISTR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ECCE-95DD-4FEB-AE83-1F6C842DA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991800" y="4114800"/>
            <a:ext cx="2208600" cy="2135160"/>
            <a:chOff x="991800" y="4114800"/>
            <a:chExt cx="2208600" cy="2135160"/>
          </a:xfrm>
        </p:grpSpPr>
        <p:sp>
          <p:nvSpPr>
            <p:cNvPr id="50" name=""/>
            <p:cNvSpPr/>
            <p:nvPr/>
          </p:nvSpPr>
          <p:spPr>
            <a:xfrm>
              <a:off x="1295280" y="4114800"/>
              <a:ext cx="1905120" cy="1981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1800" y="57902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c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200400" y="54864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tity Und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32004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86400" y="4266720"/>
            <a:ext cx="3623040" cy="2043720"/>
            <a:chOff x="5486400" y="4266720"/>
            <a:chExt cx="3623040" cy="2043720"/>
          </a:xfrm>
        </p:grpSpPr>
        <p:sp>
          <p:nvSpPr>
            <p:cNvPr id="55" name=""/>
            <p:cNvSpPr/>
            <p:nvPr/>
          </p:nvSpPr>
          <p:spPr>
            <a:xfrm flipV="1">
              <a:off x="5486400" y="4266720"/>
              <a:ext cx="1905120" cy="1752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00200" y="5484960"/>
              <a:ext cx="300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ntity Behaviou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nd Characteris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343400" y="2452680"/>
            <a:ext cx="2298960" cy="3200400"/>
            <a:chOff x="4343400" y="2452680"/>
            <a:chExt cx="2298960" cy="3200400"/>
          </a:xfrm>
        </p:grpSpPr>
        <p:sp>
          <p:nvSpPr>
            <p:cNvPr id="58" name=""/>
            <p:cNvSpPr/>
            <p:nvPr/>
          </p:nvSpPr>
          <p:spPr>
            <a:xfrm flipV="1">
              <a:off x="4343400" y="2452680"/>
              <a:ext cx="0" cy="3200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4840" y="2740680"/>
              <a:ext cx="229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nt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nviron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stra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formance Monitoring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004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144080" y="1981080"/>
            <a:ext cx="2208240" cy="1371600"/>
            <a:chOff x="1144080" y="1981080"/>
            <a:chExt cx="2208240" cy="1371600"/>
          </a:xfrm>
        </p:grpSpPr>
        <p:sp>
          <p:nvSpPr>
            <p:cNvPr id="63" name=""/>
            <p:cNvSpPr/>
            <p:nvPr/>
          </p:nvSpPr>
          <p:spPr>
            <a:xfrm flipH="1">
              <a:off x="1371240" y="1981080"/>
              <a:ext cx="1981080" cy="137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44080" y="2055960"/>
              <a:ext cx="126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200400" y="1371600"/>
            <a:ext cx="2438280" cy="1066680"/>
          </a:xfrm>
          <a:prstGeom prst="cube">
            <a:avLst>
              <a:gd name="adj" fmla="val 2500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c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486040" y="1674720"/>
            <a:ext cx="3189600" cy="1602000"/>
            <a:chOff x="5486040" y="1674720"/>
            <a:chExt cx="3189600" cy="1602000"/>
          </a:xfrm>
        </p:grpSpPr>
        <p:sp>
          <p:nvSpPr>
            <p:cNvPr id="67" name=""/>
            <p:cNvSpPr/>
            <p:nvPr/>
          </p:nvSpPr>
          <p:spPr>
            <a:xfrm flipH="1" flipV="1">
              <a:off x="5486040" y="1905120"/>
              <a:ext cx="1981080" cy="137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32640" y="1674720"/>
              <a:ext cx="20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Monito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43B1-E996-4D81-A5AE-B5C3B7743D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nitoring Techn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usive Monito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e monitoring (Probing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te test task on the system being monitored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itor the performance of the system in conducting test task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iodicity of the test task relates to the sampling of system’s ability to perform the task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issues relate to the generation of an appropriate test task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tegories of prob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-service prob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f-line prob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AC0C-29D3-4617-A278-FBB248E08C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nitoring Techniq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-Intrusive Monito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ssive monitoring (Spying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itor the performance of the system while it performs routine task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pled attributes form performance dat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issues relate to the sampling frequency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lly, passive monitoring does not affect the performance of the system while it conducts routine task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FCB0-743D-4DB8-A4E8-C8BF4F069C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al World Exampl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lecommunications and Power Sys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ustrial Plant Compon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k Measurement and Performance Rating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intenance Perform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ality Performance Monitoring and Control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eduling Performance Monitoring and Contr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006D-DA9E-4749-8950-D70BE2B5BE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9:08:19Z</dcterms:created>
  <dc:creator>Anees</dc:creator>
  <dc:description/>
  <dc:language>en-US</dc:language>
  <cp:lastModifiedBy>Omar Bashir</cp:lastModifiedBy>
  <dcterms:modified xsi:type="dcterms:W3CDTF">2001-08-16T11:56:01Z</dcterms:modified>
  <cp:revision>127</cp:revision>
  <dc:subject/>
  <dc:title>No Slide Title</dc:title>
</cp:coreProperties>
</file>