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E52-6DF0-4F6F-AF1B-02BA55F8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0C4-D912-4AF8-9BBB-50C0528A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68F-4EC8-4D50-A278-3195D8F2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49C-2593-4DC3-857D-6B8C084D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B55-1D73-4770-9FD5-1E3D67C9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04B-A5E8-4427-ACEC-A477888E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338-B63A-42D1-84D8-80EF98BC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8F7-3C2E-48E1-B8F5-E4FF7B13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135-B0DA-4313-BB4D-F4AAF2E6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558-C905-4201-A811-F70E1CC6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418-7DFF-4D44-A034-A5EAF238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9BC-5915-4FBB-83A4-5DF96744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F6F1-1E86-45C8-8533-911561C62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631880"/>
            <a:ext cx="70866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écnicas de Sincroniz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n Sistemas Distribu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ojes físicos y lógic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urrencia distrib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2120" y="9907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n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s una variante del uso de toke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uando un proceso está en sección crítica genera un archivo (candado o lock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ualquier proceso que desea entrar en S.C. verifica primero la existencia del candado. Si éste existe el proceso espera y verifica periódicamente su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l control puede ser centralizado o distrib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600200" y="4510080"/>
            <a:ext cx="6275880" cy="1815840"/>
            <a:chOff x="1600200" y="4510080"/>
            <a:chExt cx="6275880" cy="1815840"/>
          </a:xfrm>
        </p:grpSpPr>
        <p:grpSp>
          <p:nvGrpSpPr>
            <p:cNvPr id="220" name=""/>
            <p:cNvGrpSpPr/>
            <p:nvPr/>
          </p:nvGrpSpPr>
          <p:grpSpPr>
            <a:xfrm>
              <a:off x="3581280" y="4662360"/>
              <a:ext cx="1295280" cy="1370880"/>
              <a:chOff x="3581280" y="4662360"/>
              <a:chExt cx="1295280" cy="1370880"/>
            </a:xfrm>
          </p:grpSpPr>
          <p:sp>
            <p:nvSpPr>
              <p:cNvPr id="221" name=""/>
              <p:cNvSpPr/>
              <p:nvPr/>
            </p:nvSpPr>
            <p:spPr>
              <a:xfrm>
                <a:off x="3581280" y="4662360"/>
                <a:ext cx="1295280" cy="304200"/>
              </a:xfrm>
              <a:prstGeom prst="ellipse">
                <a:avLst/>
              </a:pr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581280" y="5728680"/>
                <a:ext cx="1295280" cy="304560"/>
              </a:xfrm>
              <a:prstGeom prst="ellipse">
                <a:avLst/>
              </a:prstGeom>
              <a:noFill/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81280" y="4814280"/>
                <a:ext cx="0" cy="1066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76560" y="4814280"/>
                <a:ext cx="0" cy="10663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600200" y="4510080"/>
              <a:ext cx="685800" cy="685440"/>
            </a:xfrm>
            <a:prstGeom prst="ellipse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47800" y="46764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81080" y="5576760"/>
              <a:ext cx="685800" cy="685440"/>
            </a:xfrm>
            <a:prstGeom prst="ellipse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29040" y="57434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72200" y="4586040"/>
              <a:ext cx="685800" cy="685440"/>
            </a:xfrm>
            <a:prstGeom prst="ellipse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19800" y="47527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2160" y="5271840"/>
              <a:ext cx="38124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343400" y="5042880"/>
              <a:ext cx="1828800" cy="38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666880" y="5500080"/>
              <a:ext cx="1295280" cy="3805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86000" y="4890960"/>
              <a:ext cx="1676160" cy="4568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4114440" y="5423760"/>
              <a:ext cx="1523880" cy="6094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42640" y="5957640"/>
              <a:ext cx="22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Candado (Lock Fil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62120" y="1320840"/>
            <a:ext cx="7619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on una forma de más alto nivel para manejar la sincronización y depende de la existencia de operaciones primitivas sincronizadas. p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EGIN_TRANSA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D_TRANSA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BORT_TRANSA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A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RITE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4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Una transacción (o transacción atómica) es aquella que no puede dividirse y se ejecuta totalmente o se aborta por 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Requiere de la existencia de almacenamiento estable de información (replicación y/o redunda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40600" y="38088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ransacciones y Atom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62120" y="1351080"/>
            <a:ext cx="761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Propiedades de las transacciones: (operacione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ID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(Atomicity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tómicidad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.- Externamente las transacciones son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indivi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(Consistency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sistencia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.- No se violan los invariantes del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 (Isolation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islamiento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.- Las transacciones concurrentes no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interfieren entre 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92480" indent="-173052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(Durability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urabilidad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.- Una vez realizada una transacción,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los cambios son perma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40600" y="38088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ransacciones y Atom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9160" y="379440"/>
            <a:ext cx="52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ncronización de relojes fí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990720"/>
            <a:ext cx="74070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étodo de Crist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Un servidor central provee el tiempo por petición del usuario (T</a:t>
            </a:r>
            <a:r>
              <a:rPr b="0" lang="es-ES" sz="2000" spc="-1" strike="noStrike" baseline="-25000">
                <a:solidFill>
                  <a:srgbClr val="ffff66"/>
                </a:solidFill>
                <a:latin typeface="Arial"/>
              </a:rPr>
              <a:t>round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goritmo de Berke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Una computadora maestra pide a sus esclavos sus relojes y efectúa la sincro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tocolo de tiempo de red (N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rovee sincronización de tiempos en Internet con UTC  (Coordinated Universal Tim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rovee servicio confiable tolerante a fall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ermite a los clientes el acceso frecu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Provee protección contra interfere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El servicio es proporcionado por diversos servi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971800"/>
            <a:ext cx="77724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80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ncronización de relojes 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066680"/>
            <a:ext cx="740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finició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La relación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happened­before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) está definida p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HB1 : Si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proceso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| entonc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HB2 : Para cualquier mensaje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, 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send(m)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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rcv(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HB3 : Si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x; y; z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son eventos tales que x 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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y;  y 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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z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ntonces x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z.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  (transitiv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004760" y="3200400"/>
            <a:ext cx="7224480" cy="1917720"/>
            <a:chOff x="1004760" y="3200400"/>
            <a:chExt cx="7224480" cy="1917720"/>
          </a:xfrm>
        </p:grpSpPr>
        <p:grpSp>
          <p:nvGrpSpPr>
            <p:cNvPr id="48" name=""/>
            <p:cNvGrpSpPr/>
            <p:nvPr/>
          </p:nvGrpSpPr>
          <p:grpSpPr>
            <a:xfrm>
              <a:off x="1741680" y="3347640"/>
              <a:ext cx="6487560" cy="1622520"/>
              <a:chOff x="1741680" y="3347640"/>
              <a:chExt cx="6487560" cy="1622520"/>
            </a:xfrm>
          </p:grpSpPr>
          <p:sp>
            <p:nvSpPr>
              <p:cNvPr id="49" name=""/>
              <p:cNvSpPr/>
              <p:nvPr/>
            </p:nvSpPr>
            <p:spPr>
              <a:xfrm>
                <a:off x="1741680" y="3494880"/>
                <a:ext cx="648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741680" y="4084920"/>
                <a:ext cx="648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41680" y="4674960"/>
                <a:ext cx="648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741680" y="3347640"/>
                <a:ext cx="0" cy="162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3069000" y="3495240"/>
              <a:ext cx="884520" cy="59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80480" y="4085280"/>
              <a:ext cx="884520" cy="59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04760" y="3200400"/>
              <a:ext cx="589680" cy="4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4760" y="3790440"/>
              <a:ext cx="589680" cy="4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04760" y="4380480"/>
              <a:ext cx="589680" cy="4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36880" y="3445920"/>
              <a:ext cx="49140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72080" y="3445920"/>
              <a:ext cx="49140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6960" y="4085280"/>
              <a:ext cx="49140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83920" y="3692160"/>
              <a:ext cx="49140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68440" y="4626360"/>
              <a:ext cx="49140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30000" y="4626360"/>
              <a:ext cx="49140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11080" y="3495240"/>
              <a:ext cx="5896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2920" y="4085280"/>
              <a:ext cx="5896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838080" y="5683320"/>
            <a:ext cx="7407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finició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Un reloj lógico es un contador que se incre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monotónicamente según la relación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  happened­before.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1066680"/>
            <a:ext cx="7407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oritmo de Lamport para cálculo de relojes lóg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ea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l reloj lógico del proces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 Cp (a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la estampilla de tiempo del event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(b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la estampilla de tiempo del event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n cualquier ev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C1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s incrementado antes de cualquier evento en el proces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 p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 p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+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C2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uando un proces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nvía un mensaje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, añade a éste la estampilla de tiemp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 p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uando un proces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recibe un mensaj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m, t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, se h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C q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max( C q , t 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y se aplic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C1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antes del evento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rcv(m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Con este algoritmo se puede demostrar que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C(a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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ffff66"/>
                </a:solidFill>
                <a:latin typeface="Arial"/>
              </a:rPr>
              <a:t>C(b)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(Lo converso no es necesariamente cierto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380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ncronización de relojes 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1674720"/>
            <a:ext cx="7407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oblema consiste en controlar el acceso a una sección crítica común en un conjunto de procesos distribuidos.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A continuación se muestran diferentes algoritmos para resolv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1143000"/>
            <a:ext cx="74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oritmo de servidor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Un servidor da acceso a la sección crítica al poseedor de un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50200" y="5958000"/>
            <a:ext cx="60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blemas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 Fallo del servidor, fallo del poseedor del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7960" y="2743200"/>
            <a:ext cx="38340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34040" y="442908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7960" y="442908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10560" y="441972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057040" y="3200400"/>
            <a:ext cx="609480" cy="12286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643040" y="4962600"/>
            <a:ext cx="380880" cy="533160"/>
            <a:chOff x="1643040" y="4962600"/>
            <a:chExt cx="380880" cy="533160"/>
          </a:xfrm>
        </p:grpSpPr>
        <p:sp>
          <p:nvSpPr>
            <p:cNvPr id="80" name=""/>
            <p:cNvSpPr/>
            <p:nvPr/>
          </p:nvSpPr>
          <p:spPr>
            <a:xfrm>
              <a:off x="1704600" y="50018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43040" y="4962600"/>
              <a:ext cx="380880" cy="533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390000" y="2733840"/>
            <a:ext cx="38340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36080" y="442908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90000" y="442908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12600" y="4419720"/>
            <a:ext cx="4003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3200400"/>
            <a:ext cx="0" cy="12193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443640" y="4962600"/>
            <a:ext cx="380880" cy="533160"/>
            <a:chOff x="6443640" y="4962600"/>
            <a:chExt cx="380880" cy="533160"/>
          </a:xfrm>
        </p:grpSpPr>
        <p:sp>
          <p:nvSpPr>
            <p:cNvPr id="88" name=""/>
            <p:cNvSpPr/>
            <p:nvPr/>
          </p:nvSpPr>
          <p:spPr>
            <a:xfrm>
              <a:off x="6505200" y="50018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43640" y="4962600"/>
              <a:ext cx="380880" cy="533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990720"/>
            <a:ext cx="7619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oritmo de Ricart y Agraw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stá basado en un consenso distrib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Un proceso que requiere entrar a S.C. manda un mensaje multicast con marcas de tiempo de su reloj, y puede entrar si el resto de los procesos se lo permi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06920" y="2939760"/>
            <a:ext cx="7220520" cy="2635920"/>
            <a:chOff x="1006920" y="2939760"/>
            <a:chExt cx="7220520" cy="2635920"/>
          </a:xfrm>
        </p:grpSpPr>
        <p:sp>
          <p:nvSpPr>
            <p:cNvPr id="93" name=""/>
            <p:cNvSpPr/>
            <p:nvPr/>
          </p:nvSpPr>
          <p:spPr>
            <a:xfrm>
              <a:off x="1670400" y="3722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06920" y="457992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06880" y="457380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294920" y="4098960"/>
              <a:ext cx="38124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81080" y="4098960"/>
              <a:ext cx="30492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1981080" y="3793680"/>
              <a:ext cx="60984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295280" y="493704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63840" y="4710240"/>
              <a:ext cx="712800" cy="619200"/>
            </a:xfrm>
            <a:custGeom>
              <a:avLst/>
              <a:gdLst/>
              <a:ahLst/>
              <a:rect l="l" t="t" r="r" b="b"/>
              <a:pathLst>
                <a:path w="449" h="390">
                  <a:moveTo>
                    <a:pt x="103" y="40"/>
                  </a:moveTo>
                  <a:cubicBezTo>
                    <a:pt x="143" y="38"/>
                    <a:pt x="284" y="0"/>
                    <a:pt x="341" y="29"/>
                  </a:cubicBezTo>
                  <a:cubicBezTo>
                    <a:pt x="398" y="58"/>
                    <a:pt x="449" y="159"/>
                    <a:pt x="444" y="216"/>
                  </a:cubicBezTo>
                  <a:cubicBezTo>
                    <a:pt x="439" y="273"/>
                    <a:pt x="372" y="352"/>
                    <a:pt x="310" y="371"/>
                  </a:cubicBezTo>
                  <a:cubicBezTo>
                    <a:pt x="248" y="390"/>
                    <a:pt x="124" y="362"/>
                    <a:pt x="72" y="329"/>
                  </a:cubicBezTo>
                  <a:cubicBezTo>
                    <a:pt x="20" y="296"/>
                    <a:pt x="15" y="206"/>
                    <a:pt x="0" y="17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4350800">
              <a:off x="1451880" y="3094920"/>
              <a:ext cx="712800" cy="619200"/>
            </a:xfrm>
            <a:custGeom>
              <a:avLst/>
              <a:gdLst/>
              <a:ahLst/>
              <a:rect l="l" t="t" r="r" b="b"/>
              <a:pathLst>
                <a:path w="449" h="390">
                  <a:moveTo>
                    <a:pt x="103" y="40"/>
                  </a:moveTo>
                  <a:cubicBezTo>
                    <a:pt x="143" y="38"/>
                    <a:pt x="284" y="0"/>
                    <a:pt x="341" y="29"/>
                  </a:cubicBezTo>
                  <a:cubicBezTo>
                    <a:pt x="398" y="58"/>
                    <a:pt x="449" y="159"/>
                    <a:pt x="444" y="216"/>
                  </a:cubicBezTo>
                  <a:cubicBezTo>
                    <a:pt x="439" y="273"/>
                    <a:pt x="372" y="352"/>
                    <a:pt x="310" y="371"/>
                  </a:cubicBezTo>
                  <a:cubicBezTo>
                    <a:pt x="248" y="390"/>
                    <a:pt x="124" y="362"/>
                    <a:pt x="72" y="329"/>
                  </a:cubicBezTo>
                  <a:cubicBezTo>
                    <a:pt x="20" y="296"/>
                    <a:pt x="15" y="206"/>
                    <a:pt x="0" y="17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0760" y="4078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38520" y="4154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77960" y="3195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7440" y="39258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12960" y="4907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49160" y="49482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13680" y="371808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49840" y="457524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50160" y="4568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47959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038480" y="411012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4876920" y="4110120"/>
              <a:ext cx="38088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1204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8680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01000" y="48690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5440" y="327204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.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80560" y="371808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17080" y="457524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17040" y="4568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4033800"/>
              <a:ext cx="304920" cy="533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5404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00200" y="51768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43480" y="51768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86600" y="517680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990720"/>
            <a:ext cx="761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oritmo de Ricart y Agraw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i un proceso que quiere entrar recibe un mensaje de petición compara la marca de tiempo y sólo cuando posee la marca de tiempo menor puede en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06920" y="2939760"/>
            <a:ext cx="7220520" cy="2635920"/>
            <a:chOff x="1006920" y="2939760"/>
            <a:chExt cx="7220520" cy="2635920"/>
          </a:xfrm>
        </p:grpSpPr>
        <p:sp>
          <p:nvSpPr>
            <p:cNvPr id="129" name=""/>
            <p:cNvSpPr/>
            <p:nvPr/>
          </p:nvSpPr>
          <p:spPr>
            <a:xfrm>
              <a:off x="1670400" y="3722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06920" y="457992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06880" y="457380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294920" y="4098960"/>
              <a:ext cx="38124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81080" y="4098960"/>
              <a:ext cx="30492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1981080" y="3793680"/>
              <a:ext cx="60984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295280" y="493704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63840" y="4710240"/>
              <a:ext cx="712800" cy="619200"/>
            </a:xfrm>
            <a:custGeom>
              <a:avLst/>
              <a:gdLst/>
              <a:ahLst/>
              <a:rect l="l" t="t" r="r" b="b"/>
              <a:pathLst>
                <a:path w="449" h="390">
                  <a:moveTo>
                    <a:pt x="103" y="40"/>
                  </a:moveTo>
                  <a:cubicBezTo>
                    <a:pt x="143" y="38"/>
                    <a:pt x="284" y="0"/>
                    <a:pt x="341" y="29"/>
                  </a:cubicBezTo>
                  <a:cubicBezTo>
                    <a:pt x="398" y="58"/>
                    <a:pt x="449" y="159"/>
                    <a:pt x="444" y="216"/>
                  </a:cubicBezTo>
                  <a:cubicBezTo>
                    <a:pt x="439" y="273"/>
                    <a:pt x="372" y="352"/>
                    <a:pt x="310" y="371"/>
                  </a:cubicBezTo>
                  <a:cubicBezTo>
                    <a:pt x="248" y="390"/>
                    <a:pt x="124" y="362"/>
                    <a:pt x="72" y="329"/>
                  </a:cubicBezTo>
                  <a:cubicBezTo>
                    <a:pt x="20" y="296"/>
                    <a:pt x="15" y="206"/>
                    <a:pt x="0" y="17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4350800">
              <a:off x="1451880" y="3094920"/>
              <a:ext cx="712800" cy="619200"/>
            </a:xfrm>
            <a:custGeom>
              <a:avLst/>
              <a:gdLst/>
              <a:ahLst/>
              <a:rect l="l" t="t" r="r" b="b"/>
              <a:pathLst>
                <a:path w="449" h="390">
                  <a:moveTo>
                    <a:pt x="103" y="40"/>
                  </a:moveTo>
                  <a:cubicBezTo>
                    <a:pt x="143" y="38"/>
                    <a:pt x="284" y="0"/>
                    <a:pt x="341" y="29"/>
                  </a:cubicBezTo>
                  <a:cubicBezTo>
                    <a:pt x="398" y="58"/>
                    <a:pt x="449" y="159"/>
                    <a:pt x="444" y="216"/>
                  </a:cubicBezTo>
                  <a:cubicBezTo>
                    <a:pt x="439" y="273"/>
                    <a:pt x="372" y="352"/>
                    <a:pt x="310" y="371"/>
                  </a:cubicBezTo>
                  <a:cubicBezTo>
                    <a:pt x="248" y="390"/>
                    <a:pt x="124" y="362"/>
                    <a:pt x="72" y="329"/>
                  </a:cubicBezTo>
                  <a:cubicBezTo>
                    <a:pt x="20" y="296"/>
                    <a:pt x="15" y="206"/>
                    <a:pt x="0" y="17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20760" y="4078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38520" y="4154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7960" y="3195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7440" y="39258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2960" y="4907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49160" y="49482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13680" y="371808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49840" y="457524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50160" y="4568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1120" y="47959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038480" y="411012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4876920" y="4110120"/>
              <a:ext cx="380880" cy="4572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1204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680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01000" y="48690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75440" y="327204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.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80560" y="371808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17080" y="457524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17040" y="4568760"/>
              <a:ext cx="307080" cy="368280"/>
            </a:xfrm>
            <a:prstGeom prst="rect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4033800"/>
              <a:ext cx="304920" cy="533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54040" y="40784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Arial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00200" y="51768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43480" y="51768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6600" y="517680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09480" y="5791320"/>
            <a:ext cx="81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6240" indent="-11462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blemas: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El algoritmo requiere muchos más mensajes que el de servidor central. No hay tolerancia a falla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990720"/>
            <a:ext cx="761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oritmo de anillo de 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e basa en la existencia de un anill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ísico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 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ógico 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entre los proc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Un token es pasado en un solo sentido entre los procesos y el que lo posee puede entrar en sección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Si un proceso no desea entrar en sección crítica, simplemente pasa el token al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9880" y="38088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currencia y sincron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8080" y="3886200"/>
            <a:ext cx="2210040" cy="2438280"/>
            <a:chOff x="838080" y="3886200"/>
            <a:chExt cx="2210040" cy="2438280"/>
          </a:xfrm>
        </p:grpSpPr>
        <p:grpSp>
          <p:nvGrpSpPr>
            <p:cNvPr id="166" name=""/>
            <p:cNvGrpSpPr/>
            <p:nvPr/>
          </p:nvGrpSpPr>
          <p:grpSpPr>
            <a:xfrm>
              <a:off x="838080" y="4419720"/>
              <a:ext cx="457200" cy="457200"/>
              <a:chOff x="838080" y="4419720"/>
              <a:chExt cx="45720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838080" y="441972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27360" y="4451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1752480" y="3886200"/>
              <a:ext cx="457200" cy="457200"/>
              <a:chOff x="1752480" y="3886200"/>
              <a:chExt cx="457200" cy="457200"/>
            </a:xfrm>
          </p:grpSpPr>
          <p:sp>
            <p:nvSpPr>
              <p:cNvPr id="170" name=""/>
              <p:cNvSpPr/>
              <p:nvPr/>
            </p:nvSpPr>
            <p:spPr>
              <a:xfrm>
                <a:off x="1752480" y="38862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41760" y="391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838080" y="5334120"/>
              <a:ext cx="457200" cy="457200"/>
              <a:chOff x="838080" y="5334120"/>
              <a:chExt cx="4572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838080" y="533412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27360" y="5365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752480" y="5867280"/>
              <a:ext cx="457200" cy="457200"/>
              <a:chOff x="1752480" y="5867280"/>
              <a:chExt cx="457200" cy="457200"/>
            </a:xfrm>
          </p:grpSpPr>
          <p:sp>
            <p:nvSpPr>
              <p:cNvPr id="176" name=""/>
              <p:cNvSpPr/>
              <p:nvPr/>
            </p:nvSpPr>
            <p:spPr>
              <a:xfrm>
                <a:off x="1752480" y="58672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41760" y="58989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590920" y="4419720"/>
              <a:ext cx="457200" cy="457200"/>
              <a:chOff x="2590920" y="4419720"/>
              <a:chExt cx="45720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2590920" y="441972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680200" y="44514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590920" y="5334120"/>
              <a:ext cx="457200" cy="457200"/>
              <a:chOff x="2590920" y="5334120"/>
              <a:chExt cx="457200" cy="457200"/>
            </a:xfrm>
          </p:grpSpPr>
          <p:sp>
            <p:nvSpPr>
              <p:cNvPr id="182" name=""/>
              <p:cNvSpPr/>
              <p:nvPr/>
            </p:nvSpPr>
            <p:spPr>
              <a:xfrm>
                <a:off x="2590920" y="533412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80200" y="5365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209680" y="4191120"/>
              <a:ext cx="38124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520" y="48769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2209320" y="5715000"/>
              <a:ext cx="38124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219320" y="4190760"/>
              <a:ext cx="45720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066680" y="495252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1295280" y="5714640"/>
              <a:ext cx="4572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038480" y="3809880"/>
            <a:ext cx="4419720" cy="1067040"/>
            <a:chOff x="4038480" y="3809880"/>
            <a:chExt cx="4419720" cy="1067040"/>
          </a:xfrm>
        </p:grpSpPr>
        <p:grpSp>
          <p:nvGrpSpPr>
            <p:cNvPr id="191" name=""/>
            <p:cNvGrpSpPr/>
            <p:nvPr/>
          </p:nvGrpSpPr>
          <p:grpSpPr>
            <a:xfrm>
              <a:off x="4419720" y="3809880"/>
              <a:ext cx="457200" cy="457200"/>
              <a:chOff x="4419720" y="3809880"/>
              <a:chExt cx="457200" cy="457200"/>
            </a:xfrm>
          </p:grpSpPr>
          <p:sp>
            <p:nvSpPr>
              <p:cNvPr id="192" name=""/>
              <p:cNvSpPr/>
              <p:nvPr/>
            </p:nvSpPr>
            <p:spPr>
              <a:xfrm>
                <a:off x="441972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0900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105520" y="3809880"/>
              <a:ext cx="457200" cy="457200"/>
              <a:chOff x="5105520" y="3809880"/>
              <a:chExt cx="457200" cy="457200"/>
            </a:xfrm>
          </p:grpSpPr>
          <p:sp>
            <p:nvSpPr>
              <p:cNvPr id="195" name=""/>
              <p:cNvSpPr/>
              <p:nvPr/>
            </p:nvSpPr>
            <p:spPr>
              <a:xfrm>
                <a:off x="510552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9480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791320" y="3809880"/>
              <a:ext cx="457200" cy="457200"/>
              <a:chOff x="5791320" y="3809880"/>
              <a:chExt cx="457200" cy="457200"/>
            </a:xfrm>
          </p:grpSpPr>
          <p:sp>
            <p:nvSpPr>
              <p:cNvPr id="198" name=""/>
              <p:cNvSpPr/>
              <p:nvPr/>
            </p:nvSpPr>
            <p:spPr>
              <a:xfrm>
                <a:off x="579132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8060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477120" y="3809880"/>
              <a:ext cx="457200" cy="457200"/>
              <a:chOff x="6477120" y="3809880"/>
              <a:chExt cx="457200" cy="457200"/>
            </a:xfrm>
          </p:grpSpPr>
          <p:sp>
            <p:nvSpPr>
              <p:cNvPr id="201" name=""/>
              <p:cNvSpPr/>
              <p:nvPr/>
            </p:nvSpPr>
            <p:spPr>
              <a:xfrm>
                <a:off x="647712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6640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162920" y="3809880"/>
              <a:ext cx="457200" cy="457200"/>
              <a:chOff x="7162920" y="3809880"/>
              <a:chExt cx="457200" cy="457200"/>
            </a:xfrm>
          </p:grpSpPr>
          <p:sp>
            <p:nvSpPr>
              <p:cNvPr id="204" name=""/>
              <p:cNvSpPr/>
              <p:nvPr/>
            </p:nvSpPr>
            <p:spPr>
              <a:xfrm>
                <a:off x="716292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25220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772400" y="3809880"/>
              <a:ext cx="457200" cy="457200"/>
              <a:chOff x="7772400" y="3809880"/>
              <a:chExt cx="457200" cy="457200"/>
            </a:xfrm>
          </p:grpSpPr>
          <p:sp>
            <p:nvSpPr>
              <p:cNvPr id="207" name=""/>
              <p:cNvSpPr/>
              <p:nvPr/>
            </p:nvSpPr>
            <p:spPr>
              <a:xfrm>
                <a:off x="7772400" y="38098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861680" y="3841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4038480" y="4876920"/>
              <a:ext cx="441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4832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3412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992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0572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9152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1000" y="4267080"/>
              <a:ext cx="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657600" y="52578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6240" indent="-11462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blemas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  Puede fallar si el token se pierde o un proceso no funci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6240" indent="-11462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6240" indent="-11462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olución</a:t>
            </a: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: Enviar varios tok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1T20:23:11Z</dcterms:created>
  <dc:creator>Ignacio A. Vargas</dc:creator>
  <dc:description/>
  <dc:language>en-US</dc:language>
  <cp:lastModifiedBy>Ignacio A. Vargas</cp:lastModifiedBy>
  <dcterms:modified xsi:type="dcterms:W3CDTF">1998-10-20T03:44:17Z</dcterms:modified>
  <cp:revision>11</cp:revision>
  <dc:subject/>
  <dc:title>Sin título de diapositiva</dc:title>
</cp:coreProperties>
</file>