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EF9-8BEC-4452-A9F2-7D32D3DD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06AE-991F-47DA-9A67-B45F42D1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D93-AEA0-4407-B1A8-0609EF5B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93A-6798-4A7F-AB8E-71B74538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1261-FC26-4714-AE76-B9A26DE2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7EF7-6819-47BA-B570-CD3AD90B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616-CFCA-4741-82FD-81A52065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095-9BF5-439C-AA54-04AE7D23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C49-AA6E-4EF9-8ED1-A84D6E42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D478-6351-42EA-9B06-B1DA77E6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07E-E77B-49AF-8832-6741FBF8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F6A-F537-4F48-8C9D-1FD343E9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6FCD-4529-4F9A-A98C-C3A5915EF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631880"/>
            <a:ext cx="70866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imes New Roman"/>
              </a:rPr>
              <a:t>Llamadas a Procedimientos Remotos / RP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 Remote Procedure Call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295280"/>
            <a:ext cx="7619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A pesar de sus ventajas, el empleo de RPCs tiene algu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inconven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Como las máquinas pueden ser diferentes, es necesario utilizar algún formato estándar para el intercambio de datos (p.e. XD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Los datos deben ser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aplanados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(marshalling) para poder ser enviados y recibidos correctamente por el canal de comun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Pueden ocurrir errores en la comunicación de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196920">
              <a:lnSpc>
                <a:spcPct val="100000"/>
              </a:lnSpc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l cliente no encuentra al serv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196920">
              <a:lnSpc>
                <a:spcPct val="100000"/>
              </a:lnSpc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Se pierde la solicitud del cliente al serv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196920">
              <a:lnSpc>
                <a:spcPct val="100000"/>
              </a:lnSpc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Se pierde el mensaje de respuesta del serv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196920">
              <a:lnSpc>
                <a:spcPct val="100000"/>
              </a:lnSpc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l servidor falla antes de recibir una solic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196920">
              <a:lnSpc>
                <a:spcPct val="100000"/>
              </a:lnSpc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l cliente falla después de enviar una solic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295280"/>
            <a:ext cx="7620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Con RPC se pueden implementar comunicaciones bloqueantes y no-bloque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Generalmente utilizan TCP, aunque pueden usa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l sistema más conocido de RPC, fue desarrollado por Sun Micr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tocolos para RP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430880"/>
            <a:ext cx="6933960" cy="1618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Nombre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  Cliente       Servidor     Cliente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Arial"/>
              </a:rPr>
              <a:t>R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  Request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impr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Arial"/>
              </a:rPr>
              <a:t>RR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  Request     Reply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Arial"/>
              </a:rPr>
              <a:t>RRA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  Request     Reply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Acknowledge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enví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ready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un 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4800600"/>
            <a:ext cx="693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105520"/>
            <a:ext cx="693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5410080"/>
            <a:ext cx="693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440208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41972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441972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441972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42040" y="37944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so de RPC en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295280"/>
            <a:ext cx="76197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La forma más natural de desarrollar RPCs es depurarlas primero como funciones locales y después analizar las alteraciones que sufrirán por la ejecución rem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Para facilitar la tarea de conversión UNIX ofrece el comando 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rpcgen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, que genera la versión remota a partir de un archivo de especificación cuyo nombre termina con 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rpcgen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utiliza información contenida en los prototipos de las funciones (tipo del valor devuelto y tipos de parámetros) y crea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esqueletos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de funciones en los que el programador inserta cód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Los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esqueletos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indican cómo llamar a las funciones remotas y en qué forma dichas funciones devuelven sus va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42040" y="37944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so de RPC en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362240"/>
            <a:ext cx="792504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jemplo: math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/*  math.x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struct intpair {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estructura definida usada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int a;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como parámetro de ADD y MULTIPLY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int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program MATHPROG {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      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nombre del servido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version MATHVERS {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versión del servido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int ADD(intpair)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= 1;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servicios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int MULTIPLY(intpair)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= 2;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ofrecidos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int CUBE(int)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= 3;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por serve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} = 1;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número de versión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} = 536870920;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Courier New"/>
              </a:rPr>
              <a:t>/* id del programa servido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42040" y="37944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so de RPC en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295280"/>
            <a:ext cx="76197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Creación de archivos de sopor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$rpcgen -a math.x </a:t>
            </a:r>
            <a:r>
              <a:rPr b="0" lang="es-ES_tradnl" sz="16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La opción -a indica que genere todos los arch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adicionales para soporte (</a:t>
            </a:r>
            <a:r>
              <a:rPr b="0" i="1" lang="es-ES_tradnl" sz="1600" spc="-1" strike="noStrike">
                <a:solidFill>
                  <a:srgbClr val="ffff66"/>
                </a:solidFill>
                <a:latin typeface="Arial"/>
              </a:rPr>
              <a:t>marcados con</a:t>
            </a: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      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7200" y="4267080"/>
            <a:ext cx="10951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61120" y="2743200"/>
            <a:ext cx="216180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server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27672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svc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396252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xdr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47048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4952880"/>
            <a:ext cx="236196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kefile.pr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568944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clnt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6146640"/>
            <a:ext cx="220968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client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429000" y="2971440"/>
            <a:ext cx="99072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81280" y="3504960"/>
            <a:ext cx="8384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657600" y="4190760"/>
            <a:ext cx="7621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4800600"/>
            <a:ext cx="7621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4876920"/>
            <a:ext cx="91440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4952880"/>
            <a:ext cx="106704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4572000"/>
            <a:ext cx="76212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2670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rpc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44956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809880"/>
            <a:ext cx="7848360" cy="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562720"/>
            <a:ext cx="7848360" cy="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59320" y="282888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rchivos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7720" y="436896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omu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59320" y="587700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rchivos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2154240"/>
            <a:ext cx="228600" cy="2005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42040" y="37944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so de RPC en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1219320"/>
            <a:ext cx="5486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Esqueleto del código del servidor, donde están las funciones a ejecutar localmente. Se completa con el código real de las funcion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Código de llamadas al sistema de rpc del servidor. No se mod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Filtros XDR del cliente y el servidor. No se mod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Header para los filtros XDR. No se mod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Archivo makefile para compilar los 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Código de llamadas al sistema de rpc del cliente. No se mod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"/>
              </a:rPr>
              <a:t>Esqueleto del código del cliente. Se completa con el código real de llamado a las funciones rem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4920" y="1295280"/>
            <a:ext cx="216180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server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233676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svc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12408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xdr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393696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4470480"/>
            <a:ext cx="236232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kefile.pr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5079960"/>
            <a:ext cx="220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clnt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918040"/>
            <a:ext cx="220968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math_client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42040" y="37944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so de RPC en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2946240"/>
            <a:ext cx="5486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Analizar y probar el código del programa </a:t>
            </a:r>
            <a:r>
              <a:rPr b="0" lang="es-ES_tradnl" sz="2000" spc="-1" strike="noStrike">
                <a:solidFill>
                  <a:srgbClr val="ffffff"/>
                </a:solidFill>
                <a:latin typeface="Courier New"/>
              </a:rPr>
              <a:t>math.x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, que es una calculadora simple basada en R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20348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blema: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La utilización del modelo cliente-servidor está basada en la transmisión y recepción de mensajes con el empleo de funciones típicas de entrada/sal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[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send( )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receive( )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sto va en contra de la idea de que el usuario vea al sistema distribuido como un sistema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centra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20348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blema: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La utilización del modelo cliente-servidor está basada en la transmisión y recepción de mensajes con el empleo de funciones típicas de entrada/sal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[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send( )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receive( )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5160" indent="-1235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sto va en contra de la idea de que el usuario vea al sistema distribuido como un sistema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"/>
              </a:rPr>
              <a:t>centra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3581280"/>
            <a:ext cx="7619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Una forma de evitar este problema es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antener ocultos los  detalles de implementación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 de las comuni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Se utilizan construcciones de mayor nivel, donde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programador no tiene que preocuparse de cómo resolver esos detalles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Permite concentrarse más en resolver el problema general de la aplicación que se está desarrollando.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a de estas construcciones es la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llamada a procedimiento remot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R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29528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Básicamente un RPC consiste en hacer que un programa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ecute un procedimiento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como parte de un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se procedimiento no se ejecuta en la máquina que lo invoca, sino en una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mputadora remota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29528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Básicamente un RPC consiste en hacer que un programa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ecute un procedimiento 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como parte de un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Ese procedimiento no se ejecuta en la máquina que lo invoca, sino en una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mputadora remota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Cliente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505320"/>
            <a:ext cx="2971800" cy="2837160"/>
          </a:xfrm>
          <a:prstGeom prst="rect">
            <a:avLst/>
          </a:prstGeom>
          <a:noFill/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result = </a:t>
            </a: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rpc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(serv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ad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x,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29528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Básicamente un RPC consiste en hacer que un program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ecute un procedimiento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omo parte de un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Ese procedimiento no se ejecuta en la máquina que lo invoca, sino en un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adora remota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liente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505320"/>
            <a:ext cx="2971800" cy="2837160"/>
          </a:xfrm>
          <a:prstGeom prst="rect">
            <a:avLst/>
          </a:prstGeom>
          <a:noFill/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result = </a:t>
            </a: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rpc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(serv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ad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x,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505320"/>
            <a:ext cx="2971800" cy="2562840"/>
          </a:xfrm>
          <a:prstGeom prst="rect">
            <a:avLst/>
          </a:prstGeom>
          <a:noFill/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add(int x, int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return(x +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Básicamente un RPC consiste en hacer que un program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ecute un procedimiento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omo parte de un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Ese procedimiento no se ejecuta en la máquina que lo invoca, sino en un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adora remota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liente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3505320"/>
            <a:ext cx="2971800" cy="2837160"/>
          </a:xfrm>
          <a:prstGeom prst="rect">
            <a:avLst/>
          </a:prstGeom>
          <a:noFill/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result = </a:t>
            </a: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rpc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(serv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ad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x,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3505320"/>
            <a:ext cx="2971800" cy="2562840"/>
          </a:xfrm>
          <a:prstGeom prst="rect">
            <a:avLst/>
          </a:prstGeom>
          <a:noFill/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add(int x, int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return(x +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47242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414324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Inicia ejecución de add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29528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Básicamente un RPC consiste en hacer que un program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jecute un procedimiento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omo parte de un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Ese procedimiento no se ejecuta en la máquina que lo invoca, sino en un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adora remota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liente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505320"/>
            <a:ext cx="2971800" cy="2837160"/>
          </a:xfrm>
          <a:prstGeom prst="rect">
            <a:avLst/>
          </a:prstGeom>
          <a:noFill/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result = </a:t>
            </a: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rpc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(serv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ad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x,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3505320"/>
            <a:ext cx="2971800" cy="2562840"/>
          </a:xfrm>
          <a:prstGeom prst="rect">
            <a:avLst/>
          </a:prstGeom>
          <a:noFill/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ourier New"/>
              </a:rPr>
              <a:t>add(int x, int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return(x +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47242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647960" y="56386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809520" y="52578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414324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Inicia ejecución de add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56386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Arial"/>
              </a:rPr>
              <a:t>add() regresa resul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4724280"/>
            <a:ext cx="3276360" cy="1676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43480" y="379440"/>
            <a:ext cx="66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lamada a Procedimiento Remoto /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129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Proceso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219320"/>
            <a:ext cx="3276360" cy="518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1981080"/>
            <a:ext cx="182880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Progr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3473280"/>
            <a:ext cx="18288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Interfaz 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5369040"/>
            <a:ext cx="182880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ervicios de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2743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lam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2743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38862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icit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z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8862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z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987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úcleo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4724280"/>
            <a:ext cx="3276360" cy="1676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295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Proceso serv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1219320"/>
            <a:ext cx="3276360" cy="518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1981080"/>
            <a:ext cx="182880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Programa serv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3473280"/>
            <a:ext cx="18288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Interfaz 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5369040"/>
            <a:ext cx="182880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ervicios de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743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lam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43800" y="2743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8862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icit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z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38862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z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5987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úcleo del serv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59092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3809880"/>
            <a:ext cx="0" cy="1524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09880"/>
            <a:ext cx="0" cy="152424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259092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59092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3809880"/>
            <a:ext cx="0" cy="1524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3809880"/>
            <a:ext cx="0" cy="152424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259092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5562720"/>
            <a:ext cx="2971800" cy="0"/>
          </a:xfrm>
          <a:prstGeom prst="line">
            <a:avLst/>
          </a:prstGeom>
          <a:ln w="284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559116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2057400"/>
            <a:ext cx="2971800" cy="0"/>
          </a:xfrm>
          <a:prstGeom prst="line">
            <a:avLst/>
          </a:prstGeom>
          <a:ln w="9360">
            <a:solidFill>
              <a:srgbClr val="ffff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2438280"/>
            <a:ext cx="2971800" cy="0"/>
          </a:xfrm>
          <a:prstGeom prst="line">
            <a:avLst/>
          </a:prstGeom>
          <a:ln w="9360">
            <a:solidFill>
              <a:srgbClr val="ffff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1371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llam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24670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re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ló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1T20:23:11Z</dcterms:created>
  <dc:creator>Ignacio A. Vargas</dc:creator>
  <dc:description/>
  <dc:language>en-US</dc:language>
  <cp:lastModifiedBy>Ignacio A. Vargas</cp:lastModifiedBy>
  <dcterms:modified xsi:type="dcterms:W3CDTF">1998-10-20T19:18:16Z</dcterms:modified>
  <cp:revision>14</cp:revision>
  <dc:subject/>
  <dc:title>Sin título de diapositiva</dc:title>
</cp:coreProperties>
</file>