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5C0-BF20-4D32-9253-DAE0EEE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662-9FBA-4967-B03C-B2329A6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174-8190-4540-A8FC-4FFC7B86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392-C95E-4CE4-8641-547D3098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946-B2AF-4A81-8FC0-C0D692E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A07-C14F-4D9B-8773-E17C429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30D-12AF-41C9-ABAC-85C06DBC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E2C-5FB8-41D6-AB8E-50348A9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CC3-1407-4F4C-AA91-B5C52D6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E75-0AA4-4CCC-84FD-54B4B55B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90C-1FB1-435D-BC9A-9AE64D24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2C7-BE3C-4730-8EA6-5B2B39A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A61-C0E5-4F96-811B-8A4A5E637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631880"/>
            <a:ext cx="70866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Comunicación entre proces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utilizando sockets de 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(Modelo Cliente-Servido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83120" y="37944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83808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43120"/>
            <a:ext cx="182880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municar a la red la dirección del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983040"/>
            <a:ext cx="129564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Times New Roman"/>
              </a:rPr>
              <a:t>fork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486720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tender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791320"/>
            <a:ext cx="12952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hi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9066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petición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7748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91440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Abrir el canal de 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819440"/>
            <a:ext cx="1981080" cy="520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Conectar con la dirección del serv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2809800"/>
            <a:ext cx="198108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Pedir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50958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Fin del proceso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713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Esperar respue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581280"/>
            <a:ext cx="1600200" cy="76212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7840" y="3049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72760" y="304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371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28600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505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236232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124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343400"/>
            <a:ext cx="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680" y="3200400"/>
            <a:ext cx="952200" cy="990720"/>
          </a:xfrm>
          <a:custGeom>
            <a:avLst/>
            <a:gdLst/>
            <a:ahLst/>
            <a:rect l="l" t="t" r="r" b="b"/>
            <a:pathLst>
              <a:path w="600" h="624">
                <a:moveTo>
                  <a:pt x="600" y="624"/>
                </a:moveTo>
                <a:cubicBezTo>
                  <a:pt x="324" y="484"/>
                  <a:pt x="48" y="344"/>
                  <a:pt x="24" y="240"/>
                </a:cubicBezTo>
                <a:cubicBezTo>
                  <a:pt x="0" y="136"/>
                  <a:pt x="336" y="48"/>
                  <a:pt x="456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114800"/>
            <a:ext cx="3808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112" y="8"/>
                  <a:pt x="224" y="16"/>
                  <a:pt x="288" y="96"/>
                </a:cubicBezTo>
                <a:cubicBezTo>
                  <a:pt x="352" y="176"/>
                  <a:pt x="368" y="328"/>
                  <a:pt x="384" y="48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946240"/>
            <a:ext cx="2819520" cy="177840"/>
          </a:xfrm>
          <a:custGeom>
            <a:avLst/>
            <a:gdLst/>
            <a:ahLst/>
            <a:rect l="l" t="t" r="r" b="b"/>
            <a:pathLst>
              <a:path w="1776" h="112">
                <a:moveTo>
                  <a:pt x="1776" y="16"/>
                </a:moveTo>
                <a:cubicBezTo>
                  <a:pt x="1420" y="8"/>
                  <a:pt x="1064" y="0"/>
                  <a:pt x="768" y="16"/>
                </a:cubicBezTo>
                <a:cubicBezTo>
                  <a:pt x="472" y="32"/>
                  <a:pt x="120" y="96"/>
                  <a:pt x="0" y="112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962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20" y="720"/>
                  <a:pt x="440" y="672"/>
                  <a:pt x="576" y="576"/>
                </a:cubicBezTo>
                <a:cubicBezTo>
                  <a:pt x="712" y="480"/>
                  <a:pt x="704" y="288"/>
                  <a:pt x="816" y="192"/>
                </a:cubicBezTo>
                <a:cubicBezTo>
                  <a:pt x="928" y="96"/>
                  <a:pt x="1088" y="48"/>
                  <a:pt x="1248" y="0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8862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pa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40384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o h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3049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sque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8108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175248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6440" y="17524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40384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5880" y="2362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5880" y="3048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666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5880" y="37242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34320" y="33526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512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endto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5172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cvfrom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95880" y="58579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hutdow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34320" y="4038480"/>
            <a:ext cx="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34320" y="54864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19520" y="48006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64280" y="44197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09880" y="3886200"/>
            <a:ext cx="22860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3920" y="53341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000" y="24382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3280" y="29401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3517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ceptar conex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spera hasta que llegue un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" y="50576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9840" y="350532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90520" y="53784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848720" y="5029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epción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48720" y="57434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7344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 orientada a conexión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37360" y="52380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ompilación de programas en C que usan so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1523880"/>
            <a:ext cx="7407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types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#include &lt;sys/socket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tilizar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c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con las opciones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socket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-ln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.e.: </a:t>
            </a:r>
            <a:r>
              <a:rPr b="0" lang="es-ES_tradnl" sz="2000" spc="-1" strike="noStrike">
                <a:solidFill>
                  <a:srgbClr val="ffff66"/>
                </a:solidFill>
                <a:latin typeface="Courier New"/>
              </a:rPr>
              <a:t>$cc -lsocket -lnsl programa.c -o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odas las llamadas de sockets regresan -1 si no tuvieron éxi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lecen la variable externa er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38098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449568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571500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495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51814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7040" y="472428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amiento de la pet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733560" y="434340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562720"/>
            <a:ext cx="236196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0384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r la petición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2862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iar respuesta a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2520" y="400680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79600" y="556272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vío de la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52578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ctura de respue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597204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ierre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83120" y="303120"/>
            <a:ext cx="362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municación orientada a conexión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743200"/>
            <a:ext cx="0" cy="9144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743200"/>
            <a:ext cx="0" cy="990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8380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3716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bin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7680" y="2286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96440" y="19810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895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Times New Roman"/>
              </a:rPr>
              <a:t>listen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243828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accep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16765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22096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2819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socke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5053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onnect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3124080"/>
            <a:ext cx="0" cy="3812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418140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41911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writ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54007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read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6086520"/>
            <a:ext cx="182880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ff66"/>
                </a:solidFill>
                <a:latin typeface="Times New Roman"/>
              </a:rPr>
              <a:t>close 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743200"/>
            <a:ext cx="0" cy="1447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66520" y="3657600"/>
            <a:ext cx="3429000" cy="0"/>
          </a:xfrm>
          <a:prstGeom prst="line">
            <a:avLst/>
          </a:prstGeom>
          <a:ln w="936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20" y="83808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ertura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000" y="13399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ublicar dir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2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sposición para esperar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 espera de 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32446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exión establec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352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ición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0:23:11Z</dcterms:created>
  <dc:creator>Ignacio A. Vargas</dc:creator>
  <dc:description/>
  <dc:language>en-US</dc:language>
  <cp:lastModifiedBy>Compaq User</cp:lastModifiedBy>
  <dcterms:modified xsi:type="dcterms:W3CDTF">1998-10-01T22:44:35Z</dcterms:modified>
  <cp:revision>7</cp:revision>
  <dc:subject/>
  <dc:title>Sin título de diapositiva</dc:title>
</cp:coreProperties>
</file>