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1E9-F0A1-4C2C-8229-03AB26F8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6F7-324F-4C50-9AB5-29D48F2A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A9D-3213-4873-87FC-9DB667B2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873-7B64-4A93-8666-561A5D66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C25-4908-40A1-B3F6-9D5373DF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16C-5B96-48CA-BDB2-8A258557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63C-0D12-4050-914E-CEAA624F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319-8B08-40A9-A56A-D6962BF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C5C-17A5-4FF9-8493-44E94B83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DE1-7EE7-4AB5-85E4-4EFBCB3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9FD-F820-4910-A5B1-024635D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02F-72A5-4AF0-BCDA-DCC525E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804022-85F0-405F-A66F-EB3E9674A4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xturas Aplicadas ao Método da Radios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ertação de Mest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895480"/>
            <a:ext cx="79246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icardo  Birtel Mendes de Fre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ientador: Marcelo D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partamento de Engenharia Mecâ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UC-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CAD - Laboratório de CAD Inteligen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s de Textur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presentação de padrões de superfície, irregularidades de materiais, rug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delos locais de ilumin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uas dessas técn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apeamento de Tex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étodos Procedu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eamento de Textu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151000"/>
            <a:ext cx="7756560" cy="1623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dicionam-se detalhes de superfície através do mapeamento de padrões de textura sobre as superfícies dos objetos que se quer repres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ões nas superfícies que compõe o ambiente são referenciadas no espaço de objetos uv, ao passo que posições de pixels no plano de projeção são referenciadas no espaço de coordenadas cartesianas 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Image Order Sc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3360" y="1076400"/>
            <a:ext cx="8007120" cy="2870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ear coordenadas de pixel para o espaço de texturas é chamado scanning reverso, ou image order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sa técnica evita a subdivisão de pixels (como e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texture scanning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, e facilita a aplicação de filtros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nti-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É necessário no entanto calcular a inversa da transformada para o plano de projeção e a inversa da transformada para o mapa de textura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apeamento por superfícies intermediá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m sempre é fácil mapear texturas bi-dimensionais em objetos tri-dimensionais. Para tanto é necessário que a superfície no espaço de objetos possa ser adequadamente parametrizada, o que nem sempre é fáct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É possível evitar esse problema utilizando uma superfície de parametrização simples como intermediária no mapeamento do espaço de texturas para o espaço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eamento em duas partes: dos pontos do espaço de texturas para a superfície intermediária; e desta para  a superfície d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S-Mapp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(s,t) -&gt; T´(xi,yi,z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O-Mapp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´(xi,yi,zi) -&gt; O(xw,yw,z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o S-Mapping podem ser utilizados, por exemplo: um plano, a sup. de um cilindro, as faces de um cubo e a sup. de uma esfe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-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síveis soluções para o O-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66800" y="1592280"/>
            <a:ext cx="59533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s Procedu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ões analíticas capazes de emular padrões e características de mate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rturba-se algum parâmetro (cor, normal) usando-se uma função proced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Nois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Perlin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função quase-randômica, repetitiva de seus valores de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inp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banda limitada (max. frequência 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faixa de resultados conhecidos (de -1 a 1, tipicam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sem periodicidade óbvia (período long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estacionária (invariante à translaçã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isotrópica (invariante à rotaçã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riações sobre a função noise levam a um sem-número de tex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xemplos de Texturas Procedur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0600" y="1981080"/>
          <a:ext cx="259884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0600" y="1981080"/>
                    <a:ext cx="2598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253120" y="1981080"/>
          <a:ext cx="259848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3120" y="1981080"/>
                    <a:ext cx="2598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71680" y="4267080"/>
          <a:ext cx="2598840" cy="198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1680" y="4267080"/>
                    <a:ext cx="2598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ograma HEL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envolvido por Ian Ashdown (pesquisador canaden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ftware de domínio público (inclusive código fo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7000 linhas de código, 500 páginas de docu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dela superfícies difusas (não inclui soluções híbri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visão do ambiente e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atch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para emissão de energia) e elementos (para recepção de ener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perfícies emissoras modeladas como pontuais (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five times rul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finamento Progres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o cálculo dos fatores de forma, três métodos possíveis a serem escolhidos em tempo de compila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Hemi-C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Cubo-Tetr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ay-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plicação de Métodos de Texturização à Técnica da Radios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lução Híb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delo de iluminação local acoplado a modelo de iluminação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tivação: representação realista de padrões de superfície em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étodos implemen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Mapeamento por superfícies intermediá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vers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hrinkWrap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pher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Técnicas Procedu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Wa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org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lti-Fractal Mar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binando Radiosidade e Tex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os métodos procedurais, balanço entre o valor original de radiosidade com o perturbado pela técnica procedural (peso escolhido empiricamente conforme resultados colet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os métodos de mapeamento por superfícies intermediárias, uso da equação abaixo (onde B´ é o valor de radiosidade final, B a radiosidade inicial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y a cor retornada pelo mapa de textura e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vg a cor média do mapa de textura):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93960" y="4952880"/>
                <a:ext cx="238752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peamento - Reverse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o superfície intermediária, um plano em orientação específica (característica da implement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24120" y="2373480"/>
          <a:ext cx="5459400" cy="41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4120" y="2373480"/>
                    <a:ext cx="54594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apeamento -ShrinkWrap Cyli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002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superfície intermediária, um cilindro em orientação específica (característica da implementação), com o eixo coincidindo com o centróide d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42512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apeamento -Sphere Ma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superfície intermediária, uma esfera com o centro coincidindo com o centróide d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48610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Mar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3716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da a 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gradient noi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com quatro oitavas. Apresentada por Peachey, alterada aqui por variação de parâmetros. A diferença flagrante dos padrões se deve à discretização diversa dos objetos, embora alterações de escala produzam efeitos semelh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1520" y="2819520"/>
            <a:ext cx="4452840" cy="3336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97560" y="2819520"/>
            <a:ext cx="445428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Wa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371600"/>
            <a:ext cx="769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da a 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gradient noi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com três oita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função procedural é reproduzida por síntese espectral.  A diferença flagrante nos padrões produzidos se deve a alterações de escala (parâmetro passado para a função noise - no primeiro caso foi usado um fator de perturbação 1; no segundo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013280" cy="24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24280" y="3414600"/>
            <a:ext cx="40388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Borg 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da a funçã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gradient noi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com seis oitavas, fator de perturbação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00200" y="2122560"/>
            <a:ext cx="57913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durais - Função Multi-Frac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3716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íntese espectral em 4 oitavas. Função suavizada de propósito, com variação de parâmetros e alteração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2292480"/>
            <a:ext cx="5562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Um exemplo do HELIOS com Texturização Proced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6019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 ambiente representado no HELIOS, percorrido pelo observador e  capturado em filme com o intuito de demonstrar as características do softw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1371600"/>
          <a:ext cx="556236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1600"/>
                    <a:ext cx="556236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 do trabal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íntese de imagens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perimentação com métodos de texturização (modelos de iluminação lo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binação da técnica da Radiosidade (modelo de iluminação global) com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utros resul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422440" cy="150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523880"/>
            <a:ext cx="2422800" cy="1508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172200" y="1523880"/>
            <a:ext cx="2422440" cy="150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2422440" cy="1508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914400" y="5105520"/>
            <a:ext cx="2422440" cy="150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581280" y="5105520"/>
            <a:ext cx="2422800" cy="150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914400" y="3352680"/>
            <a:ext cx="242244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581280" y="3352680"/>
            <a:ext cx="2422800" cy="1508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6172200" y="3352680"/>
            <a:ext cx="2422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combinação da técnica de Radiosidade com Métodos de Texturização permitiu a obtenção de imagens com alto grau de realis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uso de modelos de iluminação local para representação de características de materiais revelou-se uma boa solução para compensar as deficiências associadas ao método da Radios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resultados finais, embora incorretos do ponto de vista da conservação de energia, indicam que certas soluções híbridas são uma alternativa prática para a síntese de imagens realistas, uma vez que não acrescentam requerimentos significativos em termos de armazenamento de memória e capacidade de process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relação aos métodos de texturização implemen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 O Mapeamento por superfícies intermediárias é uma solução simples, capaz de produzir bons resultados, mas insere detalhes de iluminação alheios à iluminação do ambiente (originados na produção do ma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- Técnicas procedurais são capazes de produzir um sem-número de     variações, porém com um difícil controle dos resu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balhos Futu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1040"/>
            <a:ext cx="77724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agem de só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i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venção de artefatos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orporação de outros modelos de iluminação (tais como 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ay-Trac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orporação de Subdivisão 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ementaçã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ump-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ementação de animação de volumes, gases e líquidos, por técnicas proced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ementação de Reação-Difusão (técnica proced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ocumentação e Código fo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1040"/>
            <a:ext cx="77724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eb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www.geocities.com/SiliconValley/Network/5790/thesi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ocumentação do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a apresentação disponível para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ódigo HELIOS modificado disponível para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sultados Experim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adiosidade modela lu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oria de transferência de calor por radiação aplicada à síntese de imagens re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cretização do ambiente em pequenos retalhos e elementos, seguida da aplicação do princípio de conservação d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de iluminaçã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tensível a outros fenômenos de reflexão de luz (reflexão, refração), mas o grau de complexidade introduzido normalmente torna factível apenas à aplicação a reflexões difusas (não direcion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ntagens para animação (se somente o observador se mover, o ambiente só precisa ser calculado um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 equação da Radios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9568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3760" y="12949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modelo para as reflexões de luz é formado pela definição de um volume de c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da superfície dentro do volume de controle ou é um refletor, um emissor (fonte de luz), ou uma combinação dos doi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resolver as equações simultâneas, é preciso calcular os fatores de forma entre as superfí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mente válida para reflexões difusas (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62120" y="4522680"/>
                <a:ext cx="419076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 energia radiante total,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 taxa de energia emitida,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ator de reflexao,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a contribuicao das outr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fici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 fator de forma entre as duas superficie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ore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191120" cy="304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362320" y="4973760"/>
                <a:ext cx="3794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sur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k</m:t>
                            </m:r>
                          </m:sub>
                          <m:sup/>
                          <m:e/>
                        </m:nary>
                      </m:e>
                    </m:nary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030640" y="1523880"/>
            <a:ext cx="3810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ntegrais de superfície podem ser calculadas usando-se técnicas de cálculo numérico, com as seguintes condições de contorn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2670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181480" y="3268800"/>
                <a:ext cx="37782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para todo k,  conservacao de energia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reflexao de luz uniforme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ara todo j, elementos planos ou convex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amento Progres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1355760"/>
                <a:ext cx="22366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 cada patch k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lcular hemicubo, calcula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tores de for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cada patch j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</m:d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k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D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t xml:space="preserve">;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  <m:e>
                        <m:sSub>
                          <m:e>
                            <m:r>
                              <m:t xml:space="preserve">D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4" name=""/>
          <p:cNvGraphicFramePr/>
          <p:nvPr/>
        </p:nvGraphicFramePr>
        <p:xfrm>
          <a:off x="3429000" y="1187280"/>
          <a:ext cx="5334120" cy="35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1187280"/>
                    <a:ext cx="533412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patch de maior valor inicial de radiosidade (a fonte de luz com maior emissividade) é selecionado primeiro, e um valor de radiosidade é calculado para todos os outros patches (esses valores serão utilizados como valores iniciais de radiosidade nas iterações segui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se processo de escolha se repete a cada iteração, na ordem de máxima energia rad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ção da 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) Objetivo do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) A técnica da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3) Métodos de Textu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) O programa HE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) Combinando Texturas com Radio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) 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7) Trabalho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0:35:48Z</dcterms:created>
  <dc:creator>xedas</dc:creator>
  <dc:description/>
  <dc:language>en-US</dc:language>
  <cp:lastModifiedBy>DEM</cp:lastModifiedBy>
  <cp:lastPrinted>1998-09-29T03:20:00Z</cp:lastPrinted>
  <dcterms:modified xsi:type="dcterms:W3CDTF">1998-09-27T08:58:26Z</dcterms:modified>
  <cp:revision>42</cp:revision>
  <dc:subject/>
  <dc:title>Texturas Aplicadas ao Método da Radiosidade</dc:title>
</cp:coreProperties>
</file>