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44EE9-AB29-4217-9600-3C67D254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ain poin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800" y="6324480"/>
            <a:ext cx="411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(c) 1996 David M. Howard  www.greatbasin.net/~daveh   </a:t>
            </a:r>
            <a:fld id="{CE098D1C-BBDF-4B95-A12A-84E4B1F9C4C2}" type="slidenum"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Embedded Web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M. Howard www.greatbasin.net/~dave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h@hendrix.reno.nv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28640" y="666720"/>
            <a:ext cx="1952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xample HT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&lt;title&gt;Hello World&lt;/title&gt;&lt;/head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Hello World&lt;/body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“next.html”&gt;next slide&lt;/A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build on the fly,  usually c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ntain ani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a lot of 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 Execu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scrip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ckwave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 and Video Play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Applications and Plug-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</a:t>
            </a:r>
            <a:r>
              <a:rPr b="0" lang="en-US" sz="4400" spc="-1" strike="noStrike">
                <a:solidFill>
                  <a:srgbClr val="f6bf69"/>
                </a:solidFill>
                <a:latin typeface="Symbol"/>
                <a:ea typeface="Symbol"/>
              </a:rPr>
              <a:t>™ 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d Embedded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t feasible? If not now, then so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 the Java from the embedded system, run it on the Client to provide the user interface,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face goes with the embedd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oss platform portability of Java applets cuts loose any host configur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on the embedded target enables third party enhancements to standar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43720" y="5353200"/>
            <a:ext cx="7714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chanism of the Web  Server 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d on the fly by executables run by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vers have some sort of API for running executable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-BIN, Database Back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34000" y="1943280"/>
            <a:ext cx="2957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UR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form Resource Locator is a general mechanism that identifies a network resour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maps the protocol and ‘hostname’ part to a ‘net resource’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rver maps the URL to a ‘document’ and returns it to the cl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‘document’ is not necessarily a file, it is a datastream that comes back, regardless of how it was generated. Any resemblance to a directory structure is coinciden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96080" y="504720"/>
            <a:ext cx="8859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greatbasin.net/~daveh/index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greatbasin.n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daveh/index.htm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yahoo.com/search?p=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p=searc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62160" y="352440"/>
            <a:ext cx="13431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ypertext Transfer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atest HTTP RFC from www.w3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Chapter 13, TCP/IP Illustrated, Vol 3, Stev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stateless client/server procot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pens a TCP connection, issue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rver replies with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PO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loses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tocol data is ASC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 sp URL  sp HTTP-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RLF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ty-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GET”, “POST”, “HEA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/index.htm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/1.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whatever information is associated with the URL and send it 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 contain additional information about the request and the client that control and arbitrate protocol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s enough to implement a complete interface with the exception of  large client to server downl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s on User Interfaces and how the Web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 of the Web : HTTP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ing the 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Web Serve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248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 from Netscape Navigator v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 /index.htm HTTP/1.0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nection: Keep-Aliv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ser-Agent: Mozilla/3.0 (Win95; I)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ost: hendri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ccept: image/gif, image/x-xbitmap, image/jpeg, image/pjpeg, */*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with Arg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 /cgi-bin/f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?p1=1&amp;p2=2&amp;p3=3&amp;p4=%2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/1.0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nection: Keep-Alive 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ser-Agent: Mozilla/3.0 (Win95; I)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ost: hendri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ccept: image/gif, image/x-xbitmap, image/jpeg, image/pjpeg, */*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spo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 Status-Code Reason-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RLF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ty-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HTTP/1.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-Cod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20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-Phra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O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spo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Frontpage Personal Server, using htest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/1.0 200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at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Sunday, 15-Sep-96 04:03:30 G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rv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FrontPage-PWS32/1.1.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-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text/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ast-modifie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Thursday, 18-Apr-96 07:00:00 G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-lengt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8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html&gt; .... (body is 829 bytes exact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overhead from use of a new TCP connection fo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-aliv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ime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can be a lot of ‘closing’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excess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make multiple simultaneous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urrent multi-thread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cache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“Expires: “ header to prevent 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esigning the Web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inciples of good user interface 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techniques of web page 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 on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requirements are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synergy of the various available content typ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ntent And Techn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Stati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and 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Dynami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Inp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Rate Da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Inp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/custom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o Is doing it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90512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tice they are all network produ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b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.tribe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sco Syste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ww.cisco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ma 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 La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Sof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tec In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05720" y="2638440"/>
            <a:ext cx="9907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ther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(SS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 vs.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enough IP addresses! - IP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9480" y="29718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Embedded Web Server Design and Imple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67480" y="666720"/>
            <a:ext cx="1952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bedded Systems User Interfaces are Problema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to Devel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/Performance Tradeo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special skill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86680" y="2333520"/>
            <a:ext cx="1641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esign Requi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concurrent ser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Network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HTT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d in content, no filesystem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implementation for Windows/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d, statically allocated resource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, connection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rver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owing components are requi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 and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Dispat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dispat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Init and TCP/IP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55627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52520" y="1743120"/>
            <a:ext cx="64310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Connection Disp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5000" y="1981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698480"/>
            <a:ext cx="5334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Embedded Server Th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791320" y="2286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001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41400" y="1523880"/>
            <a:ext cx="7211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io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IO functions link system independent server core to particular 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callo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m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5410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request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Object contains data that represents the results of a received and parse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a request is received,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includes buffers for received and parsing GET request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600" y="5410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003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 Dispat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ssionRespons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 linear table lookup that matches the URL from the GET request to a function pointer to the ‘head’ function corresponding to the URL. The web master sets this table up with the URL’s and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’ function fills in respon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pecific, system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48480" y="428760"/>
            <a:ext cx="135252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867280" y="5715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response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05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Object is filled in by application ‘head’ function (called by URL dispatcher), and is used by the server core to send the response h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processing, the response object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_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_typ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tml,plain text,gif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to application ‘body’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 Handl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ntent_length or 0 if can’t deter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ntent_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s the entity-body of th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utput whatever it w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in BINAPP.C for various content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macros in BINAPP.C for static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19051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Web User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thing you see on the web could come from an embedde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and Netscape do the hard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computer User’s can deal wi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interface goes with the embedded system. Distribution Problem 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n easily mastered skill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HTML stored as a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HTML output of system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HTML/GIF stored a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URL fe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Streaming U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ta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a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char *html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&lt;html&gt;&lt;body&gt;hello world&lt;/body&gt;&lt;/html&gt;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‘hex’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directory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hex program converts text file to compilable hex data in char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char *hex = {0x20,0x40...}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ynam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HTML or binary data generated in the ‘body’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way you return html pages with system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boilerplate can be strings. Fill in field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nt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orm In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d as a dynamic head/body 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dy can look at ‘rqp-&gt;Arg’ to get raw argument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functions parse argument into separat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processes arg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turn canned HTML or dynam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</a:t>
            </a:r>
            <a:r>
              <a:rPr b="0" lang="en-US" sz="4400" spc="-1" strike="noStrike">
                <a:solidFill>
                  <a:srgbClr val="f6bf69"/>
                </a:solidFill>
                <a:latin typeface="Symbol"/>
                <a:ea typeface="Symbol"/>
              </a:rPr>
              <a:t>™ 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76520"/>
            <a:ext cx="777240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Applets are a network secure subset of the entire Java programming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 Windows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ockets and UR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s are restricted on the clien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read or write client side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nly connect to server it cam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ore is needed, distribute a Java application rather than an app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48640" y="2409840"/>
            <a:ext cx="976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‘hex’ data as HTML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directory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name must match original ‘applet.class’ filename. Java is very case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ploads and runs the applet, which then communicates back to the target either via the web server or dedicated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URL Fe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makes it very easy to fetch data from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let spawns a thread which periodically fetches a URL from the web server that has dynam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Java applet parses the data and displays it in fields on the applet wind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86600" y="515880"/>
            <a:ext cx="905040" cy="1312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048120" y="55627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ct.java and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Streaming UR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ed up the previous example, the java applet has a thread that opens the URL and reads from it continuously, stor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RL handler runs and outputs data until the Java applet kills the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parate Java thread updates the display objects periodic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76440" y="600120"/>
            <a:ext cx="1228680" cy="941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048120" y="56386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streaming.java and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133720" y="6094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orting the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s bad as snarfling the Garth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EWS00?.C are portable as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EWSW95T contains all system dependen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QW95T.C contains implementations of blocking FIFO queue for windows threa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BINAPP.C contains the Web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all files, link them together and enter at ‘mai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iterative server, set NUMBER_OF_SERVER_TASKS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38240" y="428760"/>
            <a:ext cx="12477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ther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ux Multiprocess - at daveh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cp/ip - put server on host, communicate to embedded system over serial line with proprietary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OS proof of concept - thanks to Microtec Inc. for providing VRTXSA/86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   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Appli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ances/Net PC’s are the mirror image of this concep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on the network bandwagon. Get rid of all knobs, dials, switches, buttons. Buy an internet appliance/net PC and use that for the inter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42840" y="466560"/>
            <a:ext cx="1495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elper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with Server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h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filename LS and GREP for W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Recommend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you have to buy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 Navigator and MS Internet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Frontpage, Hotdog Pro, Gimpel L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VC++ 4.x, Microtec VRTXsa/86 for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Cl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.netscape.com &amp; www.microsof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w3.org &amp; www.apach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greatbasin.net/~dav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, RFC’s and Drafts at www.w3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ypertext Transfer Protoco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ypertext Markup Languag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fc18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iversal Resource Locat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fc173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96200" y="581040"/>
            <a:ext cx="1276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bedded system is just another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43080" y="581040"/>
            <a:ext cx="48481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bedded Server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Connec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’ an IO descriptor (sock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’ reques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arse request data into local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Resp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ll application URL dispa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’ canned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ll application ‘bod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Dis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os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47242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001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Interface Applic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48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ystem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TTY/Tel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752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SH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upload/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ub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48006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blown, dynamic, complete user interface with Java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Mechanism of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2600" y="1676520"/>
            <a:ext cx="636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chanism of the Web   Client 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ed from the server, rendered by the Client according to the client’s rules and what it sup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ed from the server, executed on the client, renders based on the runtime enviro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ncurrent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Other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 format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 in cell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s or bulle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yaho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mech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al too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.netscap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M. Howard</dc:creator>
  <dc:description/>
  <dc:language>en-US</dc:language>
  <cp:lastModifiedBy>David Howard</cp:lastModifiedBy>
  <cp:revision>0</cp:revision>
  <dc:subject/>
  <dc:title>Embedded Web Server Presentation</dc:title>
</cp:coreProperties>
</file>