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223-AE5C-44DF-A706-30A2EE8D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3F9-BC22-4F8E-B6E9-C813ED33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07C-408E-40E5-BBB2-D2963D36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D68-004E-4D53-8504-1620AEF0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F6B-D361-45CA-B507-5773A3A2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85A-CB9A-48B7-AE2F-998DCAEE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E16-D663-4223-9D98-C7B6EF82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559-DFC8-41E9-AC87-E0980015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F2F-399F-46FD-98B4-F94C17D4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FF8-9354-4DF0-A797-52C945E4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59A-88A0-4146-B86A-DF2F2B93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43E-7647-4FBE-974D-F595332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0241-7E61-4D7E-ABD3-B8D4358DE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ROBÓTICA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uñeca-robot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67057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ipulador PU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8686800"/>
            <a:ext cx="44197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scar Martínez Val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º Ingeniería Superior Infor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entro Superior de Infor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6T09:01:57Z</dcterms:created>
  <dc:creator>Oscar Matinez</dc:creator>
  <dc:description/>
  <dc:language>en-US</dc:language>
  <cp:lastModifiedBy>Oscar Martínez Valpuesta</cp:lastModifiedBy>
  <dcterms:modified xsi:type="dcterms:W3CDTF">2001-02-18T22:29:27Z</dcterms:modified>
  <cp:revision>5</cp:revision>
  <dc:subject/>
  <dc:title>Sin título de diapositiva</dc:title>
</cp:coreProperties>
</file>