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8C6-99DA-4A24-9C77-002CA6ED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166-2D21-4B02-B40E-E600CB06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ED1A-3FF7-40FB-8BB7-4CD42C4F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970-3D44-46BA-9AD6-81CF24BD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0C37-EC61-4A05-9A7C-D6E0FB2D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301D-2360-4731-A3F1-E0B8F43E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7608-7C1E-4311-974E-DAA15EFD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F20A-D4AD-4BE0-82A8-526C5643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3382-EA8A-4F54-889C-106E477D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C251-EDFD-4F15-9EC8-94092744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8CB8-C39A-461D-8AFA-95101E13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72C-B312-4F27-BE0F-7CD7CD32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6A7B-6D68-4725-8B77-767ABB1A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4C2D-A928-4F4E-923F-0DDE68D7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5E35-064B-4856-A6F1-4579D867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C562-ED9F-4D00-AC58-D1E38D15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0326-F0AF-4552-B576-2E9C8AC8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2BE-9D90-41F5-97A7-F8A5E170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83F-0F79-4A82-9C08-89BCD6D4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A5E-28CC-4E58-9E9C-E02E162F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C11-7EAE-4CC1-B938-7812C945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651-B047-4184-AA0B-6958202F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DD2-384D-48AE-9E49-DB672AEF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741-6929-4312-AA7C-CFE0DE7B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BD18-2B72-40BA-87DB-4988944F062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6DDE-311C-4D29-82C4-14AB58B28B4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Proyecto CARVIS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5160" y="4952880"/>
            <a:ext cx="3733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scar Martínez Valpue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carvisa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3092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bcbcb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Objetivo de la empre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eño de la organiz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828800" y="2971800"/>
          <a:ext cx="525780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71800"/>
                    <a:ext cx="525780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762120" y="6019920"/>
            <a:ext cx="6248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Funciona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bcbcb"/>
                </a:solidFill>
                <a:latin typeface="Times New Roman"/>
              </a:rPr>
              <a:t>Descripción</a:t>
            </a: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 del </a:t>
            </a:r>
            <a:r>
              <a:rPr b="1" lang="es-ES_tradnl" sz="4400" spc="-1" strike="noStrike">
                <a:solidFill>
                  <a:srgbClr val="cbcbcb"/>
                </a:solidFill>
                <a:latin typeface="Times New Roman"/>
              </a:rPr>
              <a:t>problem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acturación, contabilid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yuda rut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municacio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tre las se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ercio electrón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sult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bcbcb"/>
                </a:solidFill>
                <a:latin typeface="Times New Roman"/>
              </a:rPr>
              <a:t>Restriccion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oftware exist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Ordenador de temas burocrát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ceso a las aplic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edidos y facturación on-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bcbcb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munic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Form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1" lang="es-ES" sz="4400" spc="-1" strike="noStrike">
                <a:solidFill>
                  <a:srgbClr val="cbcbcb"/>
                </a:solidFill>
                <a:latin typeface="Times New Roman"/>
              </a:rPr>
              <a:t>ecurs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uman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istema de desarroll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00200" y="3048120"/>
          <a:ext cx="61722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61722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62120" y="5181480"/>
            <a:ext cx="7315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bcbcb"/>
                </a:solidFill>
                <a:latin typeface="Times New Roman"/>
              </a:rPr>
              <a:t>Riesg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obo servidor en la sede cent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Fallo comunicaciones con la sede cent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rte de suministro eléctrico en la sede cent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bcbcb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chas clave de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 planific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5105520"/>
            <a:ext cx="6400800" cy="485640"/>
          </a:xfrm>
          <a:prstGeom prst="rightArrow">
            <a:avLst>
              <a:gd name="adj1" fmla="val 36602"/>
              <a:gd name="adj2" fmla="val 5418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24080" y="5460840"/>
            <a:ext cx="657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_Unicode_MS"/>
              </a:rPr>
              <a:t>8 M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5486400"/>
            <a:ext cx="76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_Unicode_MS"/>
              </a:rPr>
              <a:t>15 M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5486400"/>
            <a:ext cx="641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_Unicode_MS"/>
              </a:rPr>
              <a:t>30 J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5486400"/>
            <a:ext cx="730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_Unicode_MS"/>
              </a:rPr>
              <a:t>21 Ju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3352680"/>
            <a:ext cx="2438640" cy="304920"/>
          </a:xfrm>
          <a:prstGeom prst="flowChartProcess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dquisición de mate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3886200"/>
            <a:ext cx="1905120" cy="304920"/>
          </a:xfrm>
          <a:prstGeom prst="flowChartProcess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4343400"/>
            <a:ext cx="4114800" cy="304920"/>
          </a:xfrm>
          <a:prstGeom prst="flowChartProcess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4800600"/>
            <a:ext cx="1676520" cy="304920"/>
          </a:xfrm>
          <a:prstGeom prst="flowChartProcess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Forma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bcbcb"/>
                </a:solidFill>
                <a:latin typeface="Times New Roman"/>
              </a:rPr>
              <a:t>Cos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ardware: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.696.809 ptas. (10.198,03 €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oftware: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300.900 ptas. (1.808,45 €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umanos: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.244.000 ptas. (7.476,59 €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Otros: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67.000 ptas. (1.003,69 €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105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otal: 3.362.773 ptas (20.210,67 €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scar Martínez Valpuesta</cp:lastModifiedBy>
  <dcterms:modified xsi:type="dcterms:W3CDTF">2000-05-17T13:32:30Z</dcterms:modified>
  <cp:revision>36</cp:revision>
  <dc:subject/>
  <dc:title>Presentación de PowerPoint</dc:title>
</cp:coreProperties>
</file>