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4F3-FB31-498A-A058-AFDFC4E3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87040" y="2914560"/>
            <a:ext cx="5829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87040" y="6019200"/>
            <a:ext cx="5829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F6C0-2226-4105-93C0-B843B8B1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87040" y="2914560"/>
            <a:ext cx="2844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74320" y="2914560"/>
            <a:ext cx="2844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87040" y="6019200"/>
            <a:ext cx="2844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74320" y="6019200"/>
            <a:ext cx="2844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0E87-A0BA-42EB-82F2-E566F044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87040" y="2914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58040" y="2914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828680" y="2914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87040" y="6019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58040" y="6019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828680" y="6019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A17-0C06-4627-B4EE-F629A14A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3D0E-8945-45B3-8978-AC64A736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87040" y="2914560"/>
            <a:ext cx="58294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F176-5D04-4D04-A3A8-6FEF140D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7040" y="2914560"/>
            <a:ext cx="5829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BFB9-E7E1-4551-9FA8-EA905115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7040" y="2914560"/>
            <a:ext cx="2844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74320" y="2914560"/>
            <a:ext cx="2844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E3ED-3420-49A9-9CBD-B2CCFEE4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DCC2-9C10-48CA-B20F-C1451D7F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63640" y="892080"/>
            <a:ext cx="584496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13E1-6346-4AEB-8715-DDBC6614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87040" y="2914560"/>
            <a:ext cx="2844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4320" y="2914560"/>
            <a:ext cx="2844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87040" y="6019200"/>
            <a:ext cx="2844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D4F1-BAC0-4154-BB48-B6E206F4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87040" y="2914560"/>
            <a:ext cx="58294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5EA-C10B-42B0-83D4-62DF625F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87040" y="2914560"/>
            <a:ext cx="2844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74320" y="2914560"/>
            <a:ext cx="2844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74320" y="6019200"/>
            <a:ext cx="2844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64C9-1448-43D4-A0B3-851B0500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87040" y="2914560"/>
            <a:ext cx="2844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74320" y="2914560"/>
            <a:ext cx="2844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87040" y="6019200"/>
            <a:ext cx="5829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72B4-DBD1-46C3-90F5-863A011A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87040" y="2914560"/>
            <a:ext cx="5829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87040" y="6019200"/>
            <a:ext cx="5829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051F-1F82-40DC-B4CB-B309E4B4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7040" y="2914560"/>
            <a:ext cx="2844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74320" y="2914560"/>
            <a:ext cx="2844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87040" y="6019200"/>
            <a:ext cx="2844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74320" y="6019200"/>
            <a:ext cx="2844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F7FC-45F0-4843-A1FA-46322E9C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7040" y="2914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858040" y="2914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8680" y="2914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87040" y="6019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858040" y="6019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828680" y="6019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84EA-D144-4C50-ABEA-AE225256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7040" y="2914560"/>
            <a:ext cx="5829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B5F-E8EF-448E-A177-B3C46199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87040" y="2914560"/>
            <a:ext cx="2844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74320" y="2914560"/>
            <a:ext cx="2844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859-0CBF-405E-8803-96341106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638-95E3-4828-834E-C22746DA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63640" y="892080"/>
            <a:ext cx="584496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6EF-A608-4848-A206-D8864053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7040" y="2914560"/>
            <a:ext cx="2844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74320" y="2914560"/>
            <a:ext cx="2844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87040" y="6019200"/>
            <a:ext cx="2844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C577-28A2-4DF4-997A-F9262328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7040" y="2914560"/>
            <a:ext cx="2844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74320" y="2914560"/>
            <a:ext cx="2844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74320" y="6019200"/>
            <a:ext cx="2844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AB1-91CE-487C-89DD-FA90AAF9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7040" y="2914560"/>
            <a:ext cx="2844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74320" y="2914560"/>
            <a:ext cx="2844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7040" y="6019200"/>
            <a:ext cx="5829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F9E-A270-493C-8651-EAC91937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2840" y="1587600"/>
            <a:ext cx="328680" cy="6840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0120" y="1587600"/>
            <a:ext cx="245880" cy="68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6440" y="2197080"/>
            <a:ext cx="31572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4360" y="2197080"/>
            <a:ext cx="2761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5400" y="2090880"/>
            <a:ext cx="420480" cy="610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71680" y="1430280"/>
            <a:ext cx="23760" cy="15210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31920" y="2573280"/>
            <a:ext cx="617040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87040" y="2914560"/>
            <a:ext cx="5829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440" y="913608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14240" y="9136080"/>
            <a:ext cx="2171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5086080" y="913608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BA83-246D-44A9-8C47-04267120F98A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3522600"/>
            <a:ext cx="6756120" cy="1518840"/>
            <a:chOff x="0" y="3522600"/>
            <a:chExt cx="6756120" cy="1518840"/>
          </a:xfrm>
        </p:grpSpPr>
        <p:grpSp>
          <p:nvGrpSpPr>
            <p:cNvPr id="49" name=""/>
            <p:cNvGrpSpPr/>
            <p:nvPr/>
          </p:nvGrpSpPr>
          <p:grpSpPr>
            <a:xfrm>
              <a:off x="217800" y="3678120"/>
              <a:ext cx="532800" cy="685080"/>
              <a:chOff x="217800" y="3678120"/>
              <a:chExt cx="532800" cy="685080"/>
            </a:xfrm>
          </p:grpSpPr>
          <p:sp>
            <p:nvSpPr>
              <p:cNvPr id="50" name=""/>
              <p:cNvSpPr/>
              <p:nvPr/>
            </p:nvSpPr>
            <p:spPr>
              <a:xfrm>
                <a:off x="217800" y="3678120"/>
                <a:ext cx="327960" cy="6850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04720" y="3678120"/>
                <a:ext cx="245880" cy="685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310680" y="4287600"/>
              <a:ext cx="552960" cy="685080"/>
              <a:chOff x="310680" y="4287600"/>
              <a:chExt cx="552960" cy="685080"/>
            </a:xfrm>
          </p:grpSpPr>
          <p:sp>
            <p:nvSpPr>
              <p:cNvPr id="53" name=""/>
              <p:cNvSpPr/>
              <p:nvPr/>
            </p:nvSpPr>
            <p:spPr>
              <a:xfrm>
                <a:off x="310680" y="4287600"/>
                <a:ext cx="316080" cy="6850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87160" y="4287600"/>
                <a:ext cx="276480" cy="685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4182120"/>
              <a:ext cx="420120" cy="609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5920" y="3522600"/>
              <a:ext cx="23400" cy="15188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36880" y="4709160"/>
              <a:ext cx="6519240" cy="79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3040" y="26416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7426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25718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51436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34A4-3345-4B5E-9B46-2EB3C4094988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640" y="892080"/>
            <a:ext cx="58449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geniería del Softwar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66720" y="8610120"/>
            <a:ext cx="2590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Óscar Martínez Valpues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Orlando Ávila Garc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Marcos A. García Padr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urso: 99-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5867640" cy="41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66"/>
                </a:solidFill>
                <a:uFillTx/>
                <a:latin typeface="Tahoma"/>
              </a:rPr>
              <a:t>Análisis de requis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Tahoma"/>
              </a:rPr>
              <a:t>Secretaría Virtu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Tahoma"/>
              </a:rPr>
              <a:t>de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Tahoma"/>
              </a:rPr>
              <a:t>Centro de Nego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9T22:18:59Z</dcterms:created>
  <dc:creator>Marcos A. García Padrón</dc:creator>
  <dc:description/>
  <dc:language>en-US</dc:language>
  <cp:lastModifiedBy>Marcos A. García Padrón</cp:lastModifiedBy>
  <dcterms:modified xsi:type="dcterms:W3CDTF">2000-06-20T10:11:11Z</dcterms:modified>
  <cp:revision>3</cp:revision>
  <dc:subject/>
  <dc:title>Ingeniería del Software I</dc:title>
</cp:coreProperties>
</file>