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C0B-830E-4A38-B631-FC0BD484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E34-B18D-40E4-A2D7-0B8033F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95D-59B7-4AA2-8CF9-1BC8ED57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6E1-304B-4A88-A1A5-DFF03D59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4C8-39A3-4494-AD99-0DF5074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D70-FB0E-4024-96E4-EF247A4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8AB-600F-4F24-B4CF-72507E7F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333-91D6-4CEF-AE7D-3642B02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AAF-4D89-4BA9-A191-75EAC18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F57-A9E0-4160-A4FC-52C5205F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68D-918E-46E2-A1A0-19A05E8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B01-6BDA-43F7-9064-ABC6E26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B2B7-87CF-4247-9F36-9D6D4F34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5962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ligencia Artificial e Ingeniería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48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99"/>
                </a:solidFill>
                <a:latin typeface="Times New Roman"/>
              </a:rPr>
              <a:t>Prácticas de Pr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8153280"/>
            <a:ext cx="5639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Superior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8610480"/>
            <a:ext cx="39621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Óscar Martínez Val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u1571@csi.ull.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00200"/>
            <a:ext cx="5639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9:03:06Z</dcterms:created>
  <dc:creator>Oscar Martínez Valpuesta</dc:creator>
  <dc:description/>
  <dc:language>en-US</dc:language>
  <cp:lastModifiedBy>Oscar Martínez Valpuesta</cp:lastModifiedBy>
  <dcterms:modified xsi:type="dcterms:W3CDTF">2000-07-03T19:03:29Z</dcterms:modified>
  <cp:revision>1</cp:revision>
  <dc:subject/>
  <dc:title>Inteligencia Artificial e Ingeniería del Conocimiento</dc:title>
</cp:coreProperties>
</file>