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904C-76F3-4D84-B86F-E8D25B0B8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2DE7-F721-4741-A5E8-D18E95E7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6822-5E79-4161-A055-7B303F119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EB02-E3B1-4BBE-9694-309465760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F0A3-1B4D-4E1D-B566-33A26350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273E-B80E-4A34-AA0F-F0FF1A42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AC6A-ADD1-4CEA-8F3E-6594C6D2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004C-7502-415A-A395-71E05FF3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E864-B048-4301-808D-DC3E2A9A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68A7-C70D-473E-B56C-41E8965B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9345-FA4F-4D3F-8E4B-4E621CA7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E897-B203-4496-A33B-507301B6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E7F7-E290-4745-94AE-EB5C0D748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582912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Times New Roman"/>
              </a:rPr>
              <a:t>Inteligencia Artificial: Búsque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4571640"/>
            <a:ext cx="60199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Búsquedas a cieg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profund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amplitu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idirec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imes New Roman"/>
              </a:rPr>
              <a:t>Búsquedas informad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al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cristalización simul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lgoritmo A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2554200"/>
            <a:ext cx="228600" cy="228600"/>
          </a:xfrm>
          <a:prstGeom prst="flowChartConnector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2554200"/>
            <a:ext cx="228600" cy="228600"/>
          </a:xfrm>
          <a:prstGeom prst="flowChartConnector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2554200"/>
            <a:ext cx="228600" cy="228600"/>
          </a:xfrm>
          <a:prstGeom prst="flowChartConnector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95680" y="2554200"/>
            <a:ext cx="228600" cy="228600"/>
          </a:xfrm>
          <a:prstGeom prst="flowChartConnec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3354480"/>
            <a:ext cx="228600" cy="228600"/>
          </a:xfrm>
          <a:prstGeom prst="flowChartConnector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66880" y="3354480"/>
            <a:ext cx="228600" cy="228600"/>
          </a:xfrm>
          <a:prstGeom prst="flowChartConnector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3354480"/>
            <a:ext cx="228600" cy="228600"/>
          </a:xfrm>
          <a:prstGeom prst="flowChartConnector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95680" y="3354480"/>
            <a:ext cx="228600" cy="228600"/>
          </a:xfrm>
          <a:prstGeom prst="flowChartConnector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52480" y="4040280"/>
            <a:ext cx="228600" cy="228600"/>
          </a:xfrm>
          <a:prstGeom prst="flowChartConnector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4040280"/>
            <a:ext cx="228600" cy="228600"/>
          </a:xfrm>
          <a:prstGeom prst="flowChartConnector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1280" y="4040280"/>
            <a:ext cx="228600" cy="228600"/>
          </a:xfrm>
          <a:prstGeom prst="flowChartConnector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4040280"/>
            <a:ext cx="228600" cy="228600"/>
          </a:xfrm>
          <a:prstGeom prst="flowChartConnector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266868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346860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346860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346860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2668680"/>
            <a:ext cx="685800" cy="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81360" y="2782800"/>
            <a:ext cx="0" cy="571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95760" y="2782800"/>
            <a:ext cx="0" cy="57168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10160" y="2782800"/>
            <a:ext cx="0" cy="571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980720" y="4154400"/>
            <a:ext cx="685800" cy="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66960" y="358308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95760" y="3583080"/>
            <a:ext cx="0" cy="45720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610160" y="3583080"/>
            <a:ext cx="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895120" y="4154400"/>
            <a:ext cx="685800" cy="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2438280"/>
            <a:ext cx="3429000" cy="194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906768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scar Martínez Val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1T21:17:53Z</dcterms:created>
  <dc:creator>Oscar Martínez Valpuesta</dc:creator>
  <dc:description/>
  <dc:language>en-US</dc:language>
  <cp:lastModifiedBy>Oscar Martínez Valpuesta</cp:lastModifiedBy>
  <dcterms:modified xsi:type="dcterms:W3CDTF">2000-05-21T21:24:25Z</dcterms:modified>
  <cp:revision>2</cp:revision>
  <dc:subject/>
  <dc:title>Inteligencia Artificial: Búsquedas</dc:title>
</cp:coreProperties>
</file>