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433-DEA5-4939-B7E5-D811C7F7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79B1-08DC-4806-A9D8-332E3AD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D99-E873-4437-A86F-C528AB78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7CA-7494-40F2-99BF-ED027CEF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CF7-9E56-474E-BD0E-13741AF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9E3-1C33-405B-AAF7-4E4DF0E8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A993-8FDE-45A8-8FBF-DA6E9BC8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CA2-E443-4F1D-8D6C-F139E19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BA41-EF8D-4DDB-B0E4-2562CF6B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596-0D17-4688-9F86-3D56897A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57FB-F051-468D-95D3-8F663C73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345C-B105-475B-9D1C-80D620D4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629A-06B9-4ED2-A2EA-CF4AE93B8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44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COMPLEJIDAD COMPUTAC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4267080"/>
            <a:ext cx="6019560" cy="24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blema de la mochi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1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Programación dinámica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1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Heurísticas Greed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1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Branch &amp; Cu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8763120"/>
            <a:ext cx="4800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5º Ingeniería Superior Inform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Oscar Martínez Valpu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6T20:31:59Z</dcterms:created>
  <dc:creator>Oscar Martínez Valpuesta</dc:creator>
  <dc:description/>
  <dc:language>en-US</dc:language>
  <cp:lastModifiedBy>Oscar Martínez Valpuesta</cp:lastModifiedBy>
  <dcterms:modified xsi:type="dcterms:W3CDTF">2001-05-06T20:38:09Z</dcterms:modified>
  <cp:revision>4</cp:revision>
  <dc:subject/>
  <dc:title>Presentación de PowerPoint</dc:title>
</cp:coreProperties>
</file>