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248-337B-4012-ADB0-BED5C6F9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793-40D9-4D4A-B535-6E50C855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D78-D054-4BA9-9F0D-2A51DD44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D9E-F2A3-4D1B-8565-1D2A0124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200-BE3A-4A03-8EEB-5ED19514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DEE-A12B-428E-89D3-556C7E4E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517-FBC6-4A87-AC70-58062AB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396-4FF6-4D22-8B6E-AFC3681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71E-4F62-4313-AA61-5609C26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504-6B60-43C5-91C5-CC48E349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618-9064-4194-A8C3-28FD108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D33-8F05-4987-A348-A0A9097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0E4-44D1-46BB-B44E-E1423396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8288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eptos Avanzados de Sistemas Oper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4766760"/>
            <a:ext cx="54291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uffer caché de disco para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82296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8518680"/>
            <a:ext cx="47246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Óscar Martínez Val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rso 99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u1571@csi.ull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6002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6858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ntro Superior de Informática – Universidad de La Lag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º Ingeniería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2:54:16Z</dcterms:created>
  <dc:creator>Oscar Martínez Valpuesta</dc:creator>
  <dc:description/>
  <dc:language>en-US</dc:language>
  <cp:lastModifiedBy>Oscar Martínez Valpuesta</cp:lastModifiedBy>
  <dcterms:modified xsi:type="dcterms:W3CDTF">2000-07-10T13:07:34Z</dcterms:modified>
  <cp:revision>2</cp:revision>
  <dc:subject/>
  <dc:title>Conceptos Avanzados de Sistemas Operativos</dc:title>
</cp:coreProperties>
</file>