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4825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DC6-B60E-4B9A-8689-1D41E355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641-08F5-4879-870D-3225DA64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9842-2A54-44B3-BDD5-C8E84C0B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58D-4CAE-45EA-95B2-A2F6F589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4D8-9542-4E6B-8616-41E7E283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4B1-57CC-4C39-BA77-655F74EA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FAFC-D566-459A-A1E0-356817D1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E83-71E9-4B0C-9019-11BD4388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244-5C7C-4E67-BFB4-5FBBAF41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5D0-ED00-4999-A7BB-51CA4A99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2D1-9BD9-42CE-AE5D-86E6F0D8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275-AAB9-423E-B8B9-FDA298B9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E5FC-73E7-46FA-AE91-FD6A28954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07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00"/>
                </a:solidFill>
                <a:latin typeface="Times New Roman"/>
              </a:rPr>
              <a:t>AUTÓMAT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8195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Optimización de redes neurona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8248680"/>
            <a:ext cx="601992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º Ingeniería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Superior de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scar Martínez Val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52578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 u="sng">
                <a:solidFill>
                  <a:srgbClr val="000000"/>
                </a:solidFill>
                <a:uFillTx/>
                <a:latin typeface="Times New Roman"/>
              </a:rPr>
              <a:t>ENZ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20:44:43Z</dcterms:created>
  <dc:creator>Oscar Martínez Valpuesta</dc:creator>
  <dc:description/>
  <dc:language>en-US</dc:language>
  <cp:lastModifiedBy>Oscar Martínez Valpuesta</cp:lastModifiedBy>
  <dcterms:modified xsi:type="dcterms:W3CDTF">2001-04-19T20:44:52Z</dcterms:modified>
  <cp:revision>1</cp:revision>
  <dc:subject/>
  <dc:title>Presentación de PowerPoint</dc:title>
</cp:coreProperties>
</file>