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F40-B69E-4D57-B22D-2E4F60E2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B55-009F-4530-A6FB-4D100B12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D8D-983D-410D-9C01-1269AD8D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796-7AA1-4DED-8220-9D71D75E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30F-C40E-44BD-B671-8DA720A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E7E-1C5D-4124-BD4C-6489C57E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53E-A5C3-4A04-98AA-85C6B181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F7A-6717-4792-BF1C-B29F11B8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898-A004-43C3-86A5-B7809A85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9F1-654C-4057-9B0F-E4F3D03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06C-607A-4C2E-AA36-E906436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B61-9A5D-4F4B-99C7-0E787B8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5aea"/>
            </a:gs>
            <a:gs pos="100000">
              <a:srgbClr val="150c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774-D69F-46E4-A4D2-6E4F1C49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00"/>
                </a:solidFill>
                <a:latin typeface="Times New Roman"/>
              </a:rPr>
              <a:t>AUTÓMAT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685800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Perceptrón multicap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Predicción tempo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057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Fenómeno 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“El Niño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248680"/>
            <a:ext cx="601992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º Ingeniería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Superior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P00028_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3889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9:33:57Z</dcterms:created>
  <dc:creator>Oscar Martínez Valpuesta</dc:creator>
  <dc:description/>
  <dc:language>en-US</dc:language>
  <cp:lastModifiedBy>Oscar Martínez Valpuesta</cp:lastModifiedBy>
  <dcterms:modified xsi:type="dcterms:W3CDTF">2001-04-18T20:01:23Z</dcterms:modified>
  <cp:revision>6</cp:revision>
  <dc:subject/>
  <dc:title>Presentación de PowerPoint</dc:title>
</cp:coreProperties>
</file>