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38160">
            <a:solidFill>
              <a:srgbClr val="86868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38160">
            <a:solidFill>
              <a:srgbClr val="86868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08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Service 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38088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ion Oriente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Services (CON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 circuit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er data over established circuit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ate circuit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8088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ion Oriente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Services (CON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s of conn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cuit switching - physical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sed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6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al setup by administr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6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ration based on con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itched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6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etup by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s setup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6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ration based on length of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s teardown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8088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ion Oriente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Services (CON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s of connection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 switching - logical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anent virtual circuit (PV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6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al setup by administr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6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ration based on con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itched virtual circuit (SV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6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etup by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s setup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6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ration based on length of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s teardown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8088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ion Oriente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Services (CON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ologies that use C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.25 Virtual Circu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8088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ionless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Service (CLN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er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dynamically created 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8088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ionless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Service (CLN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s of conn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 switching - logical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6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etup by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s routing algorit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6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h may change with each pa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8088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ionless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Service (CLN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ologies that use CL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.25 Dat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D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ick Young</dc:creator>
  <dc:description/>
  <dc:language>en-US</dc:language>
  <cp:lastModifiedBy>Dick Young</cp:lastModifiedBy>
  <cp:revision>0</cp:revision>
  <dc:subject/>
  <dc:title>Network Service Definitions</dc:title>
</cp:coreProperties>
</file>