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160" y="1371600"/>
            <a:ext cx="8015400" cy="0"/>
          </a:xfrm>
          <a:prstGeom prst="line">
            <a:avLst/>
          </a:prstGeom>
          <a:ln w="38160">
            <a:solidFill>
              <a:srgbClr val="8686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1160" y="3429000"/>
            <a:ext cx="8015400" cy="0"/>
          </a:xfrm>
          <a:prstGeom prst="line">
            <a:avLst/>
          </a:prstGeom>
          <a:ln w="38160">
            <a:solidFill>
              <a:srgbClr val="8686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08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T 24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Digital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867280" y="685800"/>
            <a:ext cx="234936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90440"/>
            <a:ext cx="84582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 24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Digital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69960" y="1660680"/>
            <a:ext cx="7050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Richard W.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R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25 Platt Springs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 Columbia, SC 291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: 803-939-65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803-939-66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Richard.W.Young@ColumbiaSC.NC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:  8:00 am -- 4:45 pm  Monday - 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requisit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Completion IST 2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 24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Digital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69960" y="1584360"/>
            <a:ext cx="8261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xt 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hn, Darren L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Network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ion, McGraw-Hill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parency Repository (URL is case sensitiv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geocities.com/SiliconValley/Horizon/102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ding Scale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ding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- 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s &amp; Assignmen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89 -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9 -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&lt; 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 24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Digital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69960" y="1508040"/>
            <a:ext cx="609444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pics Covered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Service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 B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and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 Based Packet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Rela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N B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 B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Teleph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 24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Digital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2240" y="15843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46280" y="1660680"/>
            <a:ext cx="67039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urse Descri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ourse studies the technologies and system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digital data communication networks.  Network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transport business informa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cep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formance at  reasonable co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urse Objectiv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completion of this course prepares student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Understand current networking technologie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ducts that evolve from these techn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To identify and select hardware and softwar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implement inter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 24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Digital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46280" y="1654200"/>
            <a:ext cx="685476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ass Polic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dance is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ic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pec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ic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end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expected ab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sign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ll cred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Specified due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tial cred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rior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at and orga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akeup without prior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choice, short answer, true/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 24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Digital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web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is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ortelnetwork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arcon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terasy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alliedtelesy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etworking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3co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adtra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 24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Digital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9760" y="4876920"/>
            <a:ext cx="3035160" cy="1665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1979640"/>
            <a:ext cx="1903320" cy="1792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2955960" y="1889280"/>
            <a:ext cx="55306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network design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networking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networking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data, voice, video,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86400" y="3703680"/>
            <a:ext cx="3276720" cy="2990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918480" y="5546880"/>
            <a:ext cx="1317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CR ASSOCIATE</dc:creator>
  <dc:description/>
  <dc:language>en-US</dc:language>
  <cp:lastModifiedBy>Dick Young</cp:lastModifiedBy>
  <cp:revision>0</cp:revision>
  <dc:subject/>
  <dc:title>IST 246  Integrated Digital Networks</dc:title>
</cp:coreProperties>
</file>