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B27-2332-4EDB-AC8F-E2BDE25C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9E8-6362-428A-A429-250D97F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708-ACD8-4B87-93B4-6E4517EF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DE8-D24F-4D72-890C-B63022A4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4224-53F1-449C-A58B-0961B0AE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F1E-F09D-4985-ACAE-F0E9651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578-F673-4C9B-B053-D360B75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9765-FF58-4B2C-A61D-E40EB31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AB20-16E8-406C-9545-C7C416B0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A287-5C9E-4515-9AE1-5F5D35E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52E-5722-4444-876F-7164CB6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F1B-2F53-4594-89BA-607FE8B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378D-3B69-480F-8DD9-194C92F6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382-1CD6-4D10-8786-CD078B1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AACA-C9FA-4213-AFA8-097E5BA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8C56-6409-4773-A56A-0024B245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AA8-9445-4A6C-B2EB-5EA95921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6C3-1261-47DA-ADA3-BDB7F35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19D-60F2-47DB-9263-953101C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E65-9C55-41F4-884D-EC99E3C9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551-6D77-4958-AF14-DDB8E79E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65A-C146-44FC-A355-8E23B96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A25-8FE7-4B4C-95BD-04FA611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449-3A5C-43E1-9B67-8DEFB78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13716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ED4A-C13D-4BF6-AB11-7A41FACD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80" y="34290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496D-635C-410A-A6E3-C3C633101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SDN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Overview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Features an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38880" y="1073160"/>
          <a:ext cx="1473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073160"/>
                    <a:ext cx="1473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095880" y="1143000"/>
          <a:ext cx="218448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143000"/>
                    <a:ext cx="21844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XVIII (1977 -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5 - 1988 General question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reissued in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9 - 1992 General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revisions begin in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 Formation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study groups develop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Series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zed 3 main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user-network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ISD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Series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1XX -- Gener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2XX -- Service Capabi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3XX -- Network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4XX -- User-Network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5XX -- Internetwork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6XX -- Maintenance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14320" y="1676520"/>
          <a:ext cx="304164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676520"/>
                    <a:ext cx="304164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9400" y="1600200"/>
            <a:ext cx="462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all Network Aspect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-Networ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work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enance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820000">
            <a:off x="1582560" y="2795400"/>
            <a:ext cx="211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49200" y="2597040"/>
          <a:ext cx="38196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597040"/>
                    <a:ext cx="3819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5720" y="1905120"/>
            <a:ext cx="447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SG X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nglish definition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for translation into the 3 offici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320000">
            <a:off x="2087280" y="2938320"/>
            <a:ext cx="130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860480"/>
          <a:ext cx="272088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0480"/>
                    <a:ext cx="27208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XI - Switch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XV - Transmiss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II - Tariff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I - Telephon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VII - Data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V -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2480" y="5195880"/>
            <a:ext cx="748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G XVIII - “The ISDN Orchestra Condu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DN’s Ten Comma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6560" y="2286000"/>
          <a:ext cx="332136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286000"/>
                    <a:ext cx="33213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14800" y="167652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wide range of voice and non-voi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limited set of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limited set of connec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circuit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packet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non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mpatible with 64 Kbp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ffers intelligence to provide servic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s layere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ffers flexibility to suit 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3640" y="2712960"/>
            <a:ext cx="115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840" y="5318280"/>
            <a:ext cx="541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he evolutionary 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1.  Start with I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  Interwork with dedicat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3.  Incorporate functions of dedicated networ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481040"/>
            <a:ext cx="7203960" cy="530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64080" y="6559560"/>
            <a:ext cx="25016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D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service,  2B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4 Kbps data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 Kbps transmitted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service,  23B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36 Kbps data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44 Kbps transmit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nnel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Channel: 6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Channel: 16 or 6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Channel: 384 (H0), 1536 (H11), 1920 (H12)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B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se Code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Division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N is backbone for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D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 telemetry ( &lt; 100 bp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H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bit rate us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defined TDM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B Channels, 64 Kbps/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D Channel, 1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Data Rate: 14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and Framing: 48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able Link Speed: 192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 Options: B + D and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merica,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 B Channels, 64 Kbps/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 Channel,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ata Capability: 1536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and Framing: 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able Link Speed: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le Options: 24 B; nB + D, n = 1,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 of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B Channels, 64 Kbps/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 Channel,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ata Capacity: 198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and Framing: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able Link Speed: 204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le Options: 31 B; nB + D, n = 1,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Channe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H0 + D; 4 H0; 1 H11 for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H0 + D; 1 H12 + D for 204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and B Channe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H0 + 5 B + D; 3 H0 + 6 B for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78280" y="4648320"/>
            <a:ext cx="517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-Network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SDN 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1240" y="4197240"/>
            <a:ext cx="1054080" cy="90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1280" y="4197240"/>
            <a:ext cx="105408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7280" y="4197240"/>
            <a:ext cx="1054080" cy="90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08840" y="4937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2480" y="49370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36840" y="4937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13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27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17880" y="440388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916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8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6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5440" y="4343400"/>
            <a:ext cx="679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50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316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22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6480" y="5775480"/>
            <a:ext cx="475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- Defined by ANSI only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78280" y="4648320"/>
            <a:ext cx="517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-Network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SDN 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1240" y="4197240"/>
            <a:ext cx="1054080" cy="90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21280" y="4197240"/>
            <a:ext cx="1054080" cy="90180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4197240"/>
            <a:ext cx="105408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08480" y="49370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22840" y="4937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6840" y="4937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13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7560" y="440388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7880" y="440388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916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8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6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5440" y="4343400"/>
            <a:ext cx="679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0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316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2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85160" y="5851440"/>
            <a:ext cx="475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- Defined by ANSI only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-- Full duplex data signal on subscri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defined by ITU-T in I.411, U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-- Minimal ISDN network termination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s network provider equipment from user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Poi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-- Individual ISDN terminals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s network communication functions from us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-- Non-Interface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pre-ISDN equipment to ISD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V or X serie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Grou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1 -- Functions belonging to OSI lay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and electrical termination of the ISDN on the user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2 -- intelligent device that may include OSI layer 1 -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and concentrating functions, ie.,  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nciples of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voice/no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standardized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switched/non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nce on 64 Kbp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ed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ety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Grouping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1 -- User device with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2 -- User device with non-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or V series ITU-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 -- Use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ts non-Interface to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vi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 service: access point 1 and/or access poi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service: access point 3 -- ISDN compatible, access point 5 -- non-ISDN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service:  access point 4 -- X or V serie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dified OSI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Protocol Block -- Supports ISDN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Protocol Block -- Supports transparent transfer us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 Management Function -- Network manage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s parameters &amp; operation of remo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s local configuration &amp; opera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End-to-End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-switched call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permanent connection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 calls over B or H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 calls over 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relay call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relay calls over 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ily understood and usable by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tible with existing &amp; planned switch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 for expansion of subscriber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interworking with existing public network number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ment of E.164 -- country code identifies countries in the ISDN number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nature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performance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ce of 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cient for interworking between IS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Addres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DN number -- a number that relates to the ISDN network and ISDN numbering plan.  Permits ISDN network to route a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DN address -- the ISDN number and any additional manditory or optional addressing information.  The additional information is not required to route the call through the ISDN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Addres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BX National Number   617-543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telephone extension  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te caller dials  617-543-7000-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DN uses first 10 digits, PBX uses 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te caller dials 617-543-7678 (Direct Dial-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 543-7XXX must be assigned to 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stom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6960" y="1660680"/>
            <a:ext cx="8637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DN customer has offices at several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ocation is served by 2 1.544 Mbps digital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ircuit provides circuit-switched access to ISD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circuit provides a semi-permanent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other office.  The on-premise equipment cons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digital PBX and a host computer system with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bility.  The user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 Telepho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 Private packet-switched dat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Periodic inter-office video conferenc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44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ight the user allocate the on site capacity to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stom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4800" y="1584360"/>
            <a:ext cx="855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 video conferencing is periodic, the 1.544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should be available on a reservation basi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not required for video conferencing, the leas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-permanent connection is available to suppor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packet data service.  When in use, the leas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edicated to video conferencing and the privat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rvice uses the ISDN line along with any inter-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office telephone service is provided by each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tion of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elephone I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term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user-network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s at non 64Kbp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09600" y="1760400"/>
            <a:ext cx="7070760" cy="514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8440" y="6407280"/>
            <a:ext cx="4788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1835280"/>
            <a:ext cx="0" cy="1898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3760" y="2286000"/>
            <a:ext cx="2279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1280" y="1812960"/>
            <a:ext cx="70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ion of competit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ed and switch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-relate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ooth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xe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(Tailored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d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simile -- graphics, handwritten, printe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tex -- prepare, edit, transmit and pri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tex -- interactive information retrieva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Cata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ce, Digital data, Text, an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Study Group D (1969 - 19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9 - 1972 Planning for digi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3 - 1976 Planning for digital system, 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XVIII (1977 -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7 - 1980 Overall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705 issued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1 - 1984 General network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first issued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4:30Z</dcterms:created>
  <dc:creator>NCR ASSOCIATE</dc:creator>
  <dc:description/>
  <dc:language>en-US</dc:language>
  <cp:lastModifiedBy>NCR User</cp:lastModifiedBy>
  <cp:lastPrinted>1998-02-10T17:56:56Z</cp:lastPrinted>
  <dcterms:modified xsi:type="dcterms:W3CDTF">2002-10-08T19:03:17Z</dcterms:modified>
  <cp:revision>42</cp:revision>
  <dc:subject/>
  <dc:title>IST 246  Integrated Digital Networks</dc:title>
</cp:coreProperties>
</file>