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0EAD-8868-4611-B12E-BDE871FD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F15-50CD-4265-92DF-46D795A1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263-FB6B-4571-BE6C-BCC8FDC0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E0C-73F0-4A6D-8303-C828E146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C998-91D1-4925-9A2D-06815F08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0594-76D3-4D14-8375-0562A370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1CAA-137F-4F0D-8AFB-89B3D88B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7F04-3BA2-42FA-B1E0-70A5E0C7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56C8-5420-4821-9E40-8F2AC452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D4B5-583A-4DF7-8253-E24F7A76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34B7-1F51-4750-A3EB-B11DFCF7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5374-D004-4B6A-9BA9-24286D1D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26C3-8F43-491B-BB39-BCBD8575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D801-3A6B-4C16-BBB0-F0EB742F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B098-C684-4A8A-84AD-F8ABB33D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6684-55DB-4B44-9FEE-CA7D9702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CCE5-6BE4-45B4-883A-3C1BA4CE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944-EB34-4E84-B89A-71009AC8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99D1-5D2A-4518-ADAA-C95836B8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2427-013B-4448-9D5D-A1B78052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243-0389-4F5D-A7BE-B4623D3E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241-EE93-48CC-9AAC-EA075D60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E51D-361D-4065-AD90-188E115F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CD3A-B7F8-486F-AFC6-517C7D0E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1371600"/>
            <a:ext cx="802008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68686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44D7-CCFD-4398-A86A-22BC7A4D1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480" y="3429000"/>
            <a:ext cx="802008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5D42-883F-40BD-A610-DEEE8E927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868686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ISDN La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hysica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Data Link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238880" y="1073160"/>
          <a:ext cx="1473480" cy="11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1073160"/>
                    <a:ext cx="147348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095880" y="1143000"/>
          <a:ext cx="2184480" cy="218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1143000"/>
                    <a:ext cx="218448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455840" y="1397160"/>
          <a:ext cx="62848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1397160"/>
                    <a:ext cx="6284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14600" y="1828800"/>
          <a:ext cx="3995640" cy="403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828800"/>
                    <a:ext cx="399564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3276720"/>
            <a:ext cx="1219320" cy="9144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3276720"/>
            <a:ext cx="762120" cy="9144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33880" y="3733920"/>
            <a:ext cx="220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995400" y="3733920"/>
            <a:ext cx="28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33520" y="3738600"/>
            <a:ext cx="914400" cy="1519200"/>
            <a:chOff x="533520" y="3738600"/>
            <a:chExt cx="914400" cy="1519200"/>
          </a:xfrm>
        </p:grpSpPr>
        <p:sp>
          <p:nvSpPr>
            <p:cNvPr id="163" name=""/>
            <p:cNvSpPr/>
            <p:nvPr/>
          </p:nvSpPr>
          <p:spPr>
            <a:xfrm>
              <a:off x="990720" y="3738600"/>
              <a:ext cx="0" cy="9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3520" y="4724280"/>
              <a:ext cx="914400" cy="5335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76520" y="3738600"/>
            <a:ext cx="914400" cy="1519200"/>
            <a:chOff x="1676520" y="3738600"/>
            <a:chExt cx="914400" cy="1519200"/>
          </a:xfrm>
        </p:grpSpPr>
        <p:sp>
          <p:nvSpPr>
            <p:cNvPr id="166" name=""/>
            <p:cNvSpPr/>
            <p:nvPr/>
          </p:nvSpPr>
          <p:spPr>
            <a:xfrm>
              <a:off x="2133720" y="3738600"/>
              <a:ext cx="0" cy="9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76520" y="4724280"/>
              <a:ext cx="914400" cy="5335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895480" y="3738600"/>
            <a:ext cx="914400" cy="1519200"/>
            <a:chOff x="2895480" y="3738600"/>
            <a:chExt cx="914400" cy="1519200"/>
          </a:xfrm>
        </p:grpSpPr>
        <p:sp>
          <p:nvSpPr>
            <p:cNvPr id="169" name=""/>
            <p:cNvSpPr/>
            <p:nvPr/>
          </p:nvSpPr>
          <p:spPr>
            <a:xfrm>
              <a:off x="3352680" y="3738600"/>
              <a:ext cx="0" cy="9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95480" y="4724280"/>
              <a:ext cx="914400" cy="5335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066680" y="2209680"/>
            <a:ext cx="914400" cy="1522440"/>
            <a:chOff x="1066680" y="2209680"/>
            <a:chExt cx="914400" cy="1522440"/>
          </a:xfrm>
        </p:grpSpPr>
        <p:sp>
          <p:nvSpPr>
            <p:cNvPr id="172" name=""/>
            <p:cNvSpPr/>
            <p:nvPr/>
          </p:nvSpPr>
          <p:spPr>
            <a:xfrm flipV="1">
              <a:off x="1523880" y="2746440"/>
              <a:ext cx="0" cy="9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066680" y="2209680"/>
              <a:ext cx="914400" cy="5335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286000" y="2209680"/>
            <a:ext cx="914400" cy="1522440"/>
            <a:chOff x="2286000" y="2209680"/>
            <a:chExt cx="914400" cy="1522440"/>
          </a:xfrm>
        </p:grpSpPr>
        <p:sp>
          <p:nvSpPr>
            <p:cNvPr id="175" name=""/>
            <p:cNvSpPr/>
            <p:nvPr/>
          </p:nvSpPr>
          <p:spPr>
            <a:xfrm flipV="1">
              <a:off x="2743200" y="2746440"/>
              <a:ext cx="0" cy="9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286000" y="2209680"/>
              <a:ext cx="914400" cy="5335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16320" y="4800600"/>
            <a:ext cx="8416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9320" y="4800600"/>
            <a:ext cx="8416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8640" y="4800600"/>
            <a:ext cx="8416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9840" y="2286000"/>
            <a:ext cx="8416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92840" y="2286000"/>
            <a:ext cx="8416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14400" y="5872320"/>
            <a:ext cx="2895480" cy="666720"/>
            <a:chOff x="914400" y="5872320"/>
            <a:chExt cx="2895480" cy="666720"/>
          </a:xfrm>
        </p:grpSpPr>
        <p:grpSp>
          <p:nvGrpSpPr>
            <p:cNvPr id="183" name=""/>
            <p:cNvGrpSpPr/>
            <p:nvPr/>
          </p:nvGrpSpPr>
          <p:grpSpPr>
            <a:xfrm>
              <a:off x="914400" y="5872320"/>
              <a:ext cx="2895480" cy="299880"/>
              <a:chOff x="914400" y="5872320"/>
              <a:chExt cx="2895480" cy="299880"/>
            </a:xfrm>
          </p:grpSpPr>
          <p:sp>
            <p:nvSpPr>
              <p:cNvPr id="184" name=""/>
              <p:cNvSpPr/>
              <p:nvPr/>
            </p:nvSpPr>
            <p:spPr>
              <a:xfrm>
                <a:off x="914400" y="5872320"/>
                <a:ext cx="0" cy="29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809880" y="5872320"/>
                <a:ext cx="0" cy="29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19080" y="6019920"/>
                <a:ext cx="2890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1371240" y="6172200"/>
              <a:ext cx="1696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EN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105520" y="5872320"/>
            <a:ext cx="2209680" cy="299880"/>
            <a:chOff x="5105520" y="5872320"/>
            <a:chExt cx="2209680" cy="299880"/>
          </a:xfrm>
        </p:grpSpPr>
        <p:sp>
          <p:nvSpPr>
            <p:cNvPr id="189" name=""/>
            <p:cNvSpPr/>
            <p:nvPr/>
          </p:nvSpPr>
          <p:spPr>
            <a:xfrm>
              <a:off x="5105520" y="5872320"/>
              <a:ext cx="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15200" y="5872320"/>
              <a:ext cx="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10200" y="6019920"/>
              <a:ext cx="2205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180760" y="6248520"/>
            <a:ext cx="2103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ONT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04800" y="5257800"/>
            <a:ext cx="2217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DU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ny way possi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200" y="5334120"/>
            <a:ext cx="17607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DU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2 K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09360" y="3733920"/>
            <a:ext cx="158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wire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61680" y="1487520"/>
            <a:ext cx="3898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wire techni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Compression Multiple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ho Cance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iven the following data sequenc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..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1111111111011111101111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ing standard bit stuffing rul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insert </a:t>
            </a: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fter detecting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transmitted bit pattern: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0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10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 is effect of using NRZL bit encod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= 0 or -V (low level), 0 = +V (high lev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ransmitted bit string: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0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10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73760" y="4425840"/>
            <a:ext cx="527040" cy="52704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62960" y="4465800"/>
            <a:ext cx="22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Inserted 0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5640" y="4425840"/>
            <a:ext cx="222480" cy="52704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44960" y="4425840"/>
            <a:ext cx="298440" cy="52704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606680" y="5340240"/>
            <a:ext cx="1365120" cy="146160"/>
            <a:chOff x="1606680" y="5340240"/>
            <a:chExt cx="1365120" cy="146160"/>
          </a:xfrm>
        </p:grpSpPr>
        <p:grpSp>
          <p:nvGrpSpPr>
            <p:cNvPr id="206" name=""/>
            <p:cNvGrpSpPr/>
            <p:nvPr/>
          </p:nvGrpSpPr>
          <p:grpSpPr>
            <a:xfrm>
              <a:off x="1606680" y="5340240"/>
              <a:ext cx="222120" cy="146160"/>
              <a:chOff x="1606680" y="5340240"/>
              <a:chExt cx="222120" cy="146160"/>
            </a:xfrm>
          </p:grpSpPr>
          <p:sp>
            <p:nvSpPr>
              <p:cNvPr id="207" name=""/>
              <p:cNvSpPr/>
              <p:nvPr/>
            </p:nvSpPr>
            <p:spPr>
              <a:xfrm>
                <a:off x="16066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8288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835280" y="5340240"/>
              <a:ext cx="222120" cy="146160"/>
              <a:chOff x="1835280" y="5340240"/>
              <a:chExt cx="222120" cy="146160"/>
            </a:xfrm>
          </p:grpSpPr>
          <p:sp>
            <p:nvSpPr>
              <p:cNvPr id="210" name=""/>
              <p:cNvSpPr/>
              <p:nvPr/>
            </p:nvSpPr>
            <p:spPr>
              <a:xfrm>
                <a:off x="18352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0574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063880" y="5340240"/>
              <a:ext cx="222120" cy="146160"/>
              <a:chOff x="2063880" y="5340240"/>
              <a:chExt cx="222120" cy="146160"/>
            </a:xfrm>
          </p:grpSpPr>
          <p:sp>
            <p:nvSpPr>
              <p:cNvPr id="213" name=""/>
              <p:cNvSpPr/>
              <p:nvPr/>
            </p:nvSpPr>
            <p:spPr>
              <a:xfrm>
                <a:off x="20638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860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92480" y="5340240"/>
              <a:ext cx="222120" cy="146160"/>
              <a:chOff x="2292480" y="5340240"/>
              <a:chExt cx="222120" cy="146160"/>
            </a:xfrm>
          </p:grpSpPr>
          <p:sp>
            <p:nvSpPr>
              <p:cNvPr id="216" name=""/>
              <p:cNvSpPr/>
              <p:nvPr/>
            </p:nvSpPr>
            <p:spPr>
              <a:xfrm>
                <a:off x="22924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5146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521080" y="5340240"/>
              <a:ext cx="222120" cy="146160"/>
              <a:chOff x="2521080" y="5340240"/>
              <a:chExt cx="222120" cy="146160"/>
            </a:xfrm>
          </p:grpSpPr>
          <p:sp>
            <p:nvSpPr>
              <p:cNvPr id="219" name=""/>
              <p:cNvSpPr/>
              <p:nvPr/>
            </p:nvSpPr>
            <p:spPr>
              <a:xfrm>
                <a:off x="25210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432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2749680" y="541008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206880" y="5340240"/>
            <a:ext cx="222120" cy="146160"/>
            <a:chOff x="3206880" y="5340240"/>
            <a:chExt cx="222120" cy="146160"/>
          </a:xfrm>
        </p:grpSpPr>
        <p:sp>
          <p:nvSpPr>
            <p:cNvPr id="223" name=""/>
            <p:cNvSpPr/>
            <p:nvPr/>
          </p:nvSpPr>
          <p:spPr>
            <a:xfrm>
              <a:off x="3206880" y="541008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29000" y="5340240"/>
              <a:ext cx="0" cy="146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435480" y="5340240"/>
            <a:ext cx="679320" cy="146160"/>
            <a:chOff x="3435480" y="5340240"/>
            <a:chExt cx="679320" cy="146160"/>
          </a:xfrm>
        </p:grpSpPr>
        <p:grpSp>
          <p:nvGrpSpPr>
            <p:cNvPr id="226" name=""/>
            <p:cNvGrpSpPr/>
            <p:nvPr/>
          </p:nvGrpSpPr>
          <p:grpSpPr>
            <a:xfrm>
              <a:off x="3435480" y="5340240"/>
              <a:ext cx="222120" cy="146160"/>
              <a:chOff x="3435480" y="5340240"/>
              <a:chExt cx="222120" cy="146160"/>
            </a:xfrm>
          </p:grpSpPr>
          <p:sp>
            <p:nvSpPr>
              <p:cNvPr id="227" name=""/>
              <p:cNvSpPr/>
              <p:nvPr/>
            </p:nvSpPr>
            <p:spPr>
              <a:xfrm>
                <a:off x="34354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6576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664080" y="5340240"/>
              <a:ext cx="222120" cy="146160"/>
              <a:chOff x="3664080" y="5340240"/>
              <a:chExt cx="222120" cy="146160"/>
            </a:xfrm>
          </p:grpSpPr>
          <p:sp>
            <p:nvSpPr>
              <p:cNvPr id="230" name=""/>
              <p:cNvSpPr/>
              <p:nvPr/>
            </p:nvSpPr>
            <p:spPr>
              <a:xfrm>
                <a:off x="36640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8862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3892680" y="5340240"/>
              <a:ext cx="222120" cy="146160"/>
              <a:chOff x="3892680" y="5340240"/>
              <a:chExt cx="222120" cy="146160"/>
            </a:xfrm>
          </p:grpSpPr>
          <p:sp>
            <p:nvSpPr>
              <p:cNvPr id="233" name=""/>
              <p:cNvSpPr/>
              <p:nvPr/>
            </p:nvSpPr>
            <p:spPr>
              <a:xfrm>
                <a:off x="38926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1148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" name=""/>
          <p:cNvSpPr/>
          <p:nvPr/>
        </p:nvSpPr>
        <p:spPr>
          <a:xfrm>
            <a:off x="4121280" y="5410080"/>
            <a:ext cx="2221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578480" y="5340240"/>
            <a:ext cx="222120" cy="146160"/>
            <a:chOff x="4578480" y="5340240"/>
            <a:chExt cx="222120" cy="146160"/>
          </a:xfrm>
        </p:grpSpPr>
        <p:sp>
          <p:nvSpPr>
            <p:cNvPr id="237" name=""/>
            <p:cNvSpPr/>
            <p:nvPr/>
          </p:nvSpPr>
          <p:spPr>
            <a:xfrm>
              <a:off x="4578480" y="541008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00600" y="5340240"/>
              <a:ext cx="0" cy="146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343400" y="5105520"/>
            <a:ext cx="228600" cy="301680"/>
            <a:chOff x="4343400" y="5105520"/>
            <a:chExt cx="228600" cy="301680"/>
          </a:xfrm>
        </p:grpSpPr>
        <p:sp>
          <p:nvSpPr>
            <p:cNvPr id="240" name=""/>
            <p:cNvSpPr/>
            <p:nvPr/>
          </p:nvSpPr>
          <p:spPr>
            <a:xfrm>
              <a:off x="4349880" y="5105520"/>
              <a:ext cx="2221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343400" y="5108400"/>
              <a:ext cx="0" cy="2988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4572000" y="5108400"/>
              <a:ext cx="0" cy="2988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 flipV="1">
            <a:off x="6400800" y="5108400"/>
            <a:ext cx="0" cy="29880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78280" y="5105520"/>
            <a:ext cx="2221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971800" y="5108400"/>
            <a:ext cx="0" cy="29880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200400" y="5108400"/>
            <a:ext cx="0" cy="29880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807080" y="5105520"/>
            <a:ext cx="1365120" cy="380880"/>
            <a:chOff x="4807080" y="5105520"/>
            <a:chExt cx="1365120" cy="380880"/>
          </a:xfrm>
        </p:grpSpPr>
        <p:sp>
          <p:nvSpPr>
            <p:cNvPr id="248" name=""/>
            <p:cNvSpPr/>
            <p:nvPr/>
          </p:nvSpPr>
          <p:spPr>
            <a:xfrm>
              <a:off x="4807080" y="541008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5264280" y="5340240"/>
              <a:ext cx="222120" cy="146160"/>
              <a:chOff x="5264280" y="5340240"/>
              <a:chExt cx="222120" cy="146160"/>
            </a:xfrm>
          </p:grpSpPr>
          <p:sp>
            <p:nvSpPr>
              <p:cNvPr id="250" name=""/>
              <p:cNvSpPr/>
              <p:nvPr/>
            </p:nvSpPr>
            <p:spPr>
              <a:xfrm>
                <a:off x="52642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4864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029200" y="5105520"/>
              <a:ext cx="228600" cy="301680"/>
              <a:chOff x="5029200" y="5105520"/>
              <a:chExt cx="228600" cy="301680"/>
            </a:xfrm>
          </p:grpSpPr>
          <p:sp>
            <p:nvSpPr>
              <p:cNvPr id="253" name=""/>
              <p:cNvSpPr/>
              <p:nvPr/>
            </p:nvSpPr>
            <p:spPr>
              <a:xfrm>
                <a:off x="5035680" y="510552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5029200" y="5108400"/>
                <a:ext cx="0" cy="2988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257800" y="5108400"/>
                <a:ext cx="0" cy="2988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492880" y="5340240"/>
              <a:ext cx="222120" cy="146160"/>
              <a:chOff x="5492880" y="5340240"/>
              <a:chExt cx="222120" cy="146160"/>
            </a:xfrm>
          </p:grpSpPr>
          <p:sp>
            <p:nvSpPr>
              <p:cNvPr id="257" name=""/>
              <p:cNvSpPr/>
              <p:nvPr/>
            </p:nvSpPr>
            <p:spPr>
              <a:xfrm>
                <a:off x="54928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7150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5721480" y="5340240"/>
              <a:ext cx="222120" cy="146160"/>
              <a:chOff x="5721480" y="5340240"/>
              <a:chExt cx="222120" cy="146160"/>
            </a:xfrm>
          </p:grpSpPr>
          <p:sp>
            <p:nvSpPr>
              <p:cNvPr id="260" name=""/>
              <p:cNvSpPr/>
              <p:nvPr/>
            </p:nvSpPr>
            <p:spPr>
              <a:xfrm>
                <a:off x="57214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9436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950080" y="5340240"/>
              <a:ext cx="222120" cy="146160"/>
              <a:chOff x="5950080" y="5340240"/>
              <a:chExt cx="222120" cy="146160"/>
            </a:xfrm>
          </p:grpSpPr>
          <p:sp>
            <p:nvSpPr>
              <p:cNvPr id="263" name=""/>
              <p:cNvSpPr/>
              <p:nvPr/>
            </p:nvSpPr>
            <p:spPr>
              <a:xfrm>
                <a:off x="59500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1722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" name=""/>
          <p:cNvSpPr/>
          <p:nvPr/>
        </p:nvSpPr>
        <p:spPr>
          <a:xfrm>
            <a:off x="6178680" y="5410080"/>
            <a:ext cx="2221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07280" y="5105520"/>
            <a:ext cx="2221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629400" y="5108400"/>
            <a:ext cx="0" cy="29880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858000" y="5105520"/>
            <a:ext cx="1143000" cy="380880"/>
            <a:chOff x="6858000" y="5105520"/>
            <a:chExt cx="1143000" cy="380880"/>
          </a:xfrm>
        </p:grpSpPr>
        <p:sp>
          <p:nvSpPr>
            <p:cNvPr id="269" name=""/>
            <p:cNvSpPr/>
            <p:nvPr/>
          </p:nvSpPr>
          <p:spPr>
            <a:xfrm>
              <a:off x="6864480" y="510552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086600" y="5108400"/>
              <a:ext cx="0" cy="298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093080" y="5105520"/>
              <a:ext cx="907920" cy="380880"/>
              <a:chOff x="7093080" y="5105520"/>
              <a:chExt cx="907920" cy="38088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7315200" y="5105520"/>
                <a:ext cx="228600" cy="301680"/>
                <a:chOff x="7315200" y="5105520"/>
                <a:chExt cx="228600" cy="3016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7321680" y="5105520"/>
                  <a:ext cx="22212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7315200" y="5108400"/>
                  <a:ext cx="0" cy="298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7543800" y="5108400"/>
                  <a:ext cx="0" cy="298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70930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788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7550280" y="5340240"/>
                <a:ext cx="222120" cy="146160"/>
                <a:chOff x="7550280" y="5340240"/>
                <a:chExt cx="222120" cy="1461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7550280" y="5410080"/>
                  <a:ext cx="22212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772400" y="5340240"/>
                  <a:ext cx="0" cy="1461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1" name=""/>
            <p:cNvSpPr/>
            <p:nvPr/>
          </p:nvSpPr>
          <p:spPr>
            <a:xfrm flipV="1">
              <a:off x="6858000" y="5108400"/>
              <a:ext cx="0" cy="298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635880" y="5410080"/>
            <a:ext cx="2221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 is effect of using pseudoternary bit encod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= 0 (no voltage), 0 = alternating +V, -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ransmitted bit string: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0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10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606680" y="5340240"/>
            <a:ext cx="1136520" cy="146160"/>
            <a:chOff x="1606680" y="5340240"/>
            <a:chExt cx="1136520" cy="146160"/>
          </a:xfrm>
        </p:grpSpPr>
        <p:grpSp>
          <p:nvGrpSpPr>
            <p:cNvPr id="286" name=""/>
            <p:cNvGrpSpPr/>
            <p:nvPr/>
          </p:nvGrpSpPr>
          <p:grpSpPr>
            <a:xfrm>
              <a:off x="1606680" y="5340240"/>
              <a:ext cx="222120" cy="146160"/>
              <a:chOff x="1606680" y="5340240"/>
              <a:chExt cx="222120" cy="146160"/>
            </a:xfrm>
          </p:grpSpPr>
          <p:sp>
            <p:nvSpPr>
              <p:cNvPr id="287" name=""/>
              <p:cNvSpPr/>
              <p:nvPr/>
            </p:nvSpPr>
            <p:spPr>
              <a:xfrm>
                <a:off x="16066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288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835280" y="5340240"/>
              <a:ext cx="222120" cy="146160"/>
              <a:chOff x="1835280" y="5340240"/>
              <a:chExt cx="222120" cy="146160"/>
            </a:xfrm>
          </p:grpSpPr>
          <p:sp>
            <p:nvSpPr>
              <p:cNvPr id="290" name=""/>
              <p:cNvSpPr/>
              <p:nvPr/>
            </p:nvSpPr>
            <p:spPr>
              <a:xfrm>
                <a:off x="18352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574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2063880" y="5340240"/>
              <a:ext cx="222120" cy="146160"/>
              <a:chOff x="2063880" y="5340240"/>
              <a:chExt cx="222120" cy="146160"/>
            </a:xfrm>
          </p:grpSpPr>
          <p:sp>
            <p:nvSpPr>
              <p:cNvPr id="293" name=""/>
              <p:cNvSpPr/>
              <p:nvPr/>
            </p:nvSpPr>
            <p:spPr>
              <a:xfrm>
                <a:off x="20638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2860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292480" y="5340240"/>
              <a:ext cx="222120" cy="146160"/>
              <a:chOff x="2292480" y="5340240"/>
              <a:chExt cx="222120" cy="146160"/>
            </a:xfrm>
          </p:grpSpPr>
          <p:sp>
            <p:nvSpPr>
              <p:cNvPr id="296" name=""/>
              <p:cNvSpPr/>
              <p:nvPr/>
            </p:nvSpPr>
            <p:spPr>
              <a:xfrm>
                <a:off x="22924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146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521080" y="5340240"/>
              <a:ext cx="222120" cy="146160"/>
              <a:chOff x="2521080" y="5340240"/>
              <a:chExt cx="222120" cy="146160"/>
            </a:xfrm>
          </p:grpSpPr>
          <p:sp>
            <p:nvSpPr>
              <p:cNvPr id="299" name=""/>
              <p:cNvSpPr/>
              <p:nvPr/>
            </p:nvSpPr>
            <p:spPr>
              <a:xfrm>
                <a:off x="25210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7432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2749680" y="5410080"/>
            <a:ext cx="2221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206880" y="5340240"/>
            <a:ext cx="222120" cy="146160"/>
            <a:chOff x="3206880" y="5340240"/>
            <a:chExt cx="222120" cy="146160"/>
          </a:xfrm>
        </p:grpSpPr>
        <p:sp>
          <p:nvSpPr>
            <p:cNvPr id="303" name=""/>
            <p:cNvSpPr/>
            <p:nvPr/>
          </p:nvSpPr>
          <p:spPr>
            <a:xfrm>
              <a:off x="3206880" y="541008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29000" y="5340240"/>
              <a:ext cx="0" cy="146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435480" y="5340240"/>
            <a:ext cx="679320" cy="146160"/>
            <a:chOff x="3435480" y="5340240"/>
            <a:chExt cx="679320" cy="146160"/>
          </a:xfrm>
        </p:grpSpPr>
        <p:grpSp>
          <p:nvGrpSpPr>
            <p:cNvPr id="306" name=""/>
            <p:cNvGrpSpPr/>
            <p:nvPr/>
          </p:nvGrpSpPr>
          <p:grpSpPr>
            <a:xfrm>
              <a:off x="3435480" y="5340240"/>
              <a:ext cx="222120" cy="146160"/>
              <a:chOff x="3435480" y="5340240"/>
              <a:chExt cx="222120" cy="14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34354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6576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3664080" y="5340240"/>
              <a:ext cx="222120" cy="146160"/>
              <a:chOff x="3664080" y="5340240"/>
              <a:chExt cx="222120" cy="146160"/>
            </a:xfrm>
          </p:grpSpPr>
          <p:sp>
            <p:nvSpPr>
              <p:cNvPr id="310" name=""/>
              <p:cNvSpPr/>
              <p:nvPr/>
            </p:nvSpPr>
            <p:spPr>
              <a:xfrm>
                <a:off x="36640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8862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892680" y="5340240"/>
              <a:ext cx="222120" cy="146160"/>
              <a:chOff x="3892680" y="5340240"/>
              <a:chExt cx="222120" cy="146160"/>
            </a:xfrm>
          </p:grpSpPr>
          <p:sp>
            <p:nvSpPr>
              <p:cNvPr id="313" name=""/>
              <p:cNvSpPr/>
              <p:nvPr/>
            </p:nvSpPr>
            <p:spPr>
              <a:xfrm>
                <a:off x="38926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1148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4121280" y="5410080"/>
            <a:ext cx="2221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578480" y="5340240"/>
            <a:ext cx="222120" cy="146160"/>
            <a:chOff x="4578480" y="5340240"/>
            <a:chExt cx="222120" cy="146160"/>
          </a:xfrm>
        </p:grpSpPr>
        <p:sp>
          <p:nvSpPr>
            <p:cNvPr id="317" name=""/>
            <p:cNvSpPr/>
            <p:nvPr/>
          </p:nvSpPr>
          <p:spPr>
            <a:xfrm>
              <a:off x="4578480" y="541008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00600" y="5340240"/>
              <a:ext cx="0" cy="146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H="1">
            <a:off x="4349520" y="5715000"/>
            <a:ext cx="2221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5416560"/>
            <a:ext cx="0" cy="2984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5416560"/>
            <a:ext cx="0" cy="2984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400800" y="5412960"/>
            <a:ext cx="0" cy="2984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21480" y="4425840"/>
            <a:ext cx="755640" cy="83196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62960" y="4465800"/>
            <a:ext cx="22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Inserted 0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971800" y="5105520"/>
            <a:ext cx="228600" cy="301680"/>
            <a:chOff x="2971800" y="5105520"/>
            <a:chExt cx="228600" cy="301680"/>
          </a:xfrm>
        </p:grpSpPr>
        <p:sp>
          <p:nvSpPr>
            <p:cNvPr id="326" name=""/>
            <p:cNvSpPr/>
            <p:nvPr/>
          </p:nvSpPr>
          <p:spPr>
            <a:xfrm>
              <a:off x="2978280" y="5105520"/>
              <a:ext cx="2221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971800" y="5108400"/>
              <a:ext cx="0" cy="2988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200400" y="5108400"/>
              <a:ext cx="0" cy="2988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807080" y="5105520"/>
            <a:ext cx="1365120" cy="380880"/>
            <a:chOff x="4807080" y="5105520"/>
            <a:chExt cx="1365120" cy="380880"/>
          </a:xfrm>
        </p:grpSpPr>
        <p:sp>
          <p:nvSpPr>
            <p:cNvPr id="330" name=""/>
            <p:cNvSpPr/>
            <p:nvPr/>
          </p:nvSpPr>
          <p:spPr>
            <a:xfrm>
              <a:off x="4807080" y="541008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5264280" y="5340240"/>
              <a:ext cx="222120" cy="146160"/>
              <a:chOff x="5264280" y="5340240"/>
              <a:chExt cx="222120" cy="146160"/>
            </a:xfrm>
          </p:grpSpPr>
          <p:sp>
            <p:nvSpPr>
              <p:cNvPr id="332" name=""/>
              <p:cNvSpPr/>
              <p:nvPr/>
            </p:nvSpPr>
            <p:spPr>
              <a:xfrm>
                <a:off x="52642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4864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5029200" y="5105520"/>
              <a:ext cx="228600" cy="301680"/>
              <a:chOff x="5029200" y="5105520"/>
              <a:chExt cx="228600" cy="301680"/>
            </a:xfrm>
          </p:grpSpPr>
          <p:sp>
            <p:nvSpPr>
              <p:cNvPr id="335" name=""/>
              <p:cNvSpPr/>
              <p:nvPr/>
            </p:nvSpPr>
            <p:spPr>
              <a:xfrm>
                <a:off x="5035680" y="510552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5029200" y="5108400"/>
                <a:ext cx="0" cy="2988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5257800" y="5108400"/>
                <a:ext cx="0" cy="2988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492880" y="5340240"/>
              <a:ext cx="222120" cy="146160"/>
              <a:chOff x="5492880" y="5340240"/>
              <a:chExt cx="222120" cy="146160"/>
            </a:xfrm>
          </p:grpSpPr>
          <p:sp>
            <p:nvSpPr>
              <p:cNvPr id="339" name=""/>
              <p:cNvSpPr/>
              <p:nvPr/>
            </p:nvSpPr>
            <p:spPr>
              <a:xfrm>
                <a:off x="54928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7150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721480" y="5340240"/>
              <a:ext cx="222120" cy="146160"/>
              <a:chOff x="5721480" y="5340240"/>
              <a:chExt cx="222120" cy="146160"/>
            </a:xfrm>
          </p:grpSpPr>
          <p:sp>
            <p:nvSpPr>
              <p:cNvPr id="342" name=""/>
              <p:cNvSpPr/>
              <p:nvPr/>
            </p:nvSpPr>
            <p:spPr>
              <a:xfrm>
                <a:off x="57214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9436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950080" y="5340240"/>
              <a:ext cx="222120" cy="146160"/>
              <a:chOff x="5950080" y="5340240"/>
              <a:chExt cx="222120" cy="146160"/>
            </a:xfrm>
          </p:grpSpPr>
          <p:sp>
            <p:nvSpPr>
              <p:cNvPr id="345" name=""/>
              <p:cNvSpPr/>
              <p:nvPr/>
            </p:nvSpPr>
            <p:spPr>
              <a:xfrm>
                <a:off x="59500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1722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"/>
          <p:cNvSpPr/>
          <p:nvPr/>
        </p:nvSpPr>
        <p:spPr>
          <a:xfrm>
            <a:off x="6178680" y="5410080"/>
            <a:ext cx="2221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07280" y="5715000"/>
            <a:ext cx="2221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73360" y="4425840"/>
            <a:ext cx="374760" cy="52704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92680" y="4425840"/>
            <a:ext cx="527040" cy="83196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864480" y="5105520"/>
            <a:ext cx="1136520" cy="609480"/>
            <a:chOff x="6864480" y="5105520"/>
            <a:chExt cx="1136520" cy="609480"/>
          </a:xfrm>
        </p:grpSpPr>
        <p:sp>
          <p:nvSpPr>
            <p:cNvPr id="352" name=""/>
            <p:cNvSpPr/>
            <p:nvPr/>
          </p:nvSpPr>
          <p:spPr>
            <a:xfrm>
              <a:off x="6864480" y="510552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086600" y="5108400"/>
              <a:ext cx="0" cy="298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1680" y="571500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7315200" y="5412960"/>
              <a:ext cx="0" cy="298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7543800" y="5412960"/>
              <a:ext cx="0" cy="298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93080" y="541008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778880" y="541008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7550280" y="5340240"/>
              <a:ext cx="222120" cy="146160"/>
              <a:chOff x="7550280" y="5340240"/>
              <a:chExt cx="222120" cy="146160"/>
            </a:xfrm>
          </p:grpSpPr>
          <p:sp>
            <p:nvSpPr>
              <p:cNvPr id="360" name=""/>
              <p:cNvSpPr/>
              <p:nvPr/>
            </p:nvSpPr>
            <p:spPr>
              <a:xfrm>
                <a:off x="75502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7724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2" name=""/>
          <p:cNvSpPr/>
          <p:nvPr/>
        </p:nvSpPr>
        <p:spPr>
          <a:xfrm flipV="1">
            <a:off x="6629400" y="5412960"/>
            <a:ext cx="0" cy="2984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35880" y="5410080"/>
            <a:ext cx="2221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6858000" y="5108400"/>
            <a:ext cx="0" cy="298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88920" y="3213000"/>
            <a:ext cx="5003640" cy="3479760"/>
          </a:xfrm>
          <a:prstGeom prst="ellipse">
            <a:avLst/>
          </a:prstGeom>
          <a:solidFill>
            <a:srgbClr val="dddddd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t Synchronous Protocol Leg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213000" y="2374920"/>
            <a:ext cx="1575000" cy="584280"/>
            <a:chOff x="3213000" y="2374920"/>
            <a:chExt cx="1575000" cy="584280"/>
          </a:xfrm>
        </p:grpSpPr>
        <p:sp>
          <p:nvSpPr>
            <p:cNvPr id="369" name=""/>
            <p:cNvSpPr/>
            <p:nvPr/>
          </p:nvSpPr>
          <p:spPr>
            <a:xfrm>
              <a:off x="3213000" y="2374920"/>
              <a:ext cx="1575000" cy="584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59080" y="2468520"/>
              <a:ext cx="1414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BM SDL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93840" y="4051440"/>
            <a:ext cx="1726920" cy="58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2880" y="4145040"/>
            <a:ext cx="177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SI ADC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527200" y="4051440"/>
            <a:ext cx="1575000" cy="583920"/>
            <a:chOff x="2527200" y="4051440"/>
            <a:chExt cx="1575000" cy="583920"/>
          </a:xfrm>
        </p:grpSpPr>
        <p:sp>
          <p:nvSpPr>
            <p:cNvPr id="374" name=""/>
            <p:cNvSpPr/>
            <p:nvPr/>
          </p:nvSpPr>
          <p:spPr>
            <a:xfrm>
              <a:off x="2527200" y="4051440"/>
              <a:ext cx="1575000" cy="583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72920" y="4145040"/>
              <a:ext cx="1401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SO HDL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374920" y="5194440"/>
            <a:ext cx="1904040" cy="1117440"/>
            <a:chOff x="2374920" y="5194440"/>
            <a:chExt cx="1904040" cy="1117440"/>
          </a:xfrm>
        </p:grpSpPr>
        <p:sp>
          <p:nvSpPr>
            <p:cNvPr id="377" name=""/>
            <p:cNvSpPr/>
            <p:nvPr/>
          </p:nvSpPr>
          <p:spPr>
            <a:xfrm>
              <a:off x="2374920" y="5194440"/>
              <a:ext cx="1879560" cy="1117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96600" y="5288040"/>
              <a:ext cx="178236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U-T LAP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PB, LAPD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PF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575320" y="4051440"/>
            <a:ext cx="2031840" cy="11174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72600" y="4221000"/>
            <a:ext cx="1657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25440" y="3581280"/>
            <a:ext cx="532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19320" y="3587760"/>
            <a:ext cx="0" cy="45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76720" y="3587760"/>
            <a:ext cx="0" cy="45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53080" y="3587760"/>
            <a:ext cx="0" cy="45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76720" y="4654440"/>
            <a:ext cx="0" cy="52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62520" y="2978280"/>
            <a:ext cx="0" cy="60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1160" y="493704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"/>
          </a:bodyPr>
          <a:p>
            <a:pPr marL="27360" indent="-273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t synchronous fram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t synchronous frame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00" indent="-22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00" indent="-22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ervis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00" indent="-22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-numb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384200" y="2374920"/>
            <a:ext cx="7213680" cy="482760"/>
            <a:chOff x="1384200" y="2374920"/>
            <a:chExt cx="7213680" cy="482760"/>
          </a:xfrm>
        </p:grpSpPr>
        <p:sp>
          <p:nvSpPr>
            <p:cNvPr id="391" name=""/>
            <p:cNvSpPr/>
            <p:nvPr/>
          </p:nvSpPr>
          <p:spPr>
            <a:xfrm>
              <a:off x="1384200" y="2374920"/>
              <a:ext cx="88920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98600" y="2374920"/>
              <a:ext cx="88920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13000" y="2374920"/>
              <a:ext cx="88920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27400" y="2374920"/>
              <a:ext cx="264168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94640" y="2374920"/>
              <a:ext cx="88884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709040" y="2374920"/>
              <a:ext cx="88884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31360" y="2490840"/>
              <a:ext cx="80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46840" y="2490840"/>
              <a:ext cx="843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60880" y="2490840"/>
              <a:ext cx="819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64920" y="2490840"/>
              <a:ext cx="73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918120" y="2490840"/>
              <a:ext cx="64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55840" y="2490840"/>
              <a:ext cx="80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039400" y="2948040"/>
            <a:ext cx="46015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*n bits (n = 1,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*m bits (m =1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*r bits (r = 1, R; R configur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*x bits (x = 1,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"/>
          </a:bodyPr>
          <a:p>
            <a:pPr marL="27360" indent="-273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PD fram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PD frame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00" indent="-22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: 16 bit contro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00" indent="-22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ervisory: 16 bit contro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00" indent="-22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-numbered: 8 bit contro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384200" y="2298600"/>
            <a:ext cx="7213680" cy="482760"/>
            <a:chOff x="1384200" y="2298600"/>
            <a:chExt cx="7213680" cy="482760"/>
          </a:xfrm>
        </p:grpSpPr>
        <p:sp>
          <p:nvSpPr>
            <p:cNvPr id="407" name=""/>
            <p:cNvSpPr/>
            <p:nvPr/>
          </p:nvSpPr>
          <p:spPr>
            <a:xfrm>
              <a:off x="1384200" y="2298600"/>
              <a:ext cx="889200" cy="4320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98600" y="2298600"/>
              <a:ext cx="889200" cy="4320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13000" y="2298600"/>
              <a:ext cx="889200" cy="4320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27400" y="2298600"/>
              <a:ext cx="2641680" cy="4320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94640" y="2298600"/>
              <a:ext cx="888840" cy="4320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09040" y="2298600"/>
              <a:ext cx="888840" cy="4320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431360" y="2414520"/>
              <a:ext cx="80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46840" y="2414520"/>
              <a:ext cx="843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60880" y="2414520"/>
              <a:ext cx="819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64920" y="2414520"/>
              <a:ext cx="73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18120" y="2414520"/>
              <a:ext cx="64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755840" y="2414520"/>
              <a:ext cx="80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1658520" y="2948040"/>
            <a:ext cx="46015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be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*r bits (r = 1, R; R configur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PD address field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003320" y="2374920"/>
            <a:ext cx="7213680" cy="482760"/>
            <a:chOff x="1003320" y="2374920"/>
            <a:chExt cx="7213680" cy="482760"/>
          </a:xfrm>
        </p:grpSpPr>
        <p:sp>
          <p:nvSpPr>
            <p:cNvPr id="423" name=""/>
            <p:cNvSpPr/>
            <p:nvPr/>
          </p:nvSpPr>
          <p:spPr>
            <a:xfrm>
              <a:off x="1003320" y="2374920"/>
              <a:ext cx="88884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17720" y="2374920"/>
              <a:ext cx="88884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32120" y="2374920"/>
              <a:ext cx="88884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746520" y="2374920"/>
              <a:ext cx="264168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13400" y="2374920"/>
              <a:ext cx="88920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27800" y="2374920"/>
              <a:ext cx="88920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50120" y="2490840"/>
              <a:ext cx="80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65600" y="2490840"/>
              <a:ext cx="843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79640" y="2490840"/>
              <a:ext cx="819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83680" y="2490840"/>
              <a:ext cx="73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536880" y="2490840"/>
              <a:ext cx="64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74960" y="2490840"/>
              <a:ext cx="80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371600" y="3886200"/>
            <a:ext cx="2445120" cy="762120"/>
            <a:chOff x="1371600" y="3886200"/>
            <a:chExt cx="2445120" cy="762120"/>
          </a:xfrm>
        </p:grpSpPr>
        <p:sp>
          <p:nvSpPr>
            <p:cNvPr id="436" name=""/>
            <p:cNvSpPr/>
            <p:nvPr/>
          </p:nvSpPr>
          <p:spPr>
            <a:xfrm>
              <a:off x="1378080" y="3892680"/>
              <a:ext cx="291960" cy="368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682640" y="3892680"/>
              <a:ext cx="292320" cy="368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87560" y="3892680"/>
              <a:ext cx="291960" cy="368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92480" y="3892680"/>
              <a:ext cx="291960" cy="368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97040" y="3892680"/>
              <a:ext cx="292320" cy="368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901960" y="3892680"/>
              <a:ext cx="291960" cy="368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06880" y="3892680"/>
              <a:ext cx="291960" cy="368280"/>
            </a:xfrm>
            <a:prstGeom prst="rect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11440" y="3892680"/>
              <a:ext cx="292320" cy="368280"/>
            </a:xfrm>
            <a:prstGeom prst="rect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84200" y="3898800"/>
              <a:ext cx="241308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05320" y="3892680"/>
              <a:ext cx="0" cy="37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00400" y="3892680"/>
              <a:ext cx="0" cy="37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78080" y="4273560"/>
              <a:ext cx="291960" cy="368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82640" y="4273560"/>
              <a:ext cx="292320" cy="368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7560" y="4273560"/>
              <a:ext cx="291960" cy="368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86000" y="4267080"/>
              <a:ext cx="291960" cy="368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97040" y="4273560"/>
              <a:ext cx="292320" cy="368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01960" y="4273560"/>
              <a:ext cx="291960" cy="368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06880" y="4273560"/>
              <a:ext cx="291960" cy="368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511440" y="4273560"/>
              <a:ext cx="292320" cy="368280"/>
            </a:xfrm>
            <a:prstGeom prst="rect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71600" y="4267080"/>
              <a:ext cx="241308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05320" y="4273560"/>
              <a:ext cx="0" cy="37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00040" y="3886200"/>
              <a:ext cx="33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05320" y="388620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05320" y="426708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33720" y="3886200"/>
              <a:ext cx="71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A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09680" y="4267080"/>
              <a:ext cx="50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 flipH="1">
            <a:off x="1378080" y="2825640"/>
            <a:ext cx="527040" cy="1060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25640" y="2825640"/>
            <a:ext cx="984240" cy="1060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81480" y="4983120"/>
            <a:ext cx="48178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P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 Access Point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inal End Point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and/Response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2133720" y="1600200"/>
          <a:ext cx="4805280" cy="47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80528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SI Layer 1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coding of digit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ll duplex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xing of channels for basic or primary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Channel contention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inal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2251080" y="2100240"/>
          <a:ext cx="4665600" cy="268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1080" y="2100240"/>
                    <a:ext cx="466560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inal Ada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pping non-ISDN device into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ctions Prov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e ada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gnal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.25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cal interface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arer Channel Data Link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I.465/V.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Streams Supp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ynchronous protocol se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C synchronous protocol se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 transpa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.120 Prov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ion over circuit mode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ion over frame mode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demand connection estab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semipermanent connection estab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rts access channel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cuit-mode:  B, H0, H10, or H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me-mode:   B, H0, H10, H11, 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thods of Line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return to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RZ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RZI, Used by 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level Bi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polar Alternate Mark Inversion (A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eudoter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868686"/>
              </a:buClr>
              <a:buSzPct val="62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nary 0 -- alternating positive/ne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868686"/>
              </a:buClr>
              <a:buSzPct val="62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nary 1 -- absence of line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s of Line 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2880" y="274320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0960" y="358128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9040" y="274320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7480" y="274320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74464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274464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274464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274464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335560" y="3581280"/>
            <a:ext cx="1674720" cy="0"/>
            <a:chOff x="5335560" y="3581280"/>
            <a:chExt cx="1674720" cy="0"/>
          </a:xfrm>
        </p:grpSpPr>
        <p:sp>
          <p:nvSpPr>
            <p:cNvPr id="104" name=""/>
            <p:cNvSpPr/>
            <p:nvPr/>
          </p:nvSpPr>
          <p:spPr>
            <a:xfrm>
              <a:off x="5335560" y="3581280"/>
              <a:ext cx="836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73640" y="3581280"/>
              <a:ext cx="836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7012080" y="274320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135160"/>
            <a:ext cx="0" cy="396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2135160"/>
            <a:ext cx="0" cy="396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2135160"/>
            <a:ext cx="0" cy="396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2135160"/>
            <a:ext cx="0" cy="396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2135160"/>
            <a:ext cx="0" cy="396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2135160"/>
            <a:ext cx="0" cy="396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2135160"/>
            <a:ext cx="0" cy="396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2135160"/>
            <a:ext cx="0" cy="396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0160" y="21700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08240" y="21700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22640" y="21700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84760" y="21700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22840" y="21700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22096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22096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2744640"/>
            <a:ext cx="0" cy="836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2744640"/>
            <a:ext cx="0" cy="836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2744640"/>
            <a:ext cx="0" cy="836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2744640"/>
            <a:ext cx="0" cy="836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600" y="2932200"/>
            <a:ext cx="87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RZ-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2880" y="510552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0960" y="472428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7480" y="510552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9040" y="510552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560" y="548640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3640" y="472428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12080" y="510552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4726080"/>
            <a:ext cx="0" cy="379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4726080"/>
            <a:ext cx="0" cy="379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5106960"/>
            <a:ext cx="0" cy="379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726080"/>
            <a:ext cx="0" cy="379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5920" y="4913280"/>
            <a:ext cx="60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4726080"/>
            <a:ext cx="0" cy="760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thods of Line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rambling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long sequences of zero-level line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reduction in data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error-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 Encoding Using Scramb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nary with 8-zeros substitution (B8Z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density bipolar-3 zeros (HDB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asic User-Network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e 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cal conn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aming and multiple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ention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drop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34640" y="17524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ne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and T reference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ll duplex digital data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wire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ctrical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eudoternary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ve/negative voltage pulses: 750 mV    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rate 144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mission rate 192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543800" y="4764240"/>
                <a:ext cx="43164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asic Access Physical Conn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cal connection between TE and NT at S or T reference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O 8887 specifies 8 pin physical conn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US use RJ-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raming and Multiplex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4 Kbps data multiplexed on 192 Kbps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titive, fixed length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frame 48 bit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me repeats every 25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me uses pseudoternary bit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 bits B1 channel, 16 bits B2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bits D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bits fram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465880" y="4275000"/>
                <a:ext cx="36972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14:30Z</dcterms:created>
  <dc:creator>NCR ASSOCIATE</dc:creator>
  <dc:description/>
  <dc:language>en-US</dc:language>
  <cp:lastModifiedBy>NCR User</cp:lastModifiedBy>
  <cp:lastPrinted>1998-02-10T17:56:56Z</cp:lastPrinted>
  <dcterms:modified xsi:type="dcterms:W3CDTF">2002-10-08T18:57:16Z</dcterms:modified>
  <cp:revision>42</cp:revision>
  <dc:subject/>
  <dc:title>IST 246  Integrated Digital Networks</dc:title>
</cp:coreProperties>
</file>