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4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80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50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CA56FA7-5F65-4613-B361-AA4F751E698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83040" y="2638440"/>
            <a:ext cx="160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7520" y="5889600"/>
            <a:ext cx="8748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resentation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440" y="0"/>
            <a:ext cx="595800" cy="867240"/>
            <a:chOff x="-1440" y="0"/>
            <a:chExt cx="595800" cy="867240"/>
          </a:xfrm>
        </p:grpSpPr>
        <p:sp>
          <p:nvSpPr>
            <p:cNvPr id="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0" y="414360"/>
              <a:ext cx="59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1440" y="0"/>
              <a:ext cx="595800" cy="867240"/>
            </a:xfrm>
            <a:custGeom>
              <a:avLst/>
              <a:gdLst/>
              <a:ahLst/>
              <a:rect l="0" t="0" r="r" b="b"/>
              <a:pathLst>
                <a:path fill="none" w="1655" h="2409">
                  <a:moveTo>
                    <a:pt x="0" y="2409"/>
                  </a:moveTo>
                  <a:lnTo>
                    <a:pt x="1655" y="2409"/>
                  </a:lnTo>
                  <a:lnTo>
                    <a:pt x="1655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8988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60.wmf"/><Relationship Id="rId10" Type="http://schemas.openxmlformats.org/officeDocument/2006/relationships/image" Target="../media/image61.wmf"/><Relationship Id="rId11" Type="http://schemas.openxmlformats.org/officeDocument/2006/relationships/image" Target="../media/image62.wmf"/><Relationship Id="rId12" Type="http://schemas.openxmlformats.org/officeDocument/2006/relationships/image" Target="../media/image63.wmf"/><Relationship Id="rId13" Type="http://schemas.openxmlformats.org/officeDocument/2006/relationships/image" Target="../media/image64.wmf"/><Relationship Id="rId14" Type="http://schemas.openxmlformats.org/officeDocument/2006/relationships/image" Target="../media/image65.wmf"/><Relationship Id="rId15" Type="http://schemas.openxmlformats.org/officeDocument/2006/relationships/image" Target="../media/image66.wmf"/><Relationship Id="rId16" Type="http://schemas.openxmlformats.org/officeDocument/2006/relationships/image" Target="../media/image67.wmf"/><Relationship Id="rId17" Type="http://schemas.openxmlformats.org/officeDocument/2006/relationships/image" Target="../media/image68.wmf"/><Relationship Id="rId18" Type="http://schemas.openxmlformats.org/officeDocument/2006/relationships/image" Target="../media/image69.wmf"/><Relationship Id="rId19" Type="http://schemas.openxmlformats.org/officeDocument/2006/relationships/image" Target="../media/image70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image" Target="../media/image84.wmf"/><Relationship Id="rId9" Type="http://schemas.openxmlformats.org/officeDocument/2006/relationships/image" Target="../media/image85.wmf"/><Relationship Id="rId10" Type="http://schemas.openxmlformats.org/officeDocument/2006/relationships/image" Target="../media/image86.wmf"/><Relationship Id="rId11" Type="http://schemas.openxmlformats.org/officeDocument/2006/relationships/image" Target="../media/image87.wmf"/><Relationship Id="rId12" Type="http://schemas.openxmlformats.org/officeDocument/2006/relationships/image" Target="../media/image88.wmf"/><Relationship Id="rId13" Type="http://schemas.openxmlformats.org/officeDocument/2006/relationships/image" Target="../media/image89.wmf"/><Relationship Id="rId14" Type="http://schemas.openxmlformats.org/officeDocument/2006/relationships/image" Target="../media/image90.wmf"/><Relationship Id="rId15" Type="http://schemas.openxmlformats.org/officeDocument/2006/relationships/image" Target="../media/image91.wmf"/><Relationship Id="rId16" Type="http://schemas.openxmlformats.org/officeDocument/2006/relationships/image" Target="../media/image92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wmf"/><Relationship Id="rId9" Type="http://schemas.openxmlformats.org/officeDocument/2006/relationships/image" Target="../media/image101.wmf"/><Relationship Id="rId10" Type="http://schemas.openxmlformats.org/officeDocument/2006/relationships/image" Target="../media/image102.wmf"/><Relationship Id="rId11" Type="http://schemas.openxmlformats.org/officeDocument/2006/relationships/image" Target="../media/image103.wmf"/><Relationship Id="rId12" Type="http://schemas.openxmlformats.org/officeDocument/2006/relationships/image" Target="../media/image104.wmf"/><Relationship Id="rId13" Type="http://schemas.openxmlformats.org/officeDocument/2006/relationships/image" Target="../media/image105.wmf"/><Relationship Id="rId14" Type="http://schemas.openxmlformats.org/officeDocument/2006/relationships/image" Target="../media/image106.wmf"/><Relationship Id="rId15" Type="http://schemas.openxmlformats.org/officeDocument/2006/relationships/image" Target="../media/image10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6040" y="99216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040" y="160164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040" y="22874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32018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040" y="411624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Cisco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9760" y="103176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9760" y="164160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0520" y="2320920"/>
            <a:ext cx="639720" cy="80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0280" y="3209760"/>
            <a:ext cx="1011240" cy="87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49200" y="4192560"/>
            <a:ext cx="927000" cy="558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446120" y="119556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5240" y="1652760"/>
            <a:ext cx="12193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/Silico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1560" y="2414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tocol Trans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88920" y="34052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Wor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3840" y="42433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040" y="4802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17520" y="4835520"/>
            <a:ext cx="655560" cy="64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38160" y="492912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3440" y="992160"/>
            <a:ext cx="2057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95560" y="104292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Flow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160164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95560" y="16527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gro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306520" y="1603440"/>
            <a:ext cx="1011240" cy="87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33440" y="2516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995560" y="264312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306520" y="2552760"/>
            <a:ext cx="665280" cy="65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33440" y="32781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95560" y="34815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Ro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2306520" y="3317760"/>
            <a:ext cx="893880" cy="809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33440" y="4192560"/>
            <a:ext cx="20574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95560" y="431964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33440" y="487836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995560" y="50817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0840" y="9921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24360" y="111924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0840" y="183024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24360" y="195732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Router on 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90840" y="266868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24360" y="287172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2374920" y="4257720"/>
            <a:ext cx="884160" cy="57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2308320" y="4924440"/>
            <a:ext cx="868320" cy="75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4354560" y="1033560"/>
            <a:ext cx="482760" cy="766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4354560" y="1908000"/>
            <a:ext cx="49860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4354560" y="2711520"/>
            <a:ext cx="568440" cy="77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90840" y="3583080"/>
            <a:ext cx="1828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24360" y="37101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4354560" y="3679920"/>
            <a:ext cx="752400" cy="528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90840" y="434484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24360" y="43959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group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90840" y="503064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24360" y="5081760"/>
            <a:ext cx="1346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9640" y="992160"/>
            <a:ext cx="1828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653160" y="111924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0Bas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16779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53160" y="180504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DI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 Concen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4354560" y="462600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354560" y="515952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6221520" y="1197000"/>
            <a:ext cx="73656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221520" y="1851120"/>
            <a:ext cx="746280" cy="32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19640" y="251604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653160" y="25671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Adapter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0"/>
          <a:stretch/>
        </p:blipFill>
        <p:spPr>
          <a:xfrm>
            <a:off x="6221520" y="2576520"/>
            <a:ext cx="555480" cy="804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9640" y="3430440"/>
            <a:ext cx="18288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9640" y="3481560"/>
            <a:ext cx="18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layer Switch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and without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>
            <a:off x="6221520" y="3957480"/>
            <a:ext cx="555480" cy="546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9640" y="457344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53160" y="4624560"/>
            <a:ext cx="134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2"/>
          <a:stretch/>
        </p:blipFill>
        <p:spPr>
          <a:xfrm>
            <a:off x="6221520" y="4594320"/>
            <a:ext cx="838080" cy="492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9640" y="5106960"/>
            <a:ext cx="1828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653160" y="5157720"/>
            <a:ext cx="13460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g Switch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3"/>
          <a:stretch/>
        </p:blipFill>
        <p:spPr>
          <a:xfrm>
            <a:off x="6221520" y="5151600"/>
            <a:ext cx="484200" cy="696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4"/>
          <a:stretch/>
        </p:blipFill>
        <p:spPr>
          <a:xfrm>
            <a:off x="6813720" y="3976560"/>
            <a:ext cx="555480" cy="54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5"/>
          <a:stretch/>
        </p:blipFill>
        <p:spPr>
          <a:xfrm>
            <a:off x="2335320" y="1041480"/>
            <a:ext cx="838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Cisco Product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680" y="99216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" y="1087560"/>
            <a:ext cx="484200" cy="696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85880" y="10684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te/Switch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1830240"/>
            <a:ext cx="1828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440" y="1906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8000" y="1854360"/>
            <a:ext cx="635040" cy="777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8680" y="266868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90440" y="2744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680" y="3887640"/>
            <a:ext cx="1828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90440" y="39639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5760" y="2728800"/>
            <a:ext cx="635040" cy="91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19040" y="3946680"/>
            <a:ext cx="1025640" cy="108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57480" y="992160"/>
            <a:ext cx="19810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71880" y="1068480"/>
            <a:ext cx="1066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with Router-Base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247840" y="1050840"/>
            <a:ext cx="1025640" cy="1087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57480" y="2211480"/>
            <a:ext cx="19810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71880" y="22874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-Attached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239920" y="2295360"/>
            <a:ext cx="102888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57480" y="3201840"/>
            <a:ext cx="19810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71880" y="32781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351160" y="3255840"/>
            <a:ext cx="8064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I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360" y="9921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2440" y="1079640"/>
            <a:ext cx="1298520" cy="866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319040" y="11444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205884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19040" y="221148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F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2440" y="2151000"/>
            <a:ext cx="1298520" cy="86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2360" y="312588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19040" y="327816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E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ront End Proces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0280" y="3197160"/>
            <a:ext cx="928800" cy="898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2360" y="41925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19040" y="42688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uster Controller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74 or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Most Common Typ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74840" y="430704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14680" y="992160"/>
            <a:ext cx="23623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81360" y="10684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uster Controller/317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Desktop Model, Not Used Mu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744640" y="1316160"/>
            <a:ext cx="9208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8680" y="992160"/>
            <a:ext cx="1981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93840" y="106848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SU/CSU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Add Text in Power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800" y="1135080"/>
            <a:ext cx="920880" cy="45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8680" y="1754280"/>
            <a:ext cx="19810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93840" y="18302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5880" y="1820880"/>
            <a:ext cx="666720" cy="450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8680" y="23637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3840" y="26686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33440" y="2427120"/>
            <a:ext cx="984240" cy="774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8680" y="3278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3840" y="35067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B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36680" y="3341520"/>
            <a:ext cx="990720" cy="77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8680" y="4192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93840" y="4268880"/>
            <a:ext cx="1066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Standar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69800" y="430704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09760" y="992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74920" y="11444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9760" y="1906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74920" y="20588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457360" y="1112760"/>
            <a:ext cx="106200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2444760" y="205272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09760" y="28209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74920" y="2973240"/>
            <a:ext cx="1066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twork Clou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457360" y="2941560"/>
            <a:ext cx="1062000" cy="647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09760" y="3735360"/>
            <a:ext cx="19810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74920" y="3887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2405160" y="3862440"/>
            <a:ext cx="1168560" cy="952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90840" y="9921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56360" y="114444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d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90840" y="19065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56360" y="205884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al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90840" y="2820960"/>
            <a:ext cx="1981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56360" y="29732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4395960" y="1106640"/>
            <a:ext cx="984240" cy="67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4433760" y="2049480"/>
            <a:ext cx="907920" cy="603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4440240" y="2957400"/>
            <a:ext cx="1047600" cy="615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90840" y="3735360"/>
            <a:ext cx="1981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56360" y="38876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3"/>
          <a:stretch/>
        </p:blipFill>
        <p:spPr>
          <a:xfrm>
            <a:off x="4402080" y="3833640"/>
            <a:ext cx="971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738760" y="77760"/>
            <a:ext cx="22096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99216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93760" y="1049400"/>
            <a:ext cx="1263600" cy="109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85880" y="12970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st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Su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2360" y="221148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85880" y="25160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600" y="2236680"/>
            <a:ext cx="1276200" cy="1155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2360" y="343044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85880" y="38116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38040" y="3506760"/>
            <a:ext cx="1479600" cy="1054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2360" y="4649760"/>
            <a:ext cx="20574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85880" y="50306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92040" y="4710240"/>
            <a:ext cx="1079640" cy="1073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09760" y="992160"/>
            <a:ext cx="20574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766960" y="1220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392200" y="1100160"/>
            <a:ext cx="1346040" cy="83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09760" y="198288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09760" y="289728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66960" y="31258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462040" y="2948040"/>
            <a:ext cx="5968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309760" y="39639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66960" y="41925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2433600" y="4017960"/>
            <a:ext cx="793800" cy="781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309760" y="4878360"/>
            <a:ext cx="2057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766960" y="5030640"/>
            <a:ext cx="16002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 o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X/VM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DEC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460600" y="4962600"/>
            <a:ext cx="892080" cy="782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67160" y="992160"/>
            <a:ext cx="21337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51440" y="11826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/FastGb Ether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4503600" y="1030320"/>
            <a:ext cx="920880" cy="901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367160" y="198288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1440" y="22114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P 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4529160" y="2062080"/>
            <a:ext cx="870120" cy="88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67160" y="304956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51440" y="327816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er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4440240" y="3108240"/>
            <a:ext cx="1046160" cy="911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367160" y="4116240"/>
            <a:ext cx="2133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1440" y="43448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2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4525920" y="4184640"/>
            <a:ext cx="711360" cy="727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67160" y="4954680"/>
            <a:ext cx="21337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51440" y="51832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D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4524480" y="5040360"/>
            <a:ext cx="714240" cy="703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500880" y="992160"/>
            <a:ext cx="14479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00880" y="2287440"/>
            <a:ext cx="14479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399360" y="103032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6585120" y="1258920"/>
            <a:ext cx="1327320" cy="812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6399360" y="232560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5"/>
          <a:stretch/>
        </p:blipFill>
        <p:spPr>
          <a:xfrm>
            <a:off x="6630840" y="2579760"/>
            <a:ext cx="1085760" cy="1079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500880" y="3735360"/>
            <a:ext cx="14479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6616800" y="3927600"/>
            <a:ext cx="1114560" cy="809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6348240" y="37353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2455920" y="2021040"/>
            <a:ext cx="1025640" cy="835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766960" y="221148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00880" y="4802040"/>
            <a:ext cx="14479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48240" y="480204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2LAN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8"/>
          <a:stretch/>
        </p:blipFill>
        <p:spPr>
          <a:xfrm>
            <a:off x="6929280" y="5018040"/>
            <a:ext cx="793800" cy="77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9"/>
          <a:stretch/>
        </p:blipFill>
        <p:spPr>
          <a:xfrm>
            <a:off x="5862600" y="93600"/>
            <a:ext cx="1251000" cy="857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399360" y="1922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We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8680" y="992160"/>
            <a:ext cx="22096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9560" y="14079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43080" y="1297080"/>
            <a:ext cx="1295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ken Rings, with and without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8680" y="2135160"/>
            <a:ext cx="220968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3080" y="221148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 Rings, with and without Text, Vertical and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71560" y="316692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74640" y="2373480"/>
            <a:ext cx="654120" cy="1479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369720" y="2144880"/>
            <a:ext cx="654120" cy="147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14360" y="3319560"/>
            <a:ext cx="1479600" cy="654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436680" y="10270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38360" y="992160"/>
            <a:ext cx="3886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38360" y="1754280"/>
            <a:ext cx="3886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Serial 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38360" y="2135160"/>
            <a:ext cx="38862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19240" y="1144440"/>
            <a:ext cx="3202200" cy="154440"/>
          </a:xfrm>
          <a:custGeom>
            <a:avLst/>
            <a:gdLst/>
            <a:ahLst/>
            <a:rect l="0" t="0" r="r" b="b"/>
            <a:pathLst>
              <a:path fill="none" w="8895" h="429">
                <a:moveTo>
                  <a:pt x="0" y="0"/>
                </a:moveTo>
                <a:lnTo>
                  <a:pt x="4448" y="0"/>
                </a:lnTo>
                <a:lnTo>
                  <a:pt x="4023" y="429"/>
                </a:lnTo>
                <a:lnTo>
                  <a:pt x="8895" y="429"/>
                </a:lnTo>
              </a:path>
            </a:pathLst>
          </a:custGeom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844720" y="2287440"/>
            <a:ext cx="3198960" cy="152640"/>
            <a:chOff x="2844720" y="2287440"/>
            <a:chExt cx="3198960" cy="152640"/>
          </a:xfrm>
        </p:grpSpPr>
        <p:sp>
          <p:nvSpPr>
            <p:cNvPr id="275" name=""/>
            <p:cNvSpPr/>
            <p:nvPr/>
          </p:nvSpPr>
          <p:spPr>
            <a:xfrm flipV="1">
              <a:off x="4292640" y="2289240"/>
              <a:ext cx="150840" cy="15084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447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733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19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305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1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877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6320" y="228744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926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212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498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84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70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356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642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92840" y="2440080"/>
              <a:ext cx="15084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919240" y="1449360"/>
            <a:ext cx="3202200" cy="154440"/>
          </a:xfrm>
          <a:custGeom>
            <a:avLst/>
            <a:gdLst/>
            <a:ahLst/>
            <a:rect l="0" t="0" r="r" b="b"/>
            <a:pathLst>
              <a:path fill="none" w="8895" h="429">
                <a:moveTo>
                  <a:pt x="0" y="0"/>
                </a:moveTo>
                <a:lnTo>
                  <a:pt x="4448" y="0"/>
                </a:lnTo>
                <a:lnTo>
                  <a:pt x="4023" y="429"/>
                </a:lnTo>
                <a:lnTo>
                  <a:pt x="8895" y="429"/>
                </a:lnTo>
              </a:path>
            </a:pathLst>
          </a:custGeom>
          <a:ln w="38160">
            <a:solidFill>
              <a:srgbClr val="cf0e3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844720" y="2592360"/>
            <a:ext cx="3198960" cy="152280"/>
            <a:chOff x="2844720" y="2592360"/>
            <a:chExt cx="3198960" cy="152280"/>
          </a:xfrm>
        </p:grpSpPr>
        <p:sp>
          <p:nvSpPr>
            <p:cNvPr id="293" name=""/>
            <p:cNvSpPr/>
            <p:nvPr/>
          </p:nvSpPr>
          <p:spPr>
            <a:xfrm flipV="1">
              <a:off x="4292640" y="2593800"/>
              <a:ext cx="150840" cy="15084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447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733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019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305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91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877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6320" y="259236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926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12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498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784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070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356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642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92840" y="2744640"/>
              <a:ext cx="150840" cy="0"/>
            </a:xfrm>
            <a:prstGeom prst="line">
              <a:avLst/>
            </a:prstGeom>
            <a:ln w="381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2538360" y="28209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Circuit-Switch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38360" y="3278160"/>
            <a:ext cx="3886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38360" y="37353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: Ethern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Use Thicker where There Is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21040" y="3430440"/>
            <a:ext cx="319860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3659040"/>
            <a:ext cx="319860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Buil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2360" y="992160"/>
            <a:ext cx="2514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81160" y="1041480"/>
            <a:ext cx="2205000" cy="1235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395360" y="99216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2363760"/>
            <a:ext cx="2514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95360" y="236376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5440" y="2676600"/>
            <a:ext cx="2112840" cy="873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52360" y="3583080"/>
            <a:ext cx="25146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395360" y="35830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71680" y="3641760"/>
            <a:ext cx="1025640" cy="63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52360" y="4344840"/>
            <a:ext cx="25146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95360" y="4344840"/>
            <a:ext cx="1371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fic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285840" y="4449600"/>
            <a:ext cx="528480" cy="6904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844560" y="4449600"/>
            <a:ext cx="528480" cy="69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766960" y="992160"/>
            <a:ext cx="358128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976640" y="992160"/>
            <a:ext cx="1371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dquarters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2862360" y="1082520"/>
            <a:ext cx="762120" cy="1163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3700440" y="1082520"/>
            <a:ext cx="76212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766960" y="2287440"/>
            <a:ext cx="3581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00680" y="22874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use, Regular 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2970360" y="2370240"/>
            <a:ext cx="1104840" cy="73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66960" y="3201840"/>
            <a:ext cx="27432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38560" y="32018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commu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2976480" y="3290760"/>
            <a:ext cx="1092240" cy="723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66960" y="4116240"/>
            <a:ext cx="274320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138560" y="411624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me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2860560" y="4173480"/>
            <a:ext cx="1757520" cy="1168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4513320" y="1082520"/>
            <a:ext cx="762120" cy="1163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4189320" y="2370240"/>
            <a:ext cx="1104840" cy="736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1403280" y="4449600"/>
            <a:ext cx="528480" cy="690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348240" y="992160"/>
            <a:ext cx="129528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4"/>
          <a:stretch/>
        </p:blipFill>
        <p:spPr>
          <a:xfrm>
            <a:off x="6475320" y="10587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5"/>
          <a:stretch/>
        </p:blipFill>
        <p:spPr>
          <a:xfrm>
            <a:off x="6475320" y="189720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6475320" y="273528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6348240" y="3506760"/>
            <a:ext cx="12952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 Building, Regular, Subdued,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8680" y="992160"/>
            <a:ext cx="10666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95360" y="992160"/>
            <a:ext cx="10666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62040" y="992160"/>
            <a:ext cx="25909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62040" y="2516040"/>
            <a:ext cx="25909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3720" y="1109520"/>
            <a:ext cx="711360" cy="2330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1560600" y="1185840"/>
            <a:ext cx="723960" cy="217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28680" y="3506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95360" y="3506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423864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347652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2714760" y="2573280"/>
            <a:ext cx="701640" cy="12304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2725560" y="1050840"/>
            <a:ext cx="677880" cy="1241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487680" y="1050840"/>
            <a:ext cx="677880" cy="1241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4173480" y="1050840"/>
            <a:ext cx="677880" cy="1241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2462040" y="2287440"/>
            <a:ext cx="259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mbol Woman, Various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462040" y="3811680"/>
            <a:ext cx="259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mbol Man, Various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8680" y="4040280"/>
            <a:ext cx="12193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3120" y="54118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n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401760" y="4132440"/>
            <a:ext cx="1047600" cy="1314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547640" y="4040280"/>
            <a:ext cx="12952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306440" y="5411880"/>
            <a:ext cx="18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unning 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1611360" y="4132440"/>
            <a:ext cx="1079640" cy="1314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605040" y="4040280"/>
            <a:ext cx="144792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995560" y="525924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sco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52960" y="992160"/>
            <a:ext cx="14479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48240" y="992160"/>
            <a:ext cx="152388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6808680" y="1171440"/>
            <a:ext cx="728640" cy="1152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tretch/>
        </p:blipFill>
        <p:spPr>
          <a:xfrm>
            <a:off x="5381640" y="1076400"/>
            <a:ext cx="828720" cy="1177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tretch/>
        </p:blipFill>
        <p:spPr>
          <a:xfrm>
            <a:off x="6878520" y="2612880"/>
            <a:ext cx="728640" cy="1152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4"/>
          <a:stretch/>
        </p:blipFill>
        <p:spPr>
          <a:xfrm>
            <a:off x="5245200" y="2530440"/>
            <a:ext cx="822240" cy="1177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6348240" y="3735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 Fe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443480" y="373536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d User Male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ft and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5"/>
          <a:stretch/>
        </p:blipFill>
        <p:spPr>
          <a:xfrm>
            <a:off x="4048200" y="4276800"/>
            <a:ext cx="625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04640" y="992160"/>
            <a:ext cx="2133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4640" y="1754280"/>
            <a:ext cx="21337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4640" y="2516040"/>
            <a:ext cx="213372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4640" y="3583080"/>
            <a:ext cx="2133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44400" y="19692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cons: Miscella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68360" y="1001880"/>
            <a:ext cx="927000" cy="7174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87440" y="1763640"/>
            <a:ext cx="1498680" cy="717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928800" y="3143160"/>
            <a:ext cx="906480" cy="3841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501480" y="2583000"/>
            <a:ext cx="388800" cy="9064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507960" y="3600360"/>
            <a:ext cx="681120" cy="853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700280" y="1068480"/>
            <a:ext cx="838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700280" y="1830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95360" y="2516040"/>
            <a:ext cx="1143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ewall, Horizontal and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395360" y="358308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4640" y="449748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395360" y="4497480"/>
            <a:ext cx="1143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458640" y="4503600"/>
            <a:ext cx="933480" cy="431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04640" y="4954680"/>
            <a:ext cx="21337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66760" y="4954680"/>
            <a:ext cx="13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>
            <a:off x="484200" y="4978440"/>
            <a:ext cx="893880" cy="853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538360" y="99216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38360" y="183024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8360" y="289728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38360" y="365904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38360" y="4421160"/>
            <a:ext cx="20574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38360" y="4954680"/>
            <a:ext cx="2057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95760" y="992160"/>
            <a:ext cx="20574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95760" y="175428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4672080" y="2097000"/>
            <a:ext cx="1649520" cy="658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635200" y="4502160"/>
            <a:ext cx="693720" cy="4078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4684680" y="1068480"/>
            <a:ext cx="876240" cy="58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2565360" y="5027760"/>
            <a:ext cx="987480" cy="743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2"/>
          <a:stretch/>
        </p:blipFill>
        <p:spPr>
          <a:xfrm>
            <a:off x="2641680" y="1903320"/>
            <a:ext cx="528480" cy="893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3"/>
          <a:stretch/>
        </p:blipFill>
        <p:spPr>
          <a:xfrm>
            <a:off x="2563920" y="3730680"/>
            <a:ext cx="838080" cy="593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4"/>
          <a:stretch/>
        </p:blipFill>
        <p:spPr>
          <a:xfrm>
            <a:off x="2633760" y="1073160"/>
            <a:ext cx="711360" cy="7272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5"/>
          <a:stretch/>
        </p:blipFill>
        <p:spPr>
          <a:xfrm>
            <a:off x="2628720" y="2981160"/>
            <a:ext cx="720720" cy="579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300480" y="10684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kett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3.5" Flopp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300480" y="183024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eakou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300480" y="28972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300480" y="3659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base, Rel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300480" y="442116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300480" y="4954680"/>
            <a:ext cx="1295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B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Bulle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ar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57880" y="10684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tellite D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57880" y="175428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95760" y="282096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57880" y="282096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6"/>
          <a:stretch/>
        </p:blipFill>
        <p:spPr>
          <a:xfrm>
            <a:off x="4672080" y="2889360"/>
            <a:ext cx="582480" cy="9032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595760" y="3887640"/>
            <a:ext cx="20574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357880" y="3887640"/>
            <a:ext cx="12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7"/>
          <a:stretch/>
        </p:blipFill>
        <p:spPr>
          <a:xfrm>
            <a:off x="4729320" y="3900600"/>
            <a:ext cx="7747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e Kandra</dc:creator>
  <dc:description/>
  <dc:language>en-US</dc:language>
  <cp:lastModifiedBy>Dick Young</cp:lastModifiedBy>
  <cp:revision>0</cp:revision>
  <dc:subject/>
  <dc:title>Icons: Cisco Products</dc:title>
</cp:coreProperties>
</file>