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801-8277-4F6C-A612-FE212B44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3D4-5E88-48FC-8556-F26919AD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207-B811-4DF1-9BA7-57A096BC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9F4-538B-4B0E-A7A7-38435481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07F-C010-4E15-9DAB-32CE2091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279-0351-40C3-AD03-F0ED49FE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64B-F372-4414-860B-4C677645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692-3499-4A48-B86E-8197E93E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3F8-4878-4EDF-9D40-979C5BC6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2C9-F687-40DD-8F5C-CE1AD7B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959-6B4F-4EB1-95F1-DD7A8DE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D08-97A1-4062-BCCF-68C8E3B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A0A8-B310-42A3-8F19-B12CA668F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ing and Routing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51280" y="530280"/>
            <a:ext cx="1467000" cy="877680"/>
            <a:chOff x="3851280" y="530280"/>
            <a:chExt cx="1467000" cy="877680"/>
          </a:xfrm>
        </p:grpSpPr>
        <p:sp>
          <p:nvSpPr>
            <p:cNvPr id="44" name=""/>
            <p:cNvSpPr/>
            <p:nvPr/>
          </p:nvSpPr>
          <p:spPr>
            <a:xfrm>
              <a:off x="4357800" y="530280"/>
              <a:ext cx="631800" cy="355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02120" y="628560"/>
              <a:ext cx="479520" cy="35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51280" y="849240"/>
              <a:ext cx="318960" cy="28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48120" y="982800"/>
              <a:ext cx="48888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03800" y="1035000"/>
              <a:ext cx="738000" cy="37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84760" y="636480"/>
              <a:ext cx="46188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56040" y="822240"/>
              <a:ext cx="462240" cy="27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11760" y="885960"/>
              <a:ext cx="461880" cy="46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18040" y="743040"/>
              <a:ext cx="950760" cy="461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41920" y="512640"/>
            <a:ext cx="1466640" cy="878040"/>
            <a:chOff x="3841920" y="512640"/>
            <a:chExt cx="1466640" cy="878040"/>
          </a:xfrm>
        </p:grpSpPr>
        <p:sp>
          <p:nvSpPr>
            <p:cNvPr id="54" name=""/>
            <p:cNvSpPr/>
            <p:nvPr/>
          </p:nvSpPr>
          <p:spPr>
            <a:xfrm>
              <a:off x="4348080" y="512640"/>
              <a:ext cx="631800" cy="3542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92400" y="609480"/>
              <a:ext cx="481320" cy="355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41920" y="831960"/>
              <a:ext cx="320400" cy="2840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40200" y="965160"/>
              <a:ext cx="488880" cy="3096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5880" y="1017720"/>
              <a:ext cx="738000" cy="372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5040" y="619200"/>
              <a:ext cx="463680" cy="274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46680" y="804960"/>
              <a:ext cx="461880" cy="274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2040" y="866880"/>
              <a:ext cx="462240" cy="4618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08320" y="725400"/>
              <a:ext cx="952560" cy="4604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8320" y="838080"/>
            <a:ext cx="67464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42040" y="838080"/>
            <a:ext cx="674640" cy="42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275000" y="1371600"/>
            <a:ext cx="675000" cy="428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43160" y="762120"/>
            <a:ext cx="966600" cy="59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77080" y="762120"/>
            <a:ext cx="966600" cy="59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148280" y="1752480"/>
            <a:ext cx="966600" cy="59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576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7932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0520" y="192708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22640" y="814320"/>
            <a:ext cx="127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4648320"/>
          <a:ext cx="936360" cy="199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648320"/>
                    <a:ext cx="93636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420200" y="6126120"/>
            <a:ext cx="428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’s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Subnet Mask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ll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Subnet Mas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20" y="2270160"/>
            <a:ext cx="876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.108.2.1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11 01101100   00000010 10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.255.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1111111 11111111  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11 01101100  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          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ault Case -- No Subnet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 Address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01520" y="332892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52960" y="3225960"/>
            <a:ext cx="120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198960" y="3297240"/>
            <a:ext cx="92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016520" y="2847960"/>
            <a:ext cx="1245960" cy="7779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262560" y="1744560"/>
            <a:ext cx="0" cy="225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65800" y="2023920"/>
            <a:ext cx="4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65800" y="2801880"/>
            <a:ext cx="4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65800" y="364968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95720" y="1744560"/>
            <a:ext cx="0" cy="247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700360" y="209556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557080" y="2873520"/>
            <a:ext cx="63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700360" y="386244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211480" y="167148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6561000" y="1600200"/>
            <a:ext cx="601920" cy="603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632640" y="237816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6632640" y="3225960"/>
            <a:ext cx="601560" cy="603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211480" y="343836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2211480" y="2448000"/>
            <a:ext cx="601560" cy="603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83280" y="164952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8880" y="26384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7960" y="362736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0" y="378612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60800" y="363852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18440" y="17193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90440" y="249696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23440" y="5668920"/>
            <a:ext cx="67579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 is an extension of the networ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s divides large network in smaller sub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decisions based on network and sub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4041720"/>
            <a:ext cx="0" cy="453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7000" y="4548240"/>
            <a:ext cx="2494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- 131.108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 - 131.108.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- 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3736800"/>
            <a:ext cx="0" cy="530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15720" y="4243320"/>
            <a:ext cx="2494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- 131.108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 - 131.108.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- 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735360" y="3430440"/>
            <a:ext cx="225360" cy="37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259240" y="3354480"/>
            <a:ext cx="301680" cy="30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0" y="3051000"/>
            <a:ext cx="0" cy="121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ressing with Subn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84320" y="4495680"/>
            <a:ext cx="525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51460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0481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1629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4771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355920" y="2057400"/>
            <a:ext cx="2664000" cy="990720"/>
            <a:chOff x="3355920" y="2057400"/>
            <a:chExt cx="2664000" cy="990720"/>
          </a:xfrm>
        </p:grpSpPr>
        <p:sp>
          <p:nvSpPr>
            <p:cNvPr id="376" name=""/>
            <p:cNvSpPr/>
            <p:nvPr/>
          </p:nvSpPr>
          <p:spPr>
            <a:xfrm>
              <a:off x="3355920" y="3048120"/>
              <a:ext cx="266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809880" y="251568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724280" y="251568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3519360" y="2057400"/>
              <a:ext cx="6415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4433760" y="2057400"/>
              <a:ext cx="64152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8724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61866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27576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2071800" y="3429000"/>
            <a:ext cx="641160" cy="647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955520" y="5364000"/>
            <a:ext cx="6098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 see Network 131.108.0.0 as 3 sub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knowledge of internal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fficient usage of addr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ting causes loss of addr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7"/>
          <a:stretch/>
        </p:blipFill>
        <p:spPr>
          <a:xfrm>
            <a:off x="4114800" y="4129200"/>
            <a:ext cx="1139760" cy="7189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271600" y="45482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48320" y="45482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43400" y="25671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 Mas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368440" y="1755720"/>
            <a:ext cx="5778720" cy="835200"/>
            <a:chOff x="2368440" y="1755720"/>
            <a:chExt cx="5778720" cy="835200"/>
          </a:xfrm>
        </p:grpSpPr>
        <p:sp>
          <p:nvSpPr>
            <p:cNvPr id="392" name=""/>
            <p:cNvSpPr/>
            <p:nvPr/>
          </p:nvSpPr>
          <p:spPr>
            <a:xfrm>
              <a:off x="2368440" y="175896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34120" y="17557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1680" y="17557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09880" y="17557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955960" y="196524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03520" y="196524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04080" y="1965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99360" y="1965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8880" y="1859040"/>
            <a:ext cx="151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368440" y="3051000"/>
            <a:ext cx="5778720" cy="835200"/>
            <a:chOff x="2368440" y="3051000"/>
            <a:chExt cx="5778720" cy="835200"/>
          </a:xfrm>
        </p:grpSpPr>
        <p:sp>
          <p:nvSpPr>
            <p:cNvPr id="402" name=""/>
            <p:cNvSpPr/>
            <p:nvPr/>
          </p:nvSpPr>
          <p:spPr>
            <a:xfrm>
              <a:off x="2368440" y="305424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4120" y="30510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81680" y="30510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09880" y="30510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955960" y="326088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03520" y="326088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04080" y="3260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99360" y="3260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1120" y="3078000"/>
            <a:ext cx="1756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368440" y="4346640"/>
            <a:ext cx="5778720" cy="834840"/>
            <a:chOff x="2368440" y="4346640"/>
            <a:chExt cx="5778720" cy="834840"/>
          </a:xfrm>
        </p:grpSpPr>
        <p:sp>
          <p:nvSpPr>
            <p:cNvPr id="412" name=""/>
            <p:cNvSpPr/>
            <p:nvPr/>
          </p:nvSpPr>
          <p:spPr>
            <a:xfrm>
              <a:off x="2368440" y="434988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34120" y="43466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43466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9880" y="43466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2955960" y="45561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03520" y="45561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03720" y="45561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99360" y="4556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0760" y="4373640"/>
            <a:ext cx="1698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-Bit 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7000" y="5486400"/>
            <a:ext cx="1444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38720" y="5691240"/>
            <a:ext cx="359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host bits starting with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bit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 Mas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administrator decides size of subn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net masks identify which host bits are used to specify the sub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net mask bit layo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ary 1 identifies network b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ary 1 identifies subnet b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ary 0 identifies host b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 Mas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3560" y="2346480"/>
            <a:ext cx="8768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.108.2.1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11 01101100   00000010 10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5.255.255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1111111 11111111   11111111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11 01101100   0000001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          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net Used to Extend Network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uces Range of Available Hos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ting Exerci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8400" y="1765440"/>
            <a:ext cx="7670880" cy="431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4120" y="1859040"/>
            <a:ext cx="143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21000" y="185904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10280" y="185904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50000" y="18590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9608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79160" y="1859040"/>
            <a:ext cx="76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67800" y="2212920"/>
            <a:ext cx="7701480" cy="453960"/>
            <a:chOff x="667800" y="2212920"/>
            <a:chExt cx="7701480" cy="453960"/>
          </a:xfrm>
        </p:grpSpPr>
        <p:sp>
          <p:nvSpPr>
            <p:cNvPr id="439" name=""/>
            <p:cNvSpPr/>
            <p:nvPr/>
          </p:nvSpPr>
          <p:spPr>
            <a:xfrm>
              <a:off x="698400" y="22226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382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290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864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00" y="2239920"/>
              <a:ext cx="1671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1.108.2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960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98400" y="26798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3828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2900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520" y="269712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6.24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9608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8400" y="31370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7800" y="31543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8.124.36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9608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8400" y="35942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900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3611520"/>
            <a:ext cx="167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6.32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87320" y="22399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87680" y="277344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87320" y="31543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8400" y="40514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2900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8160" y="406872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3.50.6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8400" y="45086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7800" y="45259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.222.1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10640" y="361152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10640" y="414504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10640" y="452592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03320" y="2239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03320" y="26971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03320" y="31543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03320" y="36878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03320" y="40687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03320" y="4525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netting Exerci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8400" y="1765440"/>
            <a:ext cx="7670880" cy="431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44120" y="1859040"/>
            <a:ext cx="143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21000" y="185904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0280" y="185904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50000" y="18590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96080" y="1755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79160" y="1859040"/>
            <a:ext cx="76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67800" y="2212920"/>
            <a:ext cx="7701480" cy="453960"/>
            <a:chOff x="667800" y="2212920"/>
            <a:chExt cx="7701480" cy="453960"/>
          </a:xfrm>
        </p:grpSpPr>
        <p:sp>
          <p:nvSpPr>
            <p:cNvPr id="499" name=""/>
            <p:cNvSpPr/>
            <p:nvPr/>
          </p:nvSpPr>
          <p:spPr>
            <a:xfrm>
              <a:off x="698400" y="22226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382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290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864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7800" y="2239920"/>
              <a:ext cx="1671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1.108.2.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960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698400" y="26798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3828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2900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8520" y="269712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6.24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96080" y="26701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8400" y="31370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7800" y="31543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8.124.36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6080" y="31273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8400" y="35942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3828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00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8640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3611520"/>
            <a:ext cx="167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6.32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96080" y="35845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87320" y="22399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87680" y="277344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87320" y="31543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8400" y="40514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2900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640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8160" y="406872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3.50.6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96080" y="40417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98400" y="4508640"/>
            <a:ext cx="76708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3828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48640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7800" y="4525920"/>
            <a:ext cx="181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.222.1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96080" y="449892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0640" y="361152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10640" y="414504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10640" y="4525920"/>
            <a:ext cx="209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03320" y="2239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03320" y="26971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03320" y="31543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03320" y="36878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03320" y="40687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03320" y="4525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22480" y="22208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31.108.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926120" y="228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26668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5.6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2612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37960" y="312408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68.124.3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26120" y="3124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98440" y="3592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28.16.32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773480" y="3581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15000" y="40384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53.50.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26120" y="403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14280" y="449568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01.222.10.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926120" y="4495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470720" y="2743200"/>
            <a:ext cx="378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2975040"/>
            <a:ext cx="0" cy="30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22400"/>
            <a:ext cx="0" cy="22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Networ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5716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ing permits end station commun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 choice depends upon lo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location assigned a unique addres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01840" cy="195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08400" y="3200400"/>
            <a:ext cx="5302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954680" y="2744640"/>
            <a:ext cx="377640" cy="4543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91040" y="3193920"/>
            <a:ext cx="1197000" cy="16056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87840" y="3277800"/>
            <a:ext cx="301680" cy="5302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3320" y="2746440"/>
            <a:ext cx="453960" cy="377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0320" y="2743200"/>
            <a:ext cx="9874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8040" y="2822400"/>
            <a:ext cx="758880" cy="301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6120" y="3279600"/>
            <a:ext cx="378000" cy="4543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70320" y="3736800"/>
            <a:ext cx="987480" cy="73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92560" y="3278160"/>
            <a:ext cx="606600" cy="378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3200400"/>
            <a:ext cx="11397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430440" y="2820960"/>
            <a:ext cx="530280" cy="301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32240" y="3279600"/>
            <a:ext cx="530280" cy="301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7480" y="3117960"/>
            <a:ext cx="1197000" cy="160200"/>
          </a:xfrm>
          <a:custGeom>
            <a:avLst/>
            <a:gdLst/>
            <a:ahLst/>
            <a:rect l="l" t="t" r="r" b="b"/>
            <a:pathLst>
              <a:path w="754" h="101">
                <a:moveTo>
                  <a:pt x="0" y="0"/>
                </a:moveTo>
                <a:lnTo>
                  <a:pt x="386" y="0"/>
                </a:lnTo>
                <a:lnTo>
                  <a:pt x="344" y="100"/>
                </a:lnTo>
                <a:lnTo>
                  <a:pt x="753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9880" y="35193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9880" y="26049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483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12408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562720" y="3062160"/>
            <a:ext cx="530280" cy="338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181480" y="3672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5105520" y="25290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828800" y="2986200"/>
            <a:ext cx="530280" cy="338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934320" y="3214800"/>
            <a:ext cx="530280" cy="338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50800" y="2819520"/>
            <a:ext cx="9874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93800"/>
            <a:ext cx="0" cy="22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7018200" y="2514600"/>
            <a:ext cx="498600" cy="49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1536840" y="2209680"/>
            <a:ext cx="490320" cy="495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7696080" y="2297160"/>
            <a:ext cx="5065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5440" y="2755800"/>
            <a:ext cx="5765760" cy="812880"/>
          </a:xfrm>
          <a:prstGeom prst="rect">
            <a:avLst/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746440"/>
            <a:ext cx="0" cy="83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5440" y="4127400"/>
            <a:ext cx="5765760" cy="812880"/>
          </a:xfrm>
          <a:prstGeom prst="rect">
            <a:avLst/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4118040"/>
            <a:ext cx="0" cy="83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118040"/>
            <a:ext cx="0" cy="83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118040"/>
            <a:ext cx="0" cy="83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75080" y="2955960"/>
            <a:ext cx="1387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22840" y="295596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5720" y="243828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98240" y="21938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3320" y="243828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41200" y="432756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2800" y="432756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6680" y="432756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8280" y="432756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1560" y="50133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89120" y="50133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89320" y="50133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84960" y="50133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31200" y="501336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31400" y="501336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78960" y="501336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58880" y="5622840"/>
            <a:ext cx="465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:  Dotted decimal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Address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8440" y="2365200"/>
            <a:ext cx="5778720" cy="835200"/>
            <a:chOff x="2368440" y="2365200"/>
            <a:chExt cx="5778720" cy="835200"/>
          </a:xfrm>
        </p:grpSpPr>
        <p:sp>
          <p:nvSpPr>
            <p:cNvPr id="136" name=""/>
            <p:cNvSpPr/>
            <p:nvPr/>
          </p:nvSpPr>
          <p:spPr>
            <a:xfrm>
              <a:off x="2368440" y="236844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4120" y="23652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1680" y="23652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9880" y="23652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5596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388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0408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9936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98200" y="257508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8440" y="3660840"/>
            <a:ext cx="5778720" cy="834840"/>
            <a:chOff x="2368440" y="3660840"/>
            <a:chExt cx="5778720" cy="834840"/>
          </a:xfrm>
        </p:grpSpPr>
        <p:sp>
          <p:nvSpPr>
            <p:cNvPr id="146" name=""/>
            <p:cNvSpPr/>
            <p:nvPr/>
          </p:nvSpPr>
          <p:spPr>
            <a:xfrm>
              <a:off x="2368440" y="366408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36608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36608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3660840"/>
              <a:ext cx="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955960" y="3870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3880" y="3870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4080" y="3870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99360" y="3870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98200" y="387036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368440" y="4956120"/>
            <a:ext cx="5778720" cy="835200"/>
            <a:chOff x="2368440" y="4956120"/>
            <a:chExt cx="5778720" cy="835200"/>
          </a:xfrm>
        </p:grpSpPr>
        <p:sp>
          <p:nvSpPr>
            <p:cNvPr id="156" name=""/>
            <p:cNvSpPr/>
            <p:nvPr/>
          </p:nvSpPr>
          <p:spPr>
            <a:xfrm>
              <a:off x="2368440" y="4959360"/>
              <a:ext cx="5778720" cy="825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4120" y="49561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49561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9880" y="495612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955960" y="5165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5165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04080" y="5165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99360" y="5165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98200" y="516564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7120" y="6004080"/>
            <a:ext cx="74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Network Number, NIC 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- Host Number, Network administrator 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Address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25760" y="2463840"/>
            <a:ext cx="5892480" cy="2844720"/>
          </a:xfrm>
          <a:prstGeom prst="rect">
            <a:avLst/>
          </a:prstGeom>
          <a:solidFill>
            <a:srgbClr val="cecece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0480" y="2955960"/>
            <a:ext cx="1402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1400" y="2575080"/>
            <a:ext cx="1370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1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-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-2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27400" y="2575080"/>
            <a:ext cx="1015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441520"/>
            <a:ext cx="0" cy="289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2441520"/>
            <a:ext cx="0" cy="289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3440" y="3809880"/>
            <a:ext cx="59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3280" y="5699160"/>
            <a:ext cx="589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: Multicast usage - 224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E: Experimental usage - 24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ressing Exerci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55600" y="1755720"/>
            <a:ext cx="6299280" cy="453960"/>
            <a:chOff x="1155600" y="1755720"/>
            <a:chExt cx="6299280" cy="453960"/>
          </a:xfrm>
        </p:grpSpPr>
        <p:sp>
          <p:nvSpPr>
            <p:cNvPr id="177" name=""/>
            <p:cNvSpPr/>
            <p:nvPr/>
          </p:nvSpPr>
          <p:spPr>
            <a:xfrm>
              <a:off x="1155600" y="1765440"/>
              <a:ext cx="6299280" cy="43164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408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340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155600" y="2212920"/>
            <a:ext cx="6299280" cy="453960"/>
            <a:chOff x="1155600" y="2212920"/>
            <a:chExt cx="6299280" cy="453960"/>
          </a:xfrm>
        </p:grpSpPr>
        <p:sp>
          <p:nvSpPr>
            <p:cNvPr id="182" name=""/>
            <p:cNvSpPr/>
            <p:nvPr/>
          </p:nvSpPr>
          <p:spPr>
            <a:xfrm>
              <a:off x="1155600" y="22226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434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155600" y="2670120"/>
            <a:ext cx="6299280" cy="453960"/>
            <a:chOff x="1155600" y="2670120"/>
            <a:chExt cx="6299280" cy="453960"/>
          </a:xfrm>
        </p:grpSpPr>
        <p:sp>
          <p:nvSpPr>
            <p:cNvPr id="187" name=""/>
            <p:cNvSpPr/>
            <p:nvPr/>
          </p:nvSpPr>
          <p:spPr>
            <a:xfrm>
              <a:off x="1155600" y="26798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408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588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5600" y="3127320"/>
            <a:ext cx="6299280" cy="453960"/>
            <a:chOff x="1155600" y="3127320"/>
            <a:chExt cx="6299280" cy="453960"/>
          </a:xfrm>
        </p:grpSpPr>
        <p:sp>
          <p:nvSpPr>
            <p:cNvPr id="192" name=""/>
            <p:cNvSpPr/>
            <p:nvPr/>
          </p:nvSpPr>
          <p:spPr>
            <a:xfrm>
              <a:off x="1155600" y="31370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408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55600" y="3584520"/>
            <a:ext cx="6299280" cy="453960"/>
            <a:chOff x="1155600" y="3584520"/>
            <a:chExt cx="6299280" cy="453960"/>
          </a:xfrm>
        </p:grpSpPr>
        <p:sp>
          <p:nvSpPr>
            <p:cNvPr id="197" name=""/>
            <p:cNvSpPr/>
            <p:nvPr/>
          </p:nvSpPr>
          <p:spPr>
            <a:xfrm>
              <a:off x="1155600" y="35942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4340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588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55600" y="4041720"/>
            <a:ext cx="6299280" cy="453960"/>
            <a:chOff x="1155600" y="4041720"/>
            <a:chExt cx="6299280" cy="453960"/>
          </a:xfrm>
        </p:grpSpPr>
        <p:sp>
          <p:nvSpPr>
            <p:cNvPr id="202" name=""/>
            <p:cNvSpPr/>
            <p:nvPr/>
          </p:nvSpPr>
          <p:spPr>
            <a:xfrm>
              <a:off x="1155600" y="40514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4340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9588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155600" y="4498920"/>
            <a:ext cx="6299280" cy="453960"/>
            <a:chOff x="1155600" y="4498920"/>
            <a:chExt cx="6299280" cy="453960"/>
          </a:xfrm>
        </p:grpSpPr>
        <p:sp>
          <p:nvSpPr>
            <p:cNvPr id="207" name=""/>
            <p:cNvSpPr/>
            <p:nvPr/>
          </p:nvSpPr>
          <p:spPr>
            <a:xfrm>
              <a:off x="1155600" y="45086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408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588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205280" y="1812960"/>
            <a:ext cx="167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09320" y="1812960"/>
            <a:ext cx="121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27920" y="1812960"/>
            <a:ext cx="175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56000" y="1812960"/>
            <a:ext cx="103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50480" y="219384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2.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50840" y="265104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.63.2.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318456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.222.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50840" y="364176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6.14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51200" y="4098960"/>
            <a:ext cx="213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0.113.64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51200" y="4479840"/>
            <a:ext cx="213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241.20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ressing Exerci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55600" y="1755720"/>
            <a:ext cx="6299280" cy="453960"/>
            <a:chOff x="1155600" y="1755720"/>
            <a:chExt cx="6299280" cy="453960"/>
          </a:xfrm>
        </p:grpSpPr>
        <p:sp>
          <p:nvSpPr>
            <p:cNvPr id="223" name=""/>
            <p:cNvSpPr/>
            <p:nvPr/>
          </p:nvSpPr>
          <p:spPr>
            <a:xfrm>
              <a:off x="1155600" y="1765440"/>
              <a:ext cx="6299280" cy="43164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408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4340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5880" y="1755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155600" y="2212920"/>
            <a:ext cx="6299280" cy="453960"/>
            <a:chOff x="1155600" y="2212920"/>
            <a:chExt cx="6299280" cy="453960"/>
          </a:xfrm>
        </p:grpSpPr>
        <p:sp>
          <p:nvSpPr>
            <p:cNvPr id="228" name=""/>
            <p:cNvSpPr/>
            <p:nvPr/>
          </p:nvSpPr>
          <p:spPr>
            <a:xfrm>
              <a:off x="1155600" y="22226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40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4340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2212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155600" y="2670120"/>
            <a:ext cx="6299280" cy="453960"/>
            <a:chOff x="1155600" y="2670120"/>
            <a:chExt cx="6299280" cy="453960"/>
          </a:xfrm>
        </p:grpSpPr>
        <p:sp>
          <p:nvSpPr>
            <p:cNvPr id="233" name=""/>
            <p:cNvSpPr/>
            <p:nvPr/>
          </p:nvSpPr>
          <p:spPr>
            <a:xfrm>
              <a:off x="1155600" y="26798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408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4340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26701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155600" y="3127320"/>
            <a:ext cx="6299280" cy="453960"/>
            <a:chOff x="1155600" y="3127320"/>
            <a:chExt cx="6299280" cy="453960"/>
          </a:xfrm>
        </p:grpSpPr>
        <p:sp>
          <p:nvSpPr>
            <p:cNvPr id="238" name=""/>
            <p:cNvSpPr/>
            <p:nvPr/>
          </p:nvSpPr>
          <p:spPr>
            <a:xfrm>
              <a:off x="1155600" y="31370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5880" y="31273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155600" y="3584520"/>
            <a:ext cx="6299280" cy="453960"/>
            <a:chOff x="1155600" y="3584520"/>
            <a:chExt cx="6299280" cy="453960"/>
          </a:xfrm>
        </p:grpSpPr>
        <p:sp>
          <p:nvSpPr>
            <p:cNvPr id="243" name=""/>
            <p:cNvSpPr/>
            <p:nvPr/>
          </p:nvSpPr>
          <p:spPr>
            <a:xfrm>
              <a:off x="1155600" y="35942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5880" y="35845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55600" y="4041720"/>
            <a:ext cx="6299280" cy="453960"/>
            <a:chOff x="1155600" y="4041720"/>
            <a:chExt cx="6299280" cy="453960"/>
          </a:xfrm>
        </p:grpSpPr>
        <p:sp>
          <p:nvSpPr>
            <p:cNvPr id="248" name=""/>
            <p:cNvSpPr/>
            <p:nvPr/>
          </p:nvSpPr>
          <p:spPr>
            <a:xfrm>
              <a:off x="1155600" y="40514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4340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5880" y="40417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55600" y="4498920"/>
            <a:ext cx="6299280" cy="453960"/>
            <a:chOff x="1155600" y="4498920"/>
            <a:chExt cx="6299280" cy="453960"/>
          </a:xfrm>
        </p:grpSpPr>
        <p:sp>
          <p:nvSpPr>
            <p:cNvPr id="253" name=""/>
            <p:cNvSpPr/>
            <p:nvPr/>
          </p:nvSpPr>
          <p:spPr>
            <a:xfrm>
              <a:off x="1155600" y="4508640"/>
              <a:ext cx="62992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2408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4340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449892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05280" y="1812960"/>
            <a:ext cx="167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09320" y="1812960"/>
            <a:ext cx="121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27920" y="1812960"/>
            <a:ext cx="175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56000" y="1812960"/>
            <a:ext cx="103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50480" y="219384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2.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50840" y="265104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.63.2.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50840" y="318456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.222.5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50840" y="364176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6.14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51200" y="4098960"/>
            <a:ext cx="213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0.113.64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51200" y="4479840"/>
            <a:ext cx="213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241.20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748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074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164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9164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7480" y="403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4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57600" y="2173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7840" y="2666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28.63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5920" y="3124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01.222.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5920" y="35812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92.6.14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5920" y="40384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30.113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9960" y="2209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50680" y="2666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79280" y="31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39400" y="35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7000" y="403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4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st Address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01520" y="332892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180.30.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52960" y="3225960"/>
            <a:ext cx="120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198960" y="3297240"/>
            <a:ext cx="92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016520" y="2847960"/>
            <a:ext cx="1245960" cy="777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262560" y="1744560"/>
            <a:ext cx="0" cy="225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65800" y="2023920"/>
            <a:ext cx="4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2801880"/>
            <a:ext cx="4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65800" y="364968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95720" y="1744560"/>
            <a:ext cx="0" cy="247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700360" y="209556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557080" y="2873520"/>
            <a:ext cx="63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700360" y="386244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211480" y="167148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6561000" y="1600200"/>
            <a:ext cx="601920" cy="603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6632640" y="237816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6632640" y="3225960"/>
            <a:ext cx="601560" cy="603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2211480" y="343836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2211480" y="2448000"/>
            <a:ext cx="601560" cy="603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59240" y="164952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0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8880" y="2638440"/>
            <a:ext cx="15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3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7960" y="362736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12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68600" y="355752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36400" y="3486240"/>
            <a:ext cx="113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6.2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6640" y="1719360"/>
            <a:ext cx="100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1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89720" y="24969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250.8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27040" y="5668920"/>
            <a:ext cx="7012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s are identified by addresses of the form X.X.X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 address of all ones is an IP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interface must have a nonzero hos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4041720"/>
            <a:ext cx="0" cy="453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7720" y="4548240"/>
            <a:ext cx="24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- 131.108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- 12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736800"/>
            <a:ext cx="0" cy="530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9200" y="4243320"/>
            <a:ext cx="211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- 15.0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- 180.30.1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ressing without Subn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84320" y="4495680"/>
            <a:ext cx="525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51460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0481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9343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248520" y="3963600"/>
            <a:ext cx="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355920" y="2057400"/>
            <a:ext cx="2664000" cy="990720"/>
            <a:chOff x="3355920" y="2057400"/>
            <a:chExt cx="2664000" cy="990720"/>
          </a:xfrm>
        </p:grpSpPr>
        <p:sp>
          <p:nvSpPr>
            <p:cNvPr id="321" name=""/>
            <p:cNvSpPr/>
            <p:nvPr/>
          </p:nvSpPr>
          <p:spPr>
            <a:xfrm>
              <a:off x="3355920" y="3048120"/>
              <a:ext cx="266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809880" y="251568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724280" y="2515680"/>
              <a:ext cx="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3519360" y="2057400"/>
              <a:ext cx="6415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4433760" y="2057400"/>
              <a:ext cx="64152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6438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5881680" y="3429000"/>
            <a:ext cx="641520" cy="6476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2757600" y="3429000"/>
            <a:ext cx="641160" cy="647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2071800" y="3429000"/>
            <a:ext cx="641160" cy="647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495680" y="3051000"/>
            <a:ext cx="0" cy="144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58760" y="5364000"/>
            <a:ext cx="609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 sees Network 131.108.0.0 as 1 flat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knowledge of internal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usage of addr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76520" y="45482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.108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9T20:43:30Z</dcterms:created>
  <dc:creator/>
  <dc:description/>
  <dc:language>en-US</dc:language>
  <cp:lastModifiedBy>NCR User</cp:lastModifiedBy>
  <cp:lastPrinted>1999-03-22T21:43:52Z</cp:lastPrinted>
  <dcterms:modified xsi:type="dcterms:W3CDTF">2003-03-31T13:45:17Z</dcterms:modified>
  <cp:revision>33</cp:revision>
  <dc:subject/>
  <dc:title>Calculating Response Time</dc:title>
</cp:coreProperties>
</file>