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23.wmf" ContentType="image/x-wmf"/>
  <Override PartName="/ppt/media/image60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361-9287-4447-AB65-261437A7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310-C9B9-4E65-9656-AF1301E6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C31-31CF-4732-A8ED-53F8E69E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5EE-9481-42FA-A068-8382BB12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2B9-F5A2-4C03-AC28-55ECF09A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F73-5CE3-4B80-B647-A58B5268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49A-B5EE-4536-A1BD-1C84A68D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EDF-73BC-4D2A-9BD4-DB595F50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68C-6D8D-41DA-9B8F-F905B548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6DF-0C60-4EF7-A5F9-B2007EEA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868-8546-4C66-844E-92F454E8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31F-997B-4D50-BF8E-F176B1BC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47F8-0A3D-4FEB-902E-26C6C32F4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image" Target="../media/image46.wmf"/><Relationship Id="rId13" Type="http://schemas.openxmlformats.org/officeDocument/2006/relationships/image" Target="../media/image47.wmf"/><Relationship Id="rId14" Type="http://schemas.openxmlformats.org/officeDocument/2006/relationships/image" Target="../media/image48.wmf"/><Relationship Id="rId15" Type="http://schemas.openxmlformats.org/officeDocument/2006/relationships/image" Target="../media/image49.wmf"/><Relationship Id="rId16" Type="http://schemas.openxmlformats.org/officeDocument/2006/relationships/image" Target="../media/image50.wmf"/><Relationship Id="rId17" Type="http://schemas.openxmlformats.org/officeDocument/2006/relationships/image" Target="../media/image51.wmf"/><Relationship Id="rId18" Type="http://schemas.openxmlformats.org/officeDocument/2006/relationships/image" Target="../media/image52.wmf"/><Relationship Id="rId19" Type="http://schemas.openxmlformats.org/officeDocument/2006/relationships/image" Target="../media/image53.wmf"/><Relationship Id="rId20" Type="http://schemas.openxmlformats.org/officeDocument/2006/relationships/image" Target="../media/image54.wmf"/><Relationship Id="rId21" Type="http://schemas.openxmlformats.org/officeDocument/2006/relationships/image" Target="../media/image55.wmf"/><Relationship Id="rId22" Type="http://schemas.openxmlformats.org/officeDocument/2006/relationships/image" Target="../media/image56.wmf"/><Relationship Id="rId23" Type="http://schemas.openxmlformats.org/officeDocument/2006/relationships/image" Target="../media/image57.wmf"/><Relationship Id="rId24" Type="http://schemas.openxmlformats.org/officeDocument/2006/relationships/image" Target="../media/image58.wmf"/><Relationship Id="rId2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image" Target="../media/image46.wmf"/><Relationship Id="rId13" Type="http://schemas.openxmlformats.org/officeDocument/2006/relationships/image" Target="../media/image47.wmf"/><Relationship Id="rId14" Type="http://schemas.openxmlformats.org/officeDocument/2006/relationships/image" Target="../media/image48.wmf"/><Relationship Id="rId15" Type="http://schemas.openxmlformats.org/officeDocument/2006/relationships/image" Target="../media/image49.wmf"/><Relationship Id="rId16" Type="http://schemas.openxmlformats.org/officeDocument/2006/relationships/image" Target="../media/image50.wmf"/><Relationship Id="rId17" Type="http://schemas.openxmlformats.org/officeDocument/2006/relationships/image" Target="../media/image51.wmf"/><Relationship Id="rId18" Type="http://schemas.openxmlformats.org/officeDocument/2006/relationships/image" Target="../media/image52.wmf"/><Relationship Id="rId19" Type="http://schemas.openxmlformats.org/officeDocument/2006/relationships/image" Target="../media/image53.wmf"/><Relationship Id="rId20" Type="http://schemas.openxmlformats.org/officeDocument/2006/relationships/image" Target="../media/image54.wmf"/><Relationship Id="rId21" Type="http://schemas.openxmlformats.org/officeDocument/2006/relationships/image" Target="../media/image55.wmf"/><Relationship Id="rId22" Type="http://schemas.openxmlformats.org/officeDocument/2006/relationships/image" Target="../media/image56.wmf"/><Relationship Id="rId23" Type="http://schemas.openxmlformats.org/officeDocument/2006/relationships/image" Target="../media/image57.wmf"/><Relationship Id="rId24" Type="http://schemas.openxmlformats.org/officeDocument/2006/relationships/image" Target="../media/image58.wmf"/><Relationship Id="rId2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image" Target="../media/image70.wmf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bone Network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51280" y="530280"/>
            <a:ext cx="1467000" cy="877680"/>
            <a:chOff x="3851280" y="530280"/>
            <a:chExt cx="1467000" cy="877680"/>
          </a:xfrm>
        </p:grpSpPr>
        <p:sp>
          <p:nvSpPr>
            <p:cNvPr id="44" name=""/>
            <p:cNvSpPr/>
            <p:nvPr/>
          </p:nvSpPr>
          <p:spPr>
            <a:xfrm>
              <a:off x="4357800" y="530280"/>
              <a:ext cx="631800" cy="355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02120" y="628560"/>
              <a:ext cx="479520" cy="35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51280" y="849240"/>
              <a:ext cx="318960" cy="28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48120" y="982800"/>
              <a:ext cx="488880" cy="30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03800" y="1035000"/>
              <a:ext cx="738000" cy="37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84760" y="636480"/>
              <a:ext cx="46188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56040" y="822240"/>
              <a:ext cx="462240" cy="27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11760" y="885960"/>
              <a:ext cx="461880" cy="460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18040" y="743040"/>
              <a:ext cx="950760" cy="461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41920" y="512640"/>
            <a:ext cx="1466640" cy="878040"/>
            <a:chOff x="3841920" y="512640"/>
            <a:chExt cx="1466640" cy="878040"/>
          </a:xfrm>
        </p:grpSpPr>
        <p:sp>
          <p:nvSpPr>
            <p:cNvPr id="54" name=""/>
            <p:cNvSpPr/>
            <p:nvPr/>
          </p:nvSpPr>
          <p:spPr>
            <a:xfrm>
              <a:off x="4348080" y="512640"/>
              <a:ext cx="631800" cy="35424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92400" y="609480"/>
              <a:ext cx="481320" cy="355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41920" y="831960"/>
              <a:ext cx="320400" cy="28404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40200" y="965160"/>
              <a:ext cx="488880" cy="309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95880" y="1017720"/>
              <a:ext cx="738000" cy="37296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75040" y="619200"/>
              <a:ext cx="463680" cy="274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46680" y="804960"/>
              <a:ext cx="461880" cy="274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2040" y="866880"/>
              <a:ext cx="462240" cy="4618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08320" y="725400"/>
              <a:ext cx="952560" cy="46044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8320" y="838080"/>
            <a:ext cx="712800" cy="466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42040" y="838080"/>
            <a:ext cx="712800" cy="4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275000" y="1371600"/>
            <a:ext cx="712800" cy="46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243160" y="762120"/>
            <a:ext cx="1004760" cy="633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77080" y="762120"/>
            <a:ext cx="1004760" cy="63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148280" y="1752480"/>
            <a:ext cx="1004760" cy="633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576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7932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0520" y="192708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22640" y="814320"/>
            <a:ext cx="127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376880" cy="3505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81800" y="4957920"/>
            <a:ext cx="1214280" cy="376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710040" y="4038480"/>
            <a:ext cx="9097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62480" y="1989000"/>
            <a:ext cx="300240" cy="754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6920" y="1989000"/>
            <a:ext cx="830160" cy="830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81200" y="3967200"/>
            <a:ext cx="909720" cy="712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03440" y="4954680"/>
            <a:ext cx="1365120" cy="450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ame Relay Backbon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781360" y="1573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991040" y="1573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952560" y="35542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876240" y="5002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7048440" y="35542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7048440" y="5002200"/>
            <a:ext cx="1368360" cy="87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3320" y="5775480"/>
            <a:ext cx="12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9720" y="4952880"/>
            <a:ext cx="357336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75000" y="2827440"/>
            <a:ext cx="2278080" cy="21254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903400" y="2751120"/>
            <a:ext cx="2354400" cy="2278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65720" y="2751120"/>
            <a:ext cx="1287360" cy="2278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65720" y="2751120"/>
            <a:ext cx="1440000" cy="12873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979720" y="2827440"/>
            <a:ext cx="1287360" cy="2201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522520" y="2827440"/>
            <a:ext cx="1744560" cy="12110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27840" y="6172200"/>
            <a:ext cx="52524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89520" y="5996160"/>
            <a:ext cx="71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V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73560" y="2825640"/>
            <a:ext cx="2432160" cy="1212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70320" y="2746440"/>
            <a:ext cx="984240" cy="69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517840" y="2746080"/>
            <a:ext cx="2736720" cy="128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483240" y="4044960"/>
            <a:ext cx="222480" cy="907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21080" y="4038480"/>
            <a:ext cx="4184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75040" y="4041360"/>
            <a:ext cx="3727440" cy="908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7040" y="4044960"/>
            <a:ext cx="374760" cy="907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7040" y="4044960"/>
            <a:ext cx="3956040" cy="907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8800" y="2133720"/>
            <a:ext cx="2590920" cy="190476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2819520"/>
            <a:ext cx="2590920" cy="266688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gle-Trunk Access Nod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17600" cy="330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417240" cy="330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505320" y="2590920"/>
            <a:ext cx="417240" cy="330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286000" y="3276720"/>
            <a:ext cx="417600" cy="330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670120" y="2743200"/>
            <a:ext cx="83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70120" y="3429000"/>
            <a:ext cx="83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2822400"/>
            <a:ext cx="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2898720"/>
            <a:ext cx="0" cy="3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3800" y="2822400"/>
            <a:ext cx="98748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668680" y="2820600"/>
            <a:ext cx="91116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657600" y="4191120"/>
            <a:ext cx="347760" cy="353880"/>
            <a:chOff x="3657600" y="4191120"/>
            <a:chExt cx="347760" cy="353880"/>
          </a:xfrm>
        </p:grpSpPr>
        <p:grpSp>
          <p:nvGrpSpPr>
            <p:cNvPr id="195" name=""/>
            <p:cNvGrpSpPr/>
            <p:nvPr/>
          </p:nvGrpSpPr>
          <p:grpSpPr>
            <a:xfrm>
              <a:off x="3657600" y="4191120"/>
              <a:ext cx="347760" cy="353880"/>
              <a:chOff x="3657600" y="4191120"/>
              <a:chExt cx="347760" cy="353880"/>
            </a:xfrm>
          </p:grpSpPr>
          <p:sp>
            <p:nvSpPr>
              <p:cNvPr id="196" name=""/>
              <p:cNvSpPr/>
              <p:nvPr/>
            </p:nvSpPr>
            <p:spPr>
              <a:xfrm>
                <a:off x="3657600" y="422928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64080" y="423540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57600" y="41911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57600" y="41911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63960" y="41911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963960" y="41911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676680" y="4243320"/>
              <a:ext cx="280800" cy="292320"/>
              <a:chOff x="3676680" y="4243320"/>
              <a:chExt cx="280800" cy="2923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676680" y="4243320"/>
                <a:ext cx="277920" cy="287280"/>
                <a:chOff x="3676680" y="4243320"/>
                <a:chExt cx="277920" cy="287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728880" y="42433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728880" y="42433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813120" y="42958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813120" y="42958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822840" y="43876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822840" y="43876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676680" y="43988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676680" y="43988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62360" y="4329000"/>
                  <a:ext cx="108000" cy="1177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679920" y="4246560"/>
                <a:ext cx="277560" cy="289080"/>
                <a:chOff x="3679920" y="4246560"/>
                <a:chExt cx="277560" cy="2890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732120" y="42465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732120" y="42465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16360" y="42991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16360" y="42991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25720" y="43909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25720" y="43909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79920" y="44020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679920" y="44020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65600" y="433224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"/>
          <p:cNvGrpSpPr/>
          <p:nvPr/>
        </p:nvGrpSpPr>
        <p:grpSpPr>
          <a:xfrm>
            <a:off x="4648320" y="4114800"/>
            <a:ext cx="347400" cy="353880"/>
            <a:chOff x="4648320" y="4114800"/>
            <a:chExt cx="347400" cy="353880"/>
          </a:xfrm>
        </p:grpSpPr>
        <p:grpSp>
          <p:nvGrpSpPr>
            <p:cNvPr id="224" name=""/>
            <p:cNvGrpSpPr/>
            <p:nvPr/>
          </p:nvGrpSpPr>
          <p:grpSpPr>
            <a:xfrm>
              <a:off x="4648320" y="4114800"/>
              <a:ext cx="347400" cy="353880"/>
              <a:chOff x="4648320" y="4114800"/>
              <a:chExt cx="347400" cy="353880"/>
            </a:xfrm>
          </p:grpSpPr>
          <p:sp>
            <p:nvSpPr>
              <p:cNvPr id="225" name=""/>
              <p:cNvSpPr/>
              <p:nvPr/>
            </p:nvSpPr>
            <p:spPr>
              <a:xfrm>
                <a:off x="4648320" y="41529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54440" y="41590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48320" y="4114800"/>
                <a:ext cx="34740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48320" y="4114800"/>
                <a:ext cx="34740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54680" y="411480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54680" y="411480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667400" y="4167360"/>
              <a:ext cx="280800" cy="291960"/>
              <a:chOff x="4667400" y="4167360"/>
              <a:chExt cx="280800" cy="29196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4667400" y="4167360"/>
                <a:ext cx="277560" cy="287280"/>
                <a:chOff x="4667400" y="4167360"/>
                <a:chExt cx="277560" cy="2872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719600" y="416736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719600" y="416736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803840" y="421956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03840" y="421956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813200" y="4311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813200" y="4311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667400" y="4322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667400" y="4322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753080" y="42530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670280" y="4170240"/>
                <a:ext cx="277920" cy="289080"/>
                <a:chOff x="4670280" y="4170240"/>
                <a:chExt cx="277920" cy="2890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722840" y="4170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722840" y="4170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807080" y="4222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07080" y="4222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816440" y="4314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816440" y="4314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70280" y="4325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70280" y="4325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56320" y="4255920"/>
                  <a:ext cx="10764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2" name=""/>
          <p:cNvGrpSpPr/>
          <p:nvPr/>
        </p:nvGrpSpPr>
        <p:grpSpPr>
          <a:xfrm>
            <a:off x="4572000" y="3124080"/>
            <a:ext cx="347760" cy="354240"/>
            <a:chOff x="4572000" y="3124080"/>
            <a:chExt cx="347760" cy="354240"/>
          </a:xfrm>
        </p:grpSpPr>
        <p:grpSp>
          <p:nvGrpSpPr>
            <p:cNvPr id="253" name=""/>
            <p:cNvGrpSpPr/>
            <p:nvPr/>
          </p:nvGrpSpPr>
          <p:grpSpPr>
            <a:xfrm>
              <a:off x="4572000" y="3124080"/>
              <a:ext cx="347760" cy="354240"/>
              <a:chOff x="4572000" y="3124080"/>
              <a:chExt cx="347760" cy="354240"/>
            </a:xfrm>
          </p:grpSpPr>
          <p:sp>
            <p:nvSpPr>
              <p:cNvPr id="254" name=""/>
              <p:cNvSpPr/>
              <p:nvPr/>
            </p:nvSpPr>
            <p:spPr>
              <a:xfrm>
                <a:off x="4572000" y="31622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78480" y="316872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72000" y="31240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72000" y="31240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31240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78360" y="31240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591080" y="3176640"/>
              <a:ext cx="280800" cy="291960"/>
              <a:chOff x="4591080" y="3176640"/>
              <a:chExt cx="280800" cy="29196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4591080" y="3176640"/>
                <a:ext cx="277920" cy="287280"/>
                <a:chOff x="4591080" y="3176640"/>
                <a:chExt cx="277920" cy="287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643280" y="31766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643280" y="31766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27520" y="32288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727520" y="32288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37240" y="33210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737240" y="33210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591080" y="33321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591080" y="33321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676760" y="32623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594320" y="3179880"/>
                <a:ext cx="277560" cy="288720"/>
                <a:chOff x="4594320" y="3179880"/>
                <a:chExt cx="277560" cy="288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646520" y="31798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46520" y="31798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730760" y="32320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730760" y="32320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740120" y="33242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740120" y="33242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594320" y="33354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594320" y="33354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80000" y="32655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1" name=""/>
          <p:cNvSpPr/>
          <p:nvPr/>
        </p:nvSpPr>
        <p:spPr>
          <a:xfrm>
            <a:off x="3736800" y="3584520"/>
            <a:ext cx="14940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9440" y="3508200"/>
            <a:ext cx="98748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9440" y="3352680"/>
            <a:ext cx="68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4648320" y="137160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5105520" y="175248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914400" y="198108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1600200" y="1371600"/>
            <a:ext cx="317520" cy="5968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flipV="1">
            <a:off x="1830240" y="3506400"/>
            <a:ext cx="530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5680" y="3430080"/>
            <a:ext cx="7588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213516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4320" y="2441520"/>
            <a:ext cx="30168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811680" y="2134800"/>
            <a:ext cx="37764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887640" y="2515680"/>
            <a:ext cx="5302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2438280"/>
            <a:ext cx="844560" cy="876600"/>
            <a:chOff x="5562720" y="2438280"/>
            <a:chExt cx="844560" cy="876600"/>
          </a:xfrm>
        </p:grpSpPr>
        <p:pic>
          <p:nvPicPr>
            <p:cNvPr id="295" name="" descr=""/>
            <p:cNvPicPr/>
            <p:nvPr/>
          </p:nvPicPr>
          <p:blipFill>
            <a:blip r:embed="rId9"/>
            <a:stretch/>
          </p:blipFill>
          <p:spPr>
            <a:xfrm>
              <a:off x="5562720" y="24382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0"/>
            <a:stretch/>
          </p:blipFill>
          <p:spPr>
            <a:xfrm>
              <a:off x="5715000" y="25909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11"/>
            <a:stretch/>
          </p:blipFill>
          <p:spPr>
            <a:xfrm>
              <a:off x="5867280" y="27432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2"/>
            <a:stretch/>
          </p:blipFill>
          <p:spPr>
            <a:xfrm>
              <a:off x="6019920" y="2895480"/>
              <a:ext cx="387360" cy="41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6019920" y="3886200"/>
            <a:ext cx="844560" cy="876240"/>
            <a:chOff x="6019920" y="3886200"/>
            <a:chExt cx="844560" cy="876240"/>
          </a:xfrm>
        </p:grpSpPr>
        <p:pic>
          <p:nvPicPr>
            <p:cNvPr id="300" name="" descr=""/>
            <p:cNvPicPr/>
            <p:nvPr/>
          </p:nvPicPr>
          <p:blipFill>
            <a:blip r:embed="rId13"/>
            <a:stretch/>
          </p:blipFill>
          <p:spPr>
            <a:xfrm>
              <a:off x="6019920" y="38862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14"/>
            <a:stretch/>
          </p:blipFill>
          <p:spPr>
            <a:xfrm>
              <a:off x="6172200" y="40384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5"/>
            <a:stretch/>
          </p:blipFill>
          <p:spPr>
            <a:xfrm>
              <a:off x="6324480" y="41911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16"/>
            <a:stretch/>
          </p:blipFill>
          <p:spPr>
            <a:xfrm>
              <a:off x="6477120" y="43434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"/>
          <p:cNvGrpSpPr/>
          <p:nvPr/>
        </p:nvGrpSpPr>
        <p:grpSpPr>
          <a:xfrm>
            <a:off x="2438280" y="4800600"/>
            <a:ext cx="844560" cy="876240"/>
            <a:chOff x="2438280" y="4800600"/>
            <a:chExt cx="844560" cy="876240"/>
          </a:xfrm>
        </p:grpSpPr>
        <p:pic>
          <p:nvPicPr>
            <p:cNvPr id="305" name="" descr=""/>
            <p:cNvPicPr/>
            <p:nvPr/>
          </p:nvPicPr>
          <p:blipFill>
            <a:blip r:embed="rId17"/>
            <a:stretch/>
          </p:blipFill>
          <p:spPr>
            <a:xfrm>
              <a:off x="2438280" y="48006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18"/>
            <a:stretch/>
          </p:blipFill>
          <p:spPr>
            <a:xfrm>
              <a:off x="2590920" y="49528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19"/>
            <a:stretch/>
          </p:blipFill>
          <p:spPr>
            <a:xfrm>
              <a:off x="2743200" y="51055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20"/>
            <a:stretch/>
          </p:blipFill>
          <p:spPr>
            <a:xfrm>
              <a:off x="2895480" y="52578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 flipV="1">
            <a:off x="4802040" y="2744640"/>
            <a:ext cx="758880" cy="3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878360" y="2896920"/>
            <a:ext cx="8352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878360" y="3125880"/>
            <a:ext cx="98748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54680" y="3277800"/>
            <a:ext cx="106344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56120" y="4191120"/>
            <a:ext cx="10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6120" y="4270320"/>
            <a:ext cx="121608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6120" y="4346640"/>
            <a:ext cx="136836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6120" y="4422600"/>
            <a:ext cx="152100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744640" y="4344840"/>
            <a:ext cx="91152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97280" y="4497120"/>
            <a:ext cx="75888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049560" y="4497480"/>
            <a:ext cx="75888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201840" y="4497120"/>
            <a:ext cx="682920" cy="83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3809880"/>
            <a:ext cx="2819160" cy="251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9440" y="2822400"/>
            <a:ext cx="68256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8320" y="5486400"/>
            <a:ext cx="3080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s 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ingle poin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038480" y="1828800"/>
            <a:ext cx="347760" cy="353880"/>
            <a:chOff x="4038480" y="1828800"/>
            <a:chExt cx="347760" cy="353880"/>
          </a:xfrm>
        </p:grpSpPr>
        <p:grpSp>
          <p:nvGrpSpPr>
            <p:cNvPr id="325" name=""/>
            <p:cNvGrpSpPr/>
            <p:nvPr/>
          </p:nvGrpSpPr>
          <p:grpSpPr>
            <a:xfrm>
              <a:off x="4038480" y="1828800"/>
              <a:ext cx="347760" cy="353880"/>
              <a:chOff x="4038480" y="1828800"/>
              <a:chExt cx="347760" cy="353880"/>
            </a:xfrm>
          </p:grpSpPr>
          <p:sp>
            <p:nvSpPr>
              <p:cNvPr id="326" name=""/>
              <p:cNvSpPr/>
              <p:nvPr/>
            </p:nvSpPr>
            <p:spPr>
              <a:xfrm>
                <a:off x="4038480" y="18669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044960" y="18730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038480" y="18288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38480" y="18288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44840" y="18288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4840" y="18288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057560" y="1881360"/>
              <a:ext cx="281160" cy="291960"/>
              <a:chOff x="4057560" y="1881360"/>
              <a:chExt cx="281160" cy="2919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4057560" y="1881360"/>
                <a:ext cx="277920" cy="287280"/>
                <a:chOff x="4057560" y="1881360"/>
                <a:chExt cx="277920" cy="2872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110120" y="18813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110120" y="18813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94000" y="19335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194000" y="19335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203720" y="2025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203720" y="2025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057560" y="2036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057560" y="2036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143240" y="19670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060800" y="1884240"/>
                <a:ext cx="277920" cy="289080"/>
                <a:chOff x="4060800" y="1884240"/>
                <a:chExt cx="277920" cy="2890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113360" y="1884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113360" y="1884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197240" y="19368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197240" y="19368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206960" y="2028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206960" y="2028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060800" y="2039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060800" y="2039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146480" y="196992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3" name=""/>
          <p:cNvGrpSpPr/>
          <p:nvPr/>
        </p:nvGrpSpPr>
        <p:grpSpPr>
          <a:xfrm>
            <a:off x="4343400" y="2362320"/>
            <a:ext cx="347760" cy="353880"/>
            <a:chOff x="4343400" y="2362320"/>
            <a:chExt cx="347760" cy="353880"/>
          </a:xfrm>
        </p:grpSpPr>
        <p:grpSp>
          <p:nvGrpSpPr>
            <p:cNvPr id="354" name=""/>
            <p:cNvGrpSpPr/>
            <p:nvPr/>
          </p:nvGrpSpPr>
          <p:grpSpPr>
            <a:xfrm>
              <a:off x="4343400" y="2362320"/>
              <a:ext cx="347760" cy="353880"/>
              <a:chOff x="4343400" y="2362320"/>
              <a:chExt cx="347760" cy="353880"/>
            </a:xfrm>
          </p:grpSpPr>
          <p:sp>
            <p:nvSpPr>
              <p:cNvPr id="355" name=""/>
              <p:cNvSpPr/>
              <p:nvPr/>
            </p:nvSpPr>
            <p:spPr>
              <a:xfrm>
                <a:off x="4343400" y="240048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49880" y="240660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43400" y="23623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43400" y="23623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49760" y="23623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49760" y="23623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4362480" y="2414520"/>
              <a:ext cx="280800" cy="292320"/>
              <a:chOff x="4362480" y="2414520"/>
              <a:chExt cx="280800" cy="29232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4362480" y="2414520"/>
                <a:ext cx="277920" cy="287280"/>
                <a:chOff x="4362480" y="2414520"/>
                <a:chExt cx="277920" cy="2872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414680" y="24145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414680" y="24145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498920" y="24670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498920" y="24670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508640" y="25588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508640" y="25588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362480" y="25700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362480" y="25700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448160" y="2500200"/>
                  <a:ext cx="108000" cy="1177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365720" y="2417760"/>
                <a:ext cx="277560" cy="289080"/>
                <a:chOff x="4365720" y="2417760"/>
                <a:chExt cx="277560" cy="2890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417920" y="24177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417920" y="24177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502160" y="24703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502160" y="24703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511520" y="25621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511520" y="25621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365720" y="25732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365720" y="25732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451400" y="250344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2" name=""/>
          <p:cNvSpPr/>
          <p:nvPr/>
        </p:nvSpPr>
        <p:spPr>
          <a:xfrm flipV="1">
            <a:off x="4344840" y="1754280"/>
            <a:ext cx="30348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649760" y="2211480"/>
            <a:ext cx="45576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7200" y="3505320"/>
            <a:ext cx="539640" cy="571320"/>
            <a:chOff x="457200" y="3505320"/>
            <a:chExt cx="539640" cy="571320"/>
          </a:xfrm>
        </p:grpSpPr>
        <p:pic>
          <p:nvPicPr>
            <p:cNvPr id="385" name="" descr=""/>
            <p:cNvPicPr/>
            <p:nvPr/>
          </p:nvPicPr>
          <p:blipFill>
            <a:blip r:embed="rId21"/>
            <a:stretch/>
          </p:blipFill>
          <p:spPr>
            <a:xfrm>
              <a:off x="457200" y="35053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2"/>
            <a:stretch/>
          </p:blipFill>
          <p:spPr>
            <a:xfrm>
              <a:off x="609480" y="36576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"/>
          <p:cNvGrpSpPr/>
          <p:nvPr/>
        </p:nvGrpSpPr>
        <p:grpSpPr>
          <a:xfrm>
            <a:off x="990720" y="4267080"/>
            <a:ext cx="539640" cy="571680"/>
            <a:chOff x="990720" y="4267080"/>
            <a:chExt cx="539640" cy="571680"/>
          </a:xfrm>
        </p:grpSpPr>
        <p:pic>
          <p:nvPicPr>
            <p:cNvPr id="388" name="" descr=""/>
            <p:cNvPicPr/>
            <p:nvPr/>
          </p:nvPicPr>
          <p:blipFill>
            <a:blip r:embed="rId23"/>
            <a:stretch/>
          </p:blipFill>
          <p:spPr>
            <a:xfrm>
              <a:off x="990720" y="42670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24"/>
            <a:stretch/>
          </p:blipFill>
          <p:spPr>
            <a:xfrm>
              <a:off x="1143000" y="441972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"/>
          <p:cNvGrpSpPr/>
          <p:nvPr/>
        </p:nvGrpSpPr>
        <p:grpSpPr>
          <a:xfrm>
            <a:off x="1676520" y="3809880"/>
            <a:ext cx="347400" cy="354240"/>
            <a:chOff x="1676520" y="3809880"/>
            <a:chExt cx="347400" cy="354240"/>
          </a:xfrm>
        </p:grpSpPr>
        <p:grpSp>
          <p:nvGrpSpPr>
            <p:cNvPr id="391" name=""/>
            <p:cNvGrpSpPr/>
            <p:nvPr/>
          </p:nvGrpSpPr>
          <p:grpSpPr>
            <a:xfrm>
              <a:off x="1676520" y="3809880"/>
              <a:ext cx="347400" cy="354240"/>
              <a:chOff x="1676520" y="3809880"/>
              <a:chExt cx="347400" cy="354240"/>
            </a:xfrm>
          </p:grpSpPr>
          <p:sp>
            <p:nvSpPr>
              <p:cNvPr id="392" name=""/>
              <p:cNvSpPr/>
              <p:nvPr/>
            </p:nvSpPr>
            <p:spPr>
              <a:xfrm>
                <a:off x="1676520" y="38480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82640" y="3854520"/>
                <a:ext cx="29376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76520" y="3809880"/>
                <a:ext cx="34740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76520" y="3809880"/>
                <a:ext cx="34740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82880" y="380988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82880" y="380988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1695600" y="3862440"/>
              <a:ext cx="280800" cy="291960"/>
              <a:chOff x="1695600" y="3862440"/>
              <a:chExt cx="280800" cy="29196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1695600" y="3862440"/>
                <a:ext cx="277560" cy="287280"/>
                <a:chOff x="1695600" y="3862440"/>
                <a:chExt cx="277560" cy="2872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747800" y="38624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747800" y="38624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832040" y="391464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2040" y="391464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841400" y="40068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841400" y="40068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695600" y="40179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695600" y="40179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781280" y="39481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698480" y="3865680"/>
                <a:ext cx="277920" cy="288720"/>
                <a:chOff x="1698480" y="3865680"/>
                <a:chExt cx="277920" cy="288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751040" y="38656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751040" y="38656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35280" y="39178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835280" y="39178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844640" y="40100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844640" y="40100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98480" y="40212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698480" y="40212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784520" y="3951360"/>
                  <a:ext cx="10764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1295280" y="3352680"/>
            <a:ext cx="347760" cy="354240"/>
            <a:chOff x="1295280" y="3352680"/>
            <a:chExt cx="347760" cy="354240"/>
          </a:xfrm>
        </p:grpSpPr>
        <p:grpSp>
          <p:nvGrpSpPr>
            <p:cNvPr id="420" name=""/>
            <p:cNvGrpSpPr/>
            <p:nvPr/>
          </p:nvGrpSpPr>
          <p:grpSpPr>
            <a:xfrm>
              <a:off x="1295280" y="3352680"/>
              <a:ext cx="347760" cy="354240"/>
              <a:chOff x="1295280" y="3352680"/>
              <a:chExt cx="347760" cy="354240"/>
            </a:xfrm>
          </p:grpSpPr>
          <p:sp>
            <p:nvSpPr>
              <p:cNvPr id="421" name=""/>
              <p:cNvSpPr/>
              <p:nvPr/>
            </p:nvSpPr>
            <p:spPr>
              <a:xfrm>
                <a:off x="1295280" y="33908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01760" y="3397320"/>
                <a:ext cx="29376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95280" y="33526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95280" y="33526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01640" y="33526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01640" y="33526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1314360" y="3405240"/>
              <a:ext cx="281160" cy="291960"/>
              <a:chOff x="1314360" y="3405240"/>
              <a:chExt cx="281160" cy="2919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314360" y="3405240"/>
                <a:ext cx="277920" cy="287280"/>
                <a:chOff x="1314360" y="3405240"/>
                <a:chExt cx="277920" cy="287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366920" y="3405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366920" y="3405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450800" y="34574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450800" y="34574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460520" y="35496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460520" y="35496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314360" y="35607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314360" y="35607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400040" y="34909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1317600" y="3408480"/>
                <a:ext cx="277920" cy="288720"/>
                <a:chOff x="1317600" y="3408480"/>
                <a:chExt cx="277920" cy="2887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370160" y="34084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370160" y="34084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454040" y="346068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454040" y="346068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463760" y="35528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463760" y="35528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317600" y="356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317600" y="356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403280" y="34941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"/>
          <p:cNvSpPr/>
          <p:nvPr/>
        </p:nvSpPr>
        <p:spPr>
          <a:xfrm flipH="1">
            <a:off x="1449360" y="4116240"/>
            <a:ext cx="3031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129708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915840" y="3658680"/>
            <a:ext cx="3794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3560" y="358128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752480" y="2286000"/>
            <a:ext cx="347760" cy="353880"/>
            <a:chOff x="1752480" y="2286000"/>
            <a:chExt cx="347760" cy="353880"/>
          </a:xfrm>
        </p:grpSpPr>
        <p:grpSp>
          <p:nvGrpSpPr>
            <p:cNvPr id="453" name=""/>
            <p:cNvGrpSpPr/>
            <p:nvPr/>
          </p:nvGrpSpPr>
          <p:grpSpPr>
            <a:xfrm>
              <a:off x="1752480" y="2286000"/>
              <a:ext cx="347760" cy="353880"/>
              <a:chOff x="1752480" y="2286000"/>
              <a:chExt cx="347760" cy="353880"/>
            </a:xfrm>
          </p:grpSpPr>
          <p:sp>
            <p:nvSpPr>
              <p:cNvPr id="454" name=""/>
              <p:cNvSpPr/>
              <p:nvPr/>
            </p:nvSpPr>
            <p:spPr>
              <a:xfrm>
                <a:off x="1752480" y="23241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58960" y="23302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752480" y="22860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52480" y="22860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058840" y="22860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058840" y="22860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771560" y="2338560"/>
              <a:ext cx="281160" cy="291960"/>
              <a:chOff x="1771560" y="2338560"/>
              <a:chExt cx="281160" cy="2919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1771560" y="2338560"/>
                <a:ext cx="277920" cy="287280"/>
                <a:chOff x="1771560" y="2338560"/>
                <a:chExt cx="277920" cy="28728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824120" y="23385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824120" y="23385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908000" y="23907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08000" y="23907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17720" y="24829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17720" y="24829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771560" y="24940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71560" y="24940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57240" y="24242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774800" y="2341440"/>
                <a:ext cx="277920" cy="289080"/>
                <a:chOff x="1774800" y="2341440"/>
                <a:chExt cx="277920" cy="2890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827360" y="23414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27360" y="23414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911240" y="239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911240" y="239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20960" y="24861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920960" y="24861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774800" y="24969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774800" y="24969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860480" y="242712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"/>
          <p:cNvGrpSpPr/>
          <p:nvPr/>
        </p:nvGrpSpPr>
        <p:grpSpPr>
          <a:xfrm>
            <a:off x="2286000" y="1752480"/>
            <a:ext cx="347760" cy="354240"/>
            <a:chOff x="2286000" y="1752480"/>
            <a:chExt cx="347760" cy="354240"/>
          </a:xfrm>
        </p:grpSpPr>
        <p:grpSp>
          <p:nvGrpSpPr>
            <p:cNvPr id="482" name=""/>
            <p:cNvGrpSpPr/>
            <p:nvPr/>
          </p:nvGrpSpPr>
          <p:grpSpPr>
            <a:xfrm>
              <a:off x="2286000" y="1752480"/>
              <a:ext cx="347760" cy="354240"/>
              <a:chOff x="2286000" y="1752480"/>
              <a:chExt cx="347760" cy="354240"/>
            </a:xfrm>
          </p:grpSpPr>
          <p:sp>
            <p:nvSpPr>
              <p:cNvPr id="483" name=""/>
              <p:cNvSpPr/>
              <p:nvPr/>
            </p:nvSpPr>
            <p:spPr>
              <a:xfrm>
                <a:off x="2286000" y="17906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92480" y="179712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86000" y="17524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86000" y="17524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92360" y="17524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92360" y="17524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305080" y="1805040"/>
              <a:ext cx="280800" cy="291960"/>
              <a:chOff x="2305080" y="1805040"/>
              <a:chExt cx="280800" cy="29196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305080" y="1805040"/>
                <a:ext cx="277920" cy="287280"/>
                <a:chOff x="2305080" y="1805040"/>
                <a:chExt cx="277920" cy="2872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357280" y="18050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357280" y="18050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41520" y="18572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441520" y="18572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451240" y="19494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451240" y="19494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305080" y="19605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305080" y="19605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390760" y="18907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308320" y="1808280"/>
                <a:ext cx="277560" cy="288720"/>
                <a:chOff x="2308320" y="1808280"/>
                <a:chExt cx="277560" cy="2887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360520" y="18082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360520" y="18082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444760" y="18604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444760" y="18604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54120" y="19526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454120" y="19526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308320" y="1963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308320" y="1963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394000" y="18939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0" name=""/>
          <p:cNvSpPr/>
          <p:nvPr/>
        </p:nvSpPr>
        <p:spPr>
          <a:xfrm>
            <a:off x="1220760" y="2363760"/>
            <a:ext cx="5317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6560" y="1754280"/>
            <a:ext cx="3794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828800" y="2133720"/>
            <a:ext cx="2590920" cy="190476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24080" y="2819520"/>
            <a:ext cx="2590920" cy="266688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ual-Trunk Access Nod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17600" cy="3301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417240" cy="3301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3505320" y="2590920"/>
            <a:ext cx="417240" cy="3301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2286000" y="3276720"/>
            <a:ext cx="417600" cy="330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2670120" y="2743200"/>
            <a:ext cx="83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70120" y="3429000"/>
            <a:ext cx="83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822400"/>
            <a:ext cx="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33920" y="2898720"/>
            <a:ext cx="0" cy="3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93800" y="2822400"/>
            <a:ext cx="98748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668680" y="2820600"/>
            <a:ext cx="91116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3657600" y="4191120"/>
            <a:ext cx="347760" cy="353880"/>
            <a:chOff x="3657600" y="4191120"/>
            <a:chExt cx="347760" cy="353880"/>
          </a:xfrm>
        </p:grpSpPr>
        <p:grpSp>
          <p:nvGrpSpPr>
            <p:cNvPr id="526" name=""/>
            <p:cNvGrpSpPr/>
            <p:nvPr/>
          </p:nvGrpSpPr>
          <p:grpSpPr>
            <a:xfrm>
              <a:off x="3657600" y="4191120"/>
              <a:ext cx="347760" cy="353880"/>
              <a:chOff x="3657600" y="4191120"/>
              <a:chExt cx="347760" cy="353880"/>
            </a:xfrm>
          </p:grpSpPr>
          <p:sp>
            <p:nvSpPr>
              <p:cNvPr id="527" name=""/>
              <p:cNvSpPr/>
              <p:nvPr/>
            </p:nvSpPr>
            <p:spPr>
              <a:xfrm>
                <a:off x="3657600" y="422928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664080" y="423540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657600" y="41911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657600" y="41911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963960" y="41911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63960" y="41911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3676680" y="4243320"/>
              <a:ext cx="280800" cy="292320"/>
              <a:chOff x="3676680" y="4243320"/>
              <a:chExt cx="280800" cy="29232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3676680" y="4243320"/>
                <a:ext cx="277920" cy="287280"/>
                <a:chOff x="3676680" y="4243320"/>
                <a:chExt cx="277920" cy="2872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3728880" y="42433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728880" y="42433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813120" y="42958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813120" y="42958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822840" y="43876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22840" y="43876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676680" y="43988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676680" y="43988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762360" y="4329000"/>
                  <a:ext cx="108000" cy="1177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3679920" y="4246560"/>
                <a:ext cx="277560" cy="289080"/>
                <a:chOff x="3679920" y="4246560"/>
                <a:chExt cx="277560" cy="2890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732120" y="42465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732120" y="42465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16360" y="42991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816360" y="42991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825720" y="43909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825720" y="43909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679920" y="44020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679920" y="44020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765600" y="433224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4" name=""/>
          <p:cNvGrpSpPr/>
          <p:nvPr/>
        </p:nvGrpSpPr>
        <p:grpSpPr>
          <a:xfrm>
            <a:off x="4648320" y="4114800"/>
            <a:ext cx="347400" cy="353880"/>
            <a:chOff x="4648320" y="4114800"/>
            <a:chExt cx="347400" cy="353880"/>
          </a:xfrm>
        </p:grpSpPr>
        <p:grpSp>
          <p:nvGrpSpPr>
            <p:cNvPr id="555" name=""/>
            <p:cNvGrpSpPr/>
            <p:nvPr/>
          </p:nvGrpSpPr>
          <p:grpSpPr>
            <a:xfrm>
              <a:off x="4648320" y="4114800"/>
              <a:ext cx="347400" cy="353880"/>
              <a:chOff x="4648320" y="4114800"/>
              <a:chExt cx="347400" cy="353880"/>
            </a:xfrm>
          </p:grpSpPr>
          <p:sp>
            <p:nvSpPr>
              <p:cNvPr id="556" name=""/>
              <p:cNvSpPr/>
              <p:nvPr/>
            </p:nvSpPr>
            <p:spPr>
              <a:xfrm>
                <a:off x="4648320" y="41529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654440" y="41590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648320" y="4114800"/>
                <a:ext cx="34740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648320" y="4114800"/>
                <a:ext cx="34740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54680" y="411480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54680" y="411480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4667400" y="4167360"/>
              <a:ext cx="280800" cy="291960"/>
              <a:chOff x="4667400" y="4167360"/>
              <a:chExt cx="280800" cy="29196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4667400" y="4167360"/>
                <a:ext cx="277560" cy="287280"/>
                <a:chOff x="4667400" y="4167360"/>
                <a:chExt cx="277560" cy="28728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719600" y="416736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719600" y="416736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803840" y="421956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803840" y="421956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813200" y="4311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813200" y="4311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667400" y="4322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667400" y="4322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753080" y="42530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670280" y="4170240"/>
                <a:ext cx="277920" cy="289080"/>
                <a:chOff x="4670280" y="4170240"/>
                <a:chExt cx="277920" cy="2890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722840" y="4170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722840" y="4170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807080" y="4222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807080" y="4222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816440" y="4314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816440" y="4314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670280" y="4325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670280" y="4325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756320" y="4255920"/>
                  <a:ext cx="10764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83" name=""/>
          <p:cNvGrpSpPr/>
          <p:nvPr/>
        </p:nvGrpSpPr>
        <p:grpSpPr>
          <a:xfrm>
            <a:off x="4572000" y="3124080"/>
            <a:ext cx="347760" cy="354240"/>
            <a:chOff x="4572000" y="3124080"/>
            <a:chExt cx="347760" cy="354240"/>
          </a:xfrm>
        </p:grpSpPr>
        <p:grpSp>
          <p:nvGrpSpPr>
            <p:cNvPr id="584" name=""/>
            <p:cNvGrpSpPr/>
            <p:nvPr/>
          </p:nvGrpSpPr>
          <p:grpSpPr>
            <a:xfrm>
              <a:off x="4572000" y="3124080"/>
              <a:ext cx="347760" cy="354240"/>
              <a:chOff x="4572000" y="3124080"/>
              <a:chExt cx="347760" cy="354240"/>
            </a:xfrm>
          </p:grpSpPr>
          <p:sp>
            <p:nvSpPr>
              <p:cNvPr id="585" name=""/>
              <p:cNvSpPr/>
              <p:nvPr/>
            </p:nvSpPr>
            <p:spPr>
              <a:xfrm>
                <a:off x="4572000" y="31622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578480" y="316872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72000" y="31240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72000" y="31240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878360" y="31240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878360" y="31240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591080" y="3176640"/>
              <a:ext cx="280800" cy="291960"/>
              <a:chOff x="4591080" y="3176640"/>
              <a:chExt cx="280800" cy="29196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4591080" y="3176640"/>
                <a:ext cx="277920" cy="287280"/>
                <a:chOff x="4591080" y="3176640"/>
                <a:chExt cx="277920" cy="2872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643280" y="31766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643280" y="31766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727520" y="32288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727520" y="32288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737240" y="33210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737240" y="33210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591080" y="33321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591080" y="33321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676760" y="32623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4594320" y="3179880"/>
                <a:ext cx="277560" cy="288720"/>
                <a:chOff x="4594320" y="3179880"/>
                <a:chExt cx="277560" cy="28872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646520" y="31798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646520" y="31798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730760" y="32320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730760" y="32320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740120" y="33242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740120" y="33242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594320" y="33354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594320" y="33354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680000" y="32655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2" name=""/>
          <p:cNvSpPr/>
          <p:nvPr/>
        </p:nvSpPr>
        <p:spPr>
          <a:xfrm>
            <a:off x="3736800" y="3584520"/>
            <a:ext cx="14940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89440" y="3508200"/>
            <a:ext cx="98748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9440" y="3352680"/>
            <a:ext cx="68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5"/>
          <a:stretch/>
        </p:blipFill>
        <p:spPr>
          <a:xfrm>
            <a:off x="4648320" y="137160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5105520" y="175248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>
            <a:off x="914400" y="198108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8"/>
          <a:stretch/>
        </p:blipFill>
        <p:spPr>
          <a:xfrm>
            <a:off x="1600200" y="1371600"/>
            <a:ext cx="317520" cy="5968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 flipV="1">
            <a:off x="1830240" y="3506400"/>
            <a:ext cx="530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525680" y="3430080"/>
            <a:ext cx="7588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65200" y="2060640"/>
            <a:ext cx="14940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84320" y="2441520"/>
            <a:ext cx="30168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811680" y="2134800"/>
            <a:ext cx="37764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3887640" y="2515680"/>
            <a:ext cx="5302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562720" y="2438280"/>
            <a:ext cx="844560" cy="876600"/>
            <a:chOff x="5562720" y="2438280"/>
            <a:chExt cx="844560" cy="876600"/>
          </a:xfrm>
        </p:grpSpPr>
        <p:pic>
          <p:nvPicPr>
            <p:cNvPr id="626" name="" descr=""/>
            <p:cNvPicPr/>
            <p:nvPr/>
          </p:nvPicPr>
          <p:blipFill>
            <a:blip r:embed="rId9"/>
            <a:stretch/>
          </p:blipFill>
          <p:spPr>
            <a:xfrm>
              <a:off x="5562720" y="24382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10"/>
            <a:stretch/>
          </p:blipFill>
          <p:spPr>
            <a:xfrm>
              <a:off x="5715000" y="25909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11"/>
            <a:stretch/>
          </p:blipFill>
          <p:spPr>
            <a:xfrm>
              <a:off x="5867280" y="27432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12"/>
            <a:stretch/>
          </p:blipFill>
          <p:spPr>
            <a:xfrm>
              <a:off x="6019920" y="2895480"/>
              <a:ext cx="387360" cy="41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" name=""/>
          <p:cNvGrpSpPr/>
          <p:nvPr/>
        </p:nvGrpSpPr>
        <p:grpSpPr>
          <a:xfrm>
            <a:off x="6019920" y="3886200"/>
            <a:ext cx="844560" cy="876240"/>
            <a:chOff x="6019920" y="3886200"/>
            <a:chExt cx="844560" cy="876240"/>
          </a:xfrm>
        </p:grpSpPr>
        <p:pic>
          <p:nvPicPr>
            <p:cNvPr id="631" name="" descr=""/>
            <p:cNvPicPr/>
            <p:nvPr/>
          </p:nvPicPr>
          <p:blipFill>
            <a:blip r:embed="rId13"/>
            <a:stretch/>
          </p:blipFill>
          <p:spPr>
            <a:xfrm>
              <a:off x="6019920" y="38862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14"/>
            <a:stretch/>
          </p:blipFill>
          <p:spPr>
            <a:xfrm>
              <a:off x="6172200" y="40384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15"/>
            <a:stretch/>
          </p:blipFill>
          <p:spPr>
            <a:xfrm>
              <a:off x="6324480" y="41911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16"/>
            <a:stretch/>
          </p:blipFill>
          <p:spPr>
            <a:xfrm>
              <a:off x="6477120" y="43434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"/>
          <p:cNvGrpSpPr/>
          <p:nvPr/>
        </p:nvGrpSpPr>
        <p:grpSpPr>
          <a:xfrm>
            <a:off x="2438280" y="4800600"/>
            <a:ext cx="844560" cy="876240"/>
            <a:chOff x="2438280" y="4800600"/>
            <a:chExt cx="844560" cy="876240"/>
          </a:xfrm>
        </p:grpSpPr>
        <p:pic>
          <p:nvPicPr>
            <p:cNvPr id="636" name="" descr=""/>
            <p:cNvPicPr/>
            <p:nvPr/>
          </p:nvPicPr>
          <p:blipFill>
            <a:blip r:embed="rId17"/>
            <a:stretch/>
          </p:blipFill>
          <p:spPr>
            <a:xfrm>
              <a:off x="2438280" y="48006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18"/>
            <a:stretch/>
          </p:blipFill>
          <p:spPr>
            <a:xfrm>
              <a:off x="2590920" y="49528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19"/>
            <a:stretch/>
          </p:blipFill>
          <p:spPr>
            <a:xfrm>
              <a:off x="2743200" y="51055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0"/>
            <a:stretch/>
          </p:blipFill>
          <p:spPr>
            <a:xfrm>
              <a:off x="2895480" y="52578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0" name=""/>
          <p:cNvSpPr/>
          <p:nvPr/>
        </p:nvSpPr>
        <p:spPr>
          <a:xfrm flipV="1">
            <a:off x="4802040" y="2744640"/>
            <a:ext cx="758880" cy="3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878360" y="2896920"/>
            <a:ext cx="8352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878360" y="3125880"/>
            <a:ext cx="98748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954680" y="3277800"/>
            <a:ext cx="106344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56120" y="4191120"/>
            <a:ext cx="10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6120" y="4270320"/>
            <a:ext cx="121608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6120" y="4346640"/>
            <a:ext cx="136836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56120" y="4422600"/>
            <a:ext cx="152100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744640" y="4344840"/>
            <a:ext cx="91152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2897280" y="4497120"/>
            <a:ext cx="75888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049560" y="4497480"/>
            <a:ext cx="75888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01840" y="4497120"/>
            <a:ext cx="682920" cy="83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3809880"/>
            <a:ext cx="2819160" cy="251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525680" y="2820960"/>
            <a:ext cx="834840" cy="6825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1830240" y="3506400"/>
            <a:ext cx="1749600" cy="6066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84320" y="2441520"/>
            <a:ext cx="378000" cy="9111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41520" y="1832040"/>
            <a:ext cx="1139760" cy="1444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592360" y="1906560"/>
            <a:ext cx="1521000" cy="6825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3812760" y="2593800"/>
            <a:ext cx="606600" cy="6829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89440" y="2822400"/>
            <a:ext cx="682560" cy="4543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593800" y="3508200"/>
            <a:ext cx="1063800" cy="7588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93800" y="3508200"/>
            <a:ext cx="2054520" cy="7588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80320" y="5410080"/>
            <a:ext cx="4065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alternat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s impact of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4038480" y="1828800"/>
            <a:ext cx="347760" cy="353880"/>
            <a:chOff x="4038480" y="1828800"/>
            <a:chExt cx="347760" cy="353880"/>
          </a:xfrm>
        </p:grpSpPr>
        <p:grpSp>
          <p:nvGrpSpPr>
            <p:cNvPr id="664" name=""/>
            <p:cNvGrpSpPr/>
            <p:nvPr/>
          </p:nvGrpSpPr>
          <p:grpSpPr>
            <a:xfrm>
              <a:off x="4038480" y="1828800"/>
              <a:ext cx="347760" cy="353880"/>
              <a:chOff x="4038480" y="1828800"/>
              <a:chExt cx="347760" cy="353880"/>
            </a:xfrm>
          </p:grpSpPr>
          <p:sp>
            <p:nvSpPr>
              <p:cNvPr id="665" name=""/>
              <p:cNvSpPr/>
              <p:nvPr/>
            </p:nvSpPr>
            <p:spPr>
              <a:xfrm>
                <a:off x="4038480" y="18669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044960" y="18730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038480" y="18288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38480" y="18288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44840" y="18288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44840" y="18288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4057560" y="1881360"/>
              <a:ext cx="281160" cy="291960"/>
              <a:chOff x="4057560" y="1881360"/>
              <a:chExt cx="281160" cy="29196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4057560" y="1881360"/>
                <a:ext cx="277920" cy="287280"/>
                <a:chOff x="4057560" y="1881360"/>
                <a:chExt cx="277920" cy="28728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110120" y="18813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110120" y="18813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194000" y="19335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194000" y="19335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203720" y="2025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203720" y="2025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057560" y="2036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057560" y="2036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143240" y="19670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4060800" y="1884240"/>
                <a:ext cx="277920" cy="289080"/>
                <a:chOff x="4060800" y="1884240"/>
                <a:chExt cx="277920" cy="28908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4113360" y="1884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113360" y="1884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197240" y="19368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197240" y="19368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06960" y="2028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206960" y="2028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060800" y="2039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060800" y="2039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146480" y="196992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2" name=""/>
          <p:cNvGrpSpPr/>
          <p:nvPr/>
        </p:nvGrpSpPr>
        <p:grpSpPr>
          <a:xfrm>
            <a:off x="4343400" y="2362320"/>
            <a:ext cx="347760" cy="353880"/>
            <a:chOff x="4343400" y="2362320"/>
            <a:chExt cx="347760" cy="353880"/>
          </a:xfrm>
        </p:grpSpPr>
        <p:grpSp>
          <p:nvGrpSpPr>
            <p:cNvPr id="693" name=""/>
            <p:cNvGrpSpPr/>
            <p:nvPr/>
          </p:nvGrpSpPr>
          <p:grpSpPr>
            <a:xfrm>
              <a:off x="4343400" y="2362320"/>
              <a:ext cx="347760" cy="353880"/>
              <a:chOff x="4343400" y="2362320"/>
              <a:chExt cx="347760" cy="353880"/>
            </a:xfrm>
          </p:grpSpPr>
          <p:sp>
            <p:nvSpPr>
              <p:cNvPr id="694" name=""/>
              <p:cNvSpPr/>
              <p:nvPr/>
            </p:nvSpPr>
            <p:spPr>
              <a:xfrm>
                <a:off x="4343400" y="240048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349880" y="240660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3400" y="23623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343400" y="23623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9760" y="23623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649760" y="23623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362480" y="2414520"/>
              <a:ext cx="280800" cy="292320"/>
              <a:chOff x="4362480" y="2414520"/>
              <a:chExt cx="280800" cy="29232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4362480" y="2414520"/>
                <a:ext cx="277920" cy="287280"/>
                <a:chOff x="4362480" y="2414520"/>
                <a:chExt cx="277920" cy="28728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4414680" y="24145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414680" y="24145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498920" y="24670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498920" y="24670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508640" y="25588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508640" y="25588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362480" y="25700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362480" y="25700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448160" y="2500200"/>
                  <a:ext cx="108000" cy="1177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4365720" y="2417760"/>
                <a:ext cx="277560" cy="289080"/>
                <a:chOff x="4365720" y="2417760"/>
                <a:chExt cx="277560" cy="28908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4417920" y="24177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417920" y="24177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502160" y="24703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502160" y="24703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511520" y="25621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511520" y="25621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365720" y="25732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365720" y="25732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451400" y="250344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1" name=""/>
          <p:cNvSpPr/>
          <p:nvPr/>
        </p:nvSpPr>
        <p:spPr>
          <a:xfrm flipV="1">
            <a:off x="4344840" y="1754280"/>
            <a:ext cx="30348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649760" y="2211480"/>
            <a:ext cx="45576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457200" y="3505320"/>
            <a:ext cx="539640" cy="571320"/>
            <a:chOff x="457200" y="3505320"/>
            <a:chExt cx="539640" cy="571320"/>
          </a:xfrm>
        </p:grpSpPr>
        <p:pic>
          <p:nvPicPr>
            <p:cNvPr id="724" name="" descr=""/>
            <p:cNvPicPr/>
            <p:nvPr/>
          </p:nvPicPr>
          <p:blipFill>
            <a:blip r:embed="rId21"/>
            <a:stretch/>
          </p:blipFill>
          <p:spPr>
            <a:xfrm>
              <a:off x="457200" y="35053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22"/>
            <a:stretch/>
          </p:blipFill>
          <p:spPr>
            <a:xfrm>
              <a:off x="609480" y="36576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6" name=""/>
          <p:cNvGrpSpPr/>
          <p:nvPr/>
        </p:nvGrpSpPr>
        <p:grpSpPr>
          <a:xfrm>
            <a:off x="990720" y="4267080"/>
            <a:ext cx="539640" cy="571680"/>
            <a:chOff x="990720" y="4267080"/>
            <a:chExt cx="539640" cy="571680"/>
          </a:xfrm>
        </p:grpSpPr>
        <p:pic>
          <p:nvPicPr>
            <p:cNvPr id="727" name="" descr=""/>
            <p:cNvPicPr/>
            <p:nvPr/>
          </p:nvPicPr>
          <p:blipFill>
            <a:blip r:embed="rId23"/>
            <a:stretch/>
          </p:blipFill>
          <p:spPr>
            <a:xfrm>
              <a:off x="990720" y="42670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24"/>
            <a:stretch/>
          </p:blipFill>
          <p:spPr>
            <a:xfrm>
              <a:off x="1143000" y="441972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"/>
          <p:cNvGrpSpPr/>
          <p:nvPr/>
        </p:nvGrpSpPr>
        <p:grpSpPr>
          <a:xfrm>
            <a:off x="1676520" y="3809880"/>
            <a:ext cx="347400" cy="354240"/>
            <a:chOff x="1676520" y="3809880"/>
            <a:chExt cx="347400" cy="354240"/>
          </a:xfrm>
        </p:grpSpPr>
        <p:grpSp>
          <p:nvGrpSpPr>
            <p:cNvPr id="730" name=""/>
            <p:cNvGrpSpPr/>
            <p:nvPr/>
          </p:nvGrpSpPr>
          <p:grpSpPr>
            <a:xfrm>
              <a:off x="1676520" y="3809880"/>
              <a:ext cx="347400" cy="354240"/>
              <a:chOff x="1676520" y="3809880"/>
              <a:chExt cx="347400" cy="354240"/>
            </a:xfrm>
          </p:grpSpPr>
          <p:sp>
            <p:nvSpPr>
              <p:cNvPr id="731" name=""/>
              <p:cNvSpPr/>
              <p:nvPr/>
            </p:nvSpPr>
            <p:spPr>
              <a:xfrm>
                <a:off x="1676520" y="38480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682640" y="3854520"/>
                <a:ext cx="29376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76520" y="3809880"/>
                <a:ext cx="34740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76520" y="3809880"/>
                <a:ext cx="34740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982880" y="380988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982880" y="380988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1695600" y="3862440"/>
              <a:ext cx="280800" cy="291960"/>
              <a:chOff x="1695600" y="3862440"/>
              <a:chExt cx="280800" cy="29196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1695600" y="3862440"/>
                <a:ext cx="277560" cy="287280"/>
                <a:chOff x="1695600" y="3862440"/>
                <a:chExt cx="277560" cy="2872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1747800" y="38624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747800" y="38624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832040" y="391464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832040" y="391464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841400" y="40068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841400" y="40068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695600" y="40179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695600" y="40179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781280" y="39481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1698480" y="3865680"/>
                <a:ext cx="277920" cy="288720"/>
                <a:chOff x="1698480" y="3865680"/>
                <a:chExt cx="277920" cy="2887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1751040" y="38656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751040" y="38656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835280" y="39178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35280" y="39178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844640" y="40100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844640" y="40100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698480" y="40212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698480" y="40212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784520" y="3951360"/>
                  <a:ext cx="10764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8" name=""/>
          <p:cNvGrpSpPr/>
          <p:nvPr/>
        </p:nvGrpSpPr>
        <p:grpSpPr>
          <a:xfrm>
            <a:off x="1295280" y="3352680"/>
            <a:ext cx="347760" cy="354240"/>
            <a:chOff x="1295280" y="3352680"/>
            <a:chExt cx="347760" cy="354240"/>
          </a:xfrm>
        </p:grpSpPr>
        <p:grpSp>
          <p:nvGrpSpPr>
            <p:cNvPr id="759" name=""/>
            <p:cNvGrpSpPr/>
            <p:nvPr/>
          </p:nvGrpSpPr>
          <p:grpSpPr>
            <a:xfrm>
              <a:off x="1295280" y="3352680"/>
              <a:ext cx="347760" cy="354240"/>
              <a:chOff x="1295280" y="3352680"/>
              <a:chExt cx="347760" cy="354240"/>
            </a:xfrm>
          </p:grpSpPr>
          <p:sp>
            <p:nvSpPr>
              <p:cNvPr id="760" name=""/>
              <p:cNvSpPr/>
              <p:nvPr/>
            </p:nvSpPr>
            <p:spPr>
              <a:xfrm>
                <a:off x="1295280" y="33908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301760" y="3397320"/>
                <a:ext cx="29376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295280" y="33526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95280" y="33526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601640" y="33526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601640" y="33526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314360" y="3405240"/>
              <a:ext cx="281160" cy="291960"/>
              <a:chOff x="1314360" y="3405240"/>
              <a:chExt cx="281160" cy="29196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1314360" y="3405240"/>
                <a:ext cx="277920" cy="287280"/>
                <a:chOff x="1314360" y="3405240"/>
                <a:chExt cx="277920" cy="28728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1366920" y="3405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366920" y="3405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450800" y="34574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450800" y="34574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460520" y="35496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460520" y="35496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4360" y="35607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4360" y="35607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400040" y="34909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317600" y="3408480"/>
                <a:ext cx="277920" cy="288720"/>
                <a:chOff x="1317600" y="3408480"/>
                <a:chExt cx="277920" cy="2887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370160" y="34084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70160" y="34084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454040" y="346068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454040" y="346068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463760" y="35528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463760" y="35528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17600" y="356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17600" y="356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403280" y="34941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7" name=""/>
          <p:cNvSpPr/>
          <p:nvPr/>
        </p:nvSpPr>
        <p:spPr>
          <a:xfrm flipH="1">
            <a:off x="1449360" y="4116240"/>
            <a:ext cx="3031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129708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915840" y="3658680"/>
            <a:ext cx="3794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3560" y="358128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52480" y="2286000"/>
            <a:ext cx="347760" cy="353880"/>
            <a:chOff x="1752480" y="2286000"/>
            <a:chExt cx="347760" cy="353880"/>
          </a:xfrm>
        </p:grpSpPr>
        <p:grpSp>
          <p:nvGrpSpPr>
            <p:cNvPr id="792" name=""/>
            <p:cNvGrpSpPr/>
            <p:nvPr/>
          </p:nvGrpSpPr>
          <p:grpSpPr>
            <a:xfrm>
              <a:off x="1752480" y="2286000"/>
              <a:ext cx="347760" cy="353880"/>
              <a:chOff x="1752480" y="2286000"/>
              <a:chExt cx="347760" cy="353880"/>
            </a:xfrm>
          </p:grpSpPr>
          <p:sp>
            <p:nvSpPr>
              <p:cNvPr id="793" name=""/>
              <p:cNvSpPr/>
              <p:nvPr/>
            </p:nvSpPr>
            <p:spPr>
              <a:xfrm>
                <a:off x="1752480" y="23241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758960" y="23302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752480" y="22860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52480" y="22860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058840" y="22860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058840" y="22860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1771560" y="2338560"/>
              <a:ext cx="281160" cy="291960"/>
              <a:chOff x="1771560" y="2338560"/>
              <a:chExt cx="281160" cy="29196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1771560" y="2338560"/>
                <a:ext cx="277920" cy="287280"/>
                <a:chOff x="1771560" y="2338560"/>
                <a:chExt cx="277920" cy="2872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1824120" y="23385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824120" y="23385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08000" y="23907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908000" y="23907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917720" y="24829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1917720" y="24829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771560" y="24940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771560" y="24940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857240" y="24242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1774800" y="2341440"/>
                <a:ext cx="277920" cy="289080"/>
                <a:chOff x="1774800" y="2341440"/>
                <a:chExt cx="277920" cy="28908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1827360" y="23414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827360" y="23414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11240" y="239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911240" y="239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920960" y="24861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20960" y="24861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774800" y="24969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774800" y="24969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860480" y="242712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0" name=""/>
          <p:cNvGrpSpPr/>
          <p:nvPr/>
        </p:nvGrpSpPr>
        <p:grpSpPr>
          <a:xfrm>
            <a:off x="2286000" y="1752480"/>
            <a:ext cx="347760" cy="354240"/>
            <a:chOff x="2286000" y="1752480"/>
            <a:chExt cx="347760" cy="354240"/>
          </a:xfrm>
        </p:grpSpPr>
        <p:grpSp>
          <p:nvGrpSpPr>
            <p:cNvPr id="821" name=""/>
            <p:cNvGrpSpPr/>
            <p:nvPr/>
          </p:nvGrpSpPr>
          <p:grpSpPr>
            <a:xfrm>
              <a:off x="2286000" y="1752480"/>
              <a:ext cx="347760" cy="354240"/>
              <a:chOff x="2286000" y="1752480"/>
              <a:chExt cx="347760" cy="354240"/>
            </a:xfrm>
          </p:grpSpPr>
          <p:sp>
            <p:nvSpPr>
              <p:cNvPr id="822" name=""/>
              <p:cNvSpPr/>
              <p:nvPr/>
            </p:nvSpPr>
            <p:spPr>
              <a:xfrm>
                <a:off x="2286000" y="17906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92480" y="179712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286000" y="17524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0" y="17524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92360" y="17524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92360" y="17524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305080" y="1805040"/>
              <a:ext cx="280800" cy="291960"/>
              <a:chOff x="2305080" y="1805040"/>
              <a:chExt cx="280800" cy="29196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2305080" y="1805040"/>
                <a:ext cx="277920" cy="287280"/>
                <a:chOff x="2305080" y="1805040"/>
                <a:chExt cx="277920" cy="28728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2357280" y="18050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357280" y="18050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441520" y="18572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441520" y="18572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451240" y="19494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451240" y="19494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305080" y="19605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305080" y="19605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390760" y="18907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2308320" y="1808280"/>
                <a:ext cx="277560" cy="288720"/>
                <a:chOff x="2308320" y="1808280"/>
                <a:chExt cx="277560" cy="28872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2360520" y="18082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2360520" y="18082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2444760" y="18604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444760" y="18604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2454120" y="19526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2454120" y="19526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2308320" y="1963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308320" y="1963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2394000" y="18939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49" name=""/>
          <p:cNvSpPr/>
          <p:nvPr/>
        </p:nvSpPr>
        <p:spPr>
          <a:xfrm>
            <a:off x="1220760" y="2363760"/>
            <a:ext cx="5317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906560" y="1754280"/>
            <a:ext cx="3794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percentage of access network traffic that remains in access net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percentage of backbone network traffic that exits from the entrance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percentage of backbone network traffic that enters and exits from different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network traffic patterns become more distributed the network capacity decrea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ulate total capacity of backbone network for a given number of nod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ulate number of backbone network   nodes for a given total capa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pac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capacity if all traffic enters and leaves the same nod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N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- # nodes, c  - node capa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capacity if traffic is transmitted in symmetrical way to every other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(N + 1)c/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449520" y="2598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3929040" y="2795760"/>
            <a:ext cx="201456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548160" y="1919160"/>
            <a:ext cx="187200" cy="67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668680" y="2592360"/>
            <a:ext cx="78084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2209680" y="2362320"/>
            <a:ext cx="435240" cy="453960"/>
            <a:chOff x="2209680" y="2362320"/>
            <a:chExt cx="435240" cy="453960"/>
          </a:xfrm>
        </p:grpSpPr>
        <p:grpSp>
          <p:nvGrpSpPr>
            <p:cNvPr id="863" name=""/>
            <p:cNvGrpSpPr/>
            <p:nvPr/>
          </p:nvGrpSpPr>
          <p:grpSpPr>
            <a:xfrm>
              <a:off x="2209680" y="2362320"/>
              <a:ext cx="435240" cy="453960"/>
              <a:chOff x="2209680" y="2362320"/>
              <a:chExt cx="435240" cy="453960"/>
            </a:xfrm>
          </p:grpSpPr>
          <p:sp>
            <p:nvSpPr>
              <p:cNvPr id="864" name=""/>
              <p:cNvSpPr/>
              <p:nvPr/>
            </p:nvSpPr>
            <p:spPr>
              <a:xfrm>
                <a:off x="2209680" y="24112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217600" y="24192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33440" y="2428920"/>
              <a:ext cx="351000" cy="374760"/>
              <a:chOff x="2233440" y="2428920"/>
              <a:chExt cx="351000" cy="37476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2233440" y="2428920"/>
                <a:ext cx="347760" cy="368280"/>
                <a:chOff x="2233440" y="2428920"/>
                <a:chExt cx="347760" cy="36828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341440" y="25383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2236680" y="2433600"/>
                <a:ext cx="347760" cy="370080"/>
                <a:chOff x="2236680" y="2433600"/>
                <a:chExt cx="347760" cy="37008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344680" y="25430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91" name=""/>
          <p:cNvGrpSpPr/>
          <p:nvPr/>
        </p:nvGrpSpPr>
        <p:grpSpPr>
          <a:xfrm>
            <a:off x="3449520" y="1523880"/>
            <a:ext cx="435240" cy="454320"/>
            <a:chOff x="3449520" y="1523880"/>
            <a:chExt cx="435240" cy="454320"/>
          </a:xfrm>
        </p:grpSpPr>
        <p:grpSp>
          <p:nvGrpSpPr>
            <p:cNvPr id="892" name=""/>
            <p:cNvGrpSpPr/>
            <p:nvPr/>
          </p:nvGrpSpPr>
          <p:grpSpPr>
            <a:xfrm>
              <a:off x="3449520" y="1523880"/>
              <a:ext cx="435240" cy="454320"/>
              <a:chOff x="3449520" y="1523880"/>
              <a:chExt cx="435240" cy="454320"/>
            </a:xfrm>
          </p:grpSpPr>
          <p:sp>
            <p:nvSpPr>
              <p:cNvPr id="893" name=""/>
              <p:cNvSpPr/>
              <p:nvPr/>
            </p:nvSpPr>
            <p:spPr>
              <a:xfrm>
                <a:off x="3449520" y="157320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457440" y="15811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3473280" y="1590840"/>
              <a:ext cx="351000" cy="374400"/>
              <a:chOff x="3473280" y="1590840"/>
              <a:chExt cx="351000" cy="37440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3473280" y="1590840"/>
                <a:ext cx="347760" cy="368280"/>
                <a:chOff x="3473280" y="1590840"/>
                <a:chExt cx="347760" cy="36828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581280" y="170028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3476520" y="1595520"/>
                <a:ext cx="347760" cy="369720"/>
                <a:chOff x="3476520" y="1595520"/>
                <a:chExt cx="347760" cy="3697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584520" y="17049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3449520" y="4081320"/>
            <a:ext cx="519120" cy="42084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 flipV="1">
            <a:off x="3929040" y="4268880"/>
            <a:ext cx="19382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57600" y="4414680"/>
            <a:ext cx="0" cy="121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3505320" y="5479920"/>
            <a:ext cx="434880" cy="454320"/>
            <a:chOff x="3505320" y="5479920"/>
            <a:chExt cx="434880" cy="454320"/>
          </a:xfrm>
        </p:grpSpPr>
        <p:grpSp>
          <p:nvGrpSpPr>
            <p:cNvPr id="924" name=""/>
            <p:cNvGrpSpPr/>
            <p:nvPr/>
          </p:nvGrpSpPr>
          <p:grpSpPr>
            <a:xfrm>
              <a:off x="3505320" y="5479920"/>
              <a:ext cx="434880" cy="454320"/>
              <a:chOff x="3505320" y="5479920"/>
              <a:chExt cx="434880" cy="454320"/>
            </a:xfrm>
          </p:grpSpPr>
          <p:sp>
            <p:nvSpPr>
              <p:cNvPr id="925" name=""/>
              <p:cNvSpPr/>
              <p:nvPr/>
            </p:nvSpPr>
            <p:spPr>
              <a:xfrm>
                <a:off x="3505320" y="552924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513240" y="553716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3529080" y="5546880"/>
              <a:ext cx="350640" cy="374400"/>
              <a:chOff x="3529080" y="5546880"/>
              <a:chExt cx="350640" cy="37440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3529080" y="5546880"/>
                <a:ext cx="347760" cy="368280"/>
                <a:chOff x="3529080" y="5546880"/>
                <a:chExt cx="347760" cy="36828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637080" y="565632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532320" y="5551560"/>
                <a:ext cx="347400" cy="369720"/>
                <a:chOff x="3532320" y="5551560"/>
                <a:chExt cx="347400" cy="3697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639960" y="566100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52" name=""/>
          <p:cNvSpPr/>
          <p:nvPr/>
        </p:nvSpPr>
        <p:spPr>
          <a:xfrm>
            <a:off x="1906560" y="4260960"/>
            <a:ext cx="159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523880" y="4032360"/>
            <a:ext cx="435240" cy="453960"/>
            <a:chOff x="1523880" y="4032360"/>
            <a:chExt cx="435240" cy="453960"/>
          </a:xfrm>
        </p:grpSpPr>
        <p:grpSp>
          <p:nvGrpSpPr>
            <p:cNvPr id="954" name=""/>
            <p:cNvGrpSpPr/>
            <p:nvPr/>
          </p:nvGrpSpPr>
          <p:grpSpPr>
            <a:xfrm>
              <a:off x="1523880" y="4032360"/>
              <a:ext cx="435240" cy="453960"/>
              <a:chOff x="1523880" y="4032360"/>
              <a:chExt cx="435240" cy="453960"/>
            </a:xfrm>
          </p:grpSpPr>
          <p:sp>
            <p:nvSpPr>
              <p:cNvPr id="955" name=""/>
              <p:cNvSpPr/>
              <p:nvPr/>
            </p:nvSpPr>
            <p:spPr>
              <a:xfrm>
                <a:off x="1523880" y="408132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531800" y="408924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1547640" y="4098960"/>
              <a:ext cx="351000" cy="374760"/>
              <a:chOff x="1547640" y="4098960"/>
              <a:chExt cx="351000" cy="374760"/>
            </a:xfrm>
          </p:grpSpPr>
          <p:grpSp>
            <p:nvGrpSpPr>
              <p:cNvPr id="962" name=""/>
              <p:cNvGrpSpPr/>
              <p:nvPr/>
            </p:nvGrpSpPr>
            <p:grpSpPr>
              <a:xfrm>
                <a:off x="1547640" y="4098960"/>
                <a:ext cx="347760" cy="368280"/>
                <a:chOff x="1547640" y="4098960"/>
                <a:chExt cx="347760" cy="36828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655640" y="42084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1550880" y="4103640"/>
                <a:ext cx="347760" cy="370080"/>
                <a:chOff x="1550880" y="4103640"/>
                <a:chExt cx="347760" cy="37008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658880" y="421308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82" name=""/>
          <p:cNvSpPr/>
          <p:nvPr/>
        </p:nvSpPr>
        <p:spPr>
          <a:xfrm>
            <a:off x="3657600" y="2973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3"/>
          <a:stretch/>
        </p:blipFill>
        <p:spPr>
          <a:xfrm>
            <a:off x="5867280" y="2652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 flipV="1">
            <a:off x="6251400" y="2069640"/>
            <a:ext cx="473400" cy="5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6346800" y="2261880"/>
            <a:ext cx="104472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6535800" y="1676520"/>
            <a:ext cx="434880" cy="453960"/>
            <a:chOff x="6535800" y="1676520"/>
            <a:chExt cx="434880" cy="453960"/>
          </a:xfrm>
        </p:grpSpPr>
        <p:grpSp>
          <p:nvGrpSpPr>
            <p:cNvPr id="987" name=""/>
            <p:cNvGrpSpPr/>
            <p:nvPr/>
          </p:nvGrpSpPr>
          <p:grpSpPr>
            <a:xfrm>
              <a:off x="6535800" y="1676520"/>
              <a:ext cx="434880" cy="453960"/>
              <a:chOff x="6535800" y="1676520"/>
              <a:chExt cx="434880" cy="453960"/>
            </a:xfrm>
          </p:grpSpPr>
          <p:sp>
            <p:nvSpPr>
              <p:cNvPr id="988" name=""/>
              <p:cNvSpPr/>
              <p:nvPr/>
            </p:nvSpPr>
            <p:spPr>
              <a:xfrm>
                <a:off x="6535800" y="17254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543720" y="17334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6559560" y="1743120"/>
              <a:ext cx="351000" cy="374760"/>
              <a:chOff x="6559560" y="1743120"/>
              <a:chExt cx="351000" cy="374760"/>
            </a:xfrm>
          </p:grpSpPr>
          <p:grpSp>
            <p:nvGrpSpPr>
              <p:cNvPr id="995" name=""/>
              <p:cNvGrpSpPr/>
              <p:nvPr/>
            </p:nvGrpSpPr>
            <p:grpSpPr>
              <a:xfrm>
                <a:off x="6559560" y="1743120"/>
                <a:ext cx="347760" cy="368280"/>
                <a:chOff x="6559560" y="1743120"/>
                <a:chExt cx="347760" cy="3682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667560" y="18525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6562800" y="1747800"/>
                <a:ext cx="347760" cy="370080"/>
                <a:chOff x="6562800" y="1747800"/>
                <a:chExt cx="347760" cy="37008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670800" y="185724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15" name=""/>
          <p:cNvGrpSpPr/>
          <p:nvPr/>
        </p:nvGrpSpPr>
        <p:grpSpPr>
          <a:xfrm>
            <a:off x="7392960" y="1968480"/>
            <a:ext cx="434880" cy="453960"/>
            <a:chOff x="7392960" y="1968480"/>
            <a:chExt cx="434880" cy="453960"/>
          </a:xfrm>
        </p:grpSpPr>
        <p:grpSp>
          <p:nvGrpSpPr>
            <p:cNvPr id="1016" name=""/>
            <p:cNvGrpSpPr/>
            <p:nvPr/>
          </p:nvGrpSpPr>
          <p:grpSpPr>
            <a:xfrm>
              <a:off x="7392960" y="1968480"/>
              <a:ext cx="434880" cy="453960"/>
              <a:chOff x="7392960" y="1968480"/>
              <a:chExt cx="434880" cy="453960"/>
            </a:xfrm>
          </p:grpSpPr>
          <p:sp>
            <p:nvSpPr>
              <p:cNvPr id="1017" name=""/>
              <p:cNvSpPr/>
              <p:nvPr/>
            </p:nvSpPr>
            <p:spPr>
              <a:xfrm>
                <a:off x="7392960" y="201780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00880" y="20257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7416720" y="2035080"/>
              <a:ext cx="351000" cy="374760"/>
              <a:chOff x="7416720" y="2035080"/>
              <a:chExt cx="351000" cy="37476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7416720" y="2035080"/>
                <a:ext cx="347760" cy="368280"/>
                <a:chOff x="7416720" y="2035080"/>
                <a:chExt cx="347760" cy="36828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524720" y="2144880"/>
                  <a:ext cx="135000" cy="150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7419960" y="2039760"/>
                <a:ext cx="347760" cy="370080"/>
                <a:chOff x="7419960" y="2039760"/>
                <a:chExt cx="347760" cy="37008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527960" y="21495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44" name="" descr=""/>
          <p:cNvPicPr/>
          <p:nvPr/>
        </p:nvPicPr>
        <p:blipFill>
          <a:blip r:embed="rId4"/>
          <a:stretch/>
        </p:blipFill>
        <p:spPr>
          <a:xfrm>
            <a:off x="5867280" y="4135320"/>
            <a:ext cx="519120" cy="420840"/>
          </a:xfrm>
          <a:prstGeom prst="rect">
            <a:avLst/>
          </a:prstGeom>
          <a:ln w="0">
            <a:noFill/>
          </a:ln>
        </p:spPr>
      </p:pic>
      <p:grpSp>
        <p:nvGrpSpPr>
          <p:cNvPr id="1045" name=""/>
          <p:cNvGrpSpPr/>
          <p:nvPr/>
        </p:nvGrpSpPr>
        <p:grpSpPr>
          <a:xfrm>
            <a:off x="6058080" y="5308560"/>
            <a:ext cx="434880" cy="453960"/>
            <a:chOff x="6058080" y="5308560"/>
            <a:chExt cx="434880" cy="453960"/>
          </a:xfrm>
        </p:grpSpPr>
        <p:grpSp>
          <p:nvGrpSpPr>
            <p:cNvPr id="1046" name=""/>
            <p:cNvGrpSpPr/>
            <p:nvPr/>
          </p:nvGrpSpPr>
          <p:grpSpPr>
            <a:xfrm>
              <a:off x="6058080" y="5308560"/>
              <a:ext cx="434880" cy="453960"/>
              <a:chOff x="6058080" y="5308560"/>
              <a:chExt cx="434880" cy="453960"/>
            </a:xfrm>
          </p:grpSpPr>
          <p:sp>
            <p:nvSpPr>
              <p:cNvPr id="1047" name=""/>
              <p:cNvSpPr/>
              <p:nvPr/>
            </p:nvSpPr>
            <p:spPr>
              <a:xfrm>
                <a:off x="6058080" y="5357880"/>
                <a:ext cx="38232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066000" y="536580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6081840" y="5375160"/>
              <a:ext cx="350640" cy="374760"/>
              <a:chOff x="6081840" y="5375160"/>
              <a:chExt cx="350640" cy="37476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6081840" y="5375160"/>
                <a:ext cx="347400" cy="368280"/>
                <a:chOff x="6081840" y="5375160"/>
                <a:chExt cx="347400" cy="36828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189840" y="5484960"/>
                  <a:ext cx="13464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6084720" y="5380200"/>
                <a:ext cx="347760" cy="369720"/>
                <a:chOff x="6084720" y="5380200"/>
                <a:chExt cx="347760" cy="36972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192720" y="548964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74" name=""/>
          <p:cNvGrpSpPr/>
          <p:nvPr/>
        </p:nvGrpSpPr>
        <p:grpSpPr>
          <a:xfrm>
            <a:off x="7066080" y="4772160"/>
            <a:ext cx="434880" cy="453960"/>
            <a:chOff x="7066080" y="4772160"/>
            <a:chExt cx="434880" cy="453960"/>
          </a:xfrm>
        </p:grpSpPr>
        <p:grpSp>
          <p:nvGrpSpPr>
            <p:cNvPr id="1075" name=""/>
            <p:cNvGrpSpPr/>
            <p:nvPr/>
          </p:nvGrpSpPr>
          <p:grpSpPr>
            <a:xfrm>
              <a:off x="7066080" y="4772160"/>
              <a:ext cx="434880" cy="453960"/>
              <a:chOff x="7066080" y="4772160"/>
              <a:chExt cx="434880" cy="453960"/>
            </a:xfrm>
          </p:grpSpPr>
          <p:sp>
            <p:nvSpPr>
              <p:cNvPr id="1076" name=""/>
              <p:cNvSpPr/>
              <p:nvPr/>
            </p:nvSpPr>
            <p:spPr>
              <a:xfrm>
                <a:off x="7066080" y="482112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74000" y="4829040"/>
                <a:ext cx="36648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7089840" y="4838760"/>
              <a:ext cx="350640" cy="374760"/>
              <a:chOff x="7089840" y="4838760"/>
              <a:chExt cx="350640" cy="37476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7089840" y="4838760"/>
                <a:ext cx="347760" cy="368280"/>
                <a:chOff x="7089840" y="4838760"/>
                <a:chExt cx="347760" cy="3682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197840" y="49482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7093080" y="4843440"/>
                <a:ext cx="347400" cy="370080"/>
                <a:chOff x="7093080" y="4843440"/>
                <a:chExt cx="347400" cy="3700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7201080" y="495288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3" name=""/>
          <p:cNvGrpSpPr/>
          <p:nvPr/>
        </p:nvGrpSpPr>
        <p:grpSpPr>
          <a:xfrm>
            <a:off x="7202520" y="3940200"/>
            <a:ext cx="434880" cy="453960"/>
            <a:chOff x="7202520" y="3940200"/>
            <a:chExt cx="434880" cy="453960"/>
          </a:xfrm>
        </p:grpSpPr>
        <p:grpSp>
          <p:nvGrpSpPr>
            <p:cNvPr id="1104" name=""/>
            <p:cNvGrpSpPr/>
            <p:nvPr/>
          </p:nvGrpSpPr>
          <p:grpSpPr>
            <a:xfrm>
              <a:off x="7202520" y="3940200"/>
              <a:ext cx="434880" cy="453960"/>
              <a:chOff x="7202520" y="3940200"/>
              <a:chExt cx="434880" cy="453960"/>
            </a:xfrm>
          </p:grpSpPr>
          <p:sp>
            <p:nvSpPr>
              <p:cNvPr id="1105" name=""/>
              <p:cNvSpPr/>
              <p:nvPr/>
            </p:nvSpPr>
            <p:spPr>
              <a:xfrm>
                <a:off x="7202520" y="398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10440" y="399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7226280" y="4006800"/>
              <a:ext cx="351000" cy="374760"/>
              <a:chOff x="7226280" y="4006800"/>
              <a:chExt cx="351000" cy="37476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7226280" y="4006800"/>
                <a:ext cx="347760" cy="368280"/>
                <a:chOff x="7226280" y="4006800"/>
                <a:chExt cx="347760" cy="3682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334280" y="411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7229520" y="4011480"/>
                <a:ext cx="347760" cy="370080"/>
                <a:chOff x="7229520" y="4011480"/>
                <a:chExt cx="347760" cy="37008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337520" y="412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2" name=""/>
          <p:cNvSpPr/>
          <p:nvPr/>
        </p:nvSpPr>
        <p:spPr>
          <a:xfrm>
            <a:off x="6157800" y="4530600"/>
            <a:ext cx="187560" cy="77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48240" y="4432320"/>
            <a:ext cx="717840" cy="5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348240" y="4233960"/>
            <a:ext cx="85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075360" y="3027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7446960" y="2644920"/>
            <a:ext cx="434880" cy="453960"/>
            <a:chOff x="7446960" y="2644920"/>
            <a:chExt cx="434880" cy="453960"/>
          </a:xfrm>
        </p:grpSpPr>
        <p:grpSp>
          <p:nvGrpSpPr>
            <p:cNvPr id="1137" name=""/>
            <p:cNvGrpSpPr/>
            <p:nvPr/>
          </p:nvGrpSpPr>
          <p:grpSpPr>
            <a:xfrm>
              <a:off x="7446960" y="2644920"/>
              <a:ext cx="434880" cy="453960"/>
              <a:chOff x="7446960" y="2644920"/>
              <a:chExt cx="434880" cy="453960"/>
            </a:xfrm>
          </p:grpSpPr>
          <p:sp>
            <p:nvSpPr>
              <p:cNvPr id="1138" name=""/>
              <p:cNvSpPr/>
              <p:nvPr/>
            </p:nvSpPr>
            <p:spPr>
              <a:xfrm>
                <a:off x="7446960" y="26938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54880" y="27018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7470720" y="2711520"/>
              <a:ext cx="351000" cy="374760"/>
              <a:chOff x="7470720" y="2711520"/>
              <a:chExt cx="351000" cy="374760"/>
            </a:xfrm>
          </p:grpSpPr>
          <p:grpSp>
            <p:nvGrpSpPr>
              <p:cNvPr id="1145" name=""/>
              <p:cNvGrpSpPr/>
              <p:nvPr/>
            </p:nvGrpSpPr>
            <p:grpSpPr>
              <a:xfrm>
                <a:off x="7470720" y="2711520"/>
                <a:ext cx="347760" cy="368280"/>
                <a:chOff x="7470720" y="2711520"/>
                <a:chExt cx="347760" cy="3682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7578720" y="28209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7473960" y="2716200"/>
                <a:ext cx="347760" cy="370080"/>
                <a:chOff x="7473960" y="2716200"/>
                <a:chExt cx="347760" cy="3700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7581960" y="28256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5" name=""/>
          <p:cNvGrpSpPr/>
          <p:nvPr/>
        </p:nvGrpSpPr>
        <p:grpSpPr>
          <a:xfrm>
            <a:off x="2514600" y="1600200"/>
            <a:ext cx="434880" cy="453960"/>
            <a:chOff x="2514600" y="1600200"/>
            <a:chExt cx="434880" cy="453960"/>
          </a:xfrm>
        </p:grpSpPr>
        <p:grpSp>
          <p:nvGrpSpPr>
            <p:cNvPr id="1166" name=""/>
            <p:cNvGrpSpPr/>
            <p:nvPr/>
          </p:nvGrpSpPr>
          <p:grpSpPr>
            <a:xfrm>
              <a:off x="2514600" y="1600200"/>
              <a:ext cx="434880" cy="453960"/>
              <a:chOff x="2514600" y="1600200"/>
              <a:chExt cx="434880" cy="453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2514600" y="164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522520" y="165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2538360" y="1666800"/>
              <a:ext cx="351000" cy="374760"/>
              <a:chOff x="2538360" y="1666800"/>
              <a:chExt cx="351000" cy="374760"/>
            </a:xfrm>
          </p:grpSpPr>
          <p:grpSp>
            <p:nvGrpSpPr>
              <p:cNvPr id="1174" name=""/>
              <p:cNvGrpSpPr/>
              <p:nvPr/>
            </p:nvGrpSpPr>
            <p:grpSpPr>
              <a:xfrm>
                <a:off x="2538360" y="1666800"/>
                <a:ext cx="347760" cy="368280"/>
                <a:chOff x="2538360" y="1666800"/>
                <a:chExt cx="347760" cy="36828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646360" y="177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2541600" y="1671480"/>
                <a:ext cx="347760" cy="370080"/>
                <a:chOff x="2541600" y="1671480"/>
                <a:chExt cx="347760" cy="37008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649600" y="178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94" name=""/>
          <p:cNvSpPr/>
          <p:nvPr/>
        </p:nvSpPr>
        <p:spPr>
          <a:xfrm>
            <a:off x="2897280" y="1982880"/>
            <a:ext cx="60804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363760" y="44956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429000" y="4497480"/>
            <a:ext cx="0" cy="912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7320" y="4724280"/>
            <a:ext cx="2462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s and le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same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09880" y="3583080"/>
            <a:ext cx="0" cy="45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3811320" y="403848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960720" y="2971800"/>
            <a:ext cx="1910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%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89200" y="5851440"/>
            <a:ext cx="4002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traffic is distributed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ckbon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32448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3449520" y="2598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929040" y="2795760"/>
            <a:ext cx="201456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48160" y="1919160"/>
            <a:ext cx="187200" cy="67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668680" y="2592360"/>
            <a:ext cx="78084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2209680" y="2362320"/>
            <a:ext cx="435240" cy="453960"/>
            <a:chOff x="2209680" y="2362320"/>
            <a:chExt cx="435240" cy="453960"/>
          </a:xfrm>
        </p:grpSpPr>
        <p:grpSp>
          <p:nvGrpSpPr>
            <p:cNvPr id="1209" name=""/>
            <p:cNvGrpSpPr/>
            <p:nvPr/>
          </p:nvGrpSpPr>
          <p:grpSpPr>
            <a:xfrm>
              <a:off x="2209680" y="2362320"/>
              <a:ext cx="435240" cy="453960"/>
              <a:chOff x="2209680" y="2362320"/>
              <a:chExt cx="435240" cy="453960"/>
            </a:xfrm>
          </p:grpSpPr>
          <p:sp>
            <p:nvSpPr>
              <p:cNvPr id="1210" name=""/>
              <p:cNvSpPr/>
              <p:nvPr/>
            </p:nvSpPr>
            <p:spPr>
              <a:xfrm>
                <a:off x="2209680" y="24112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217600" y="24192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2233440" y="2428920"/>
              <a:ext cx="351000" cy="374760"/>
              <a:chOff x="2233440" y="2428920"/>
              <a:chExt cx="351000" cy="374760"/>
            </a:xfrm>
          </p:grpSpPr>
          <p:grpSp>
            <p:nvGrpSpPr>
              <p:cNvPr id="1217" name=""/>
              <p:cNvGrpSpPr/>
              <p:nvPr/>
            </p:nvGrpSpPr>
            <p:grpSpPr>
              <a:xfrm>
                <a:off x="2233440" y="2428920"/>
                <a:ext cx="347760" cy="368280"/>
                <a:chOff x="2233440" y="2428920"/>
                <a:chExt cx="347760" cy="36828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341440" y="25383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2236680" y="2433600"/>
                <a:ext cx="347760" cy="370080"/>
                <a:chOff x="2236680" y="2433600"/>
                <a:chExt cx="347760" cy="3700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344680" y="25430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37" name=""/>
          <p:cNvGrpSpPr/>
          <p:nvPr/>
        </p:nvGrpSpPr>
        <p:grpSpPr>
          <a:xfrm>
            <a:off x="3449520" y="1523880"/>
            <a:ext cx="435240" cy="454320"/>
            <a:chOff x="3449520" y="1523880"/>
            <a:chExt cx="435240" cy="454320"/>
          </a:xfrm>
        </p:grpSpPr>
        <p:grpSp>
          <p:nvGrpSpPr>
            <p:cNvPr id="1238" name=""/>
            <p:cNvGrpSpPr/>
            <p:nvPr/>
          </p:nvGrpSpPr>
          <p:grpSpPr>
            <a:xfrm>
              <a:off x="3449520" y="1523880"/>
              <a:ext cx="435240" cy="454320"/>
              <a:chOff x="3449520" y="1523880"/>
              <a:chExt cx="435240" cy="454320"/>
            </a:xfrm>
          </p:grpSpPr>
          <p:sp>
            <p:nvSpPr>
              <p:cNvPr id="1239" name=""/>
              <p:cNvSpPr/>
              <p:nvPr/>
            </p:nvSpPr>
            <p:spPr>
              <a:xfrm>
                <a:off x="3449520" y="157320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57440" y="15811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3473280" y="1590840"/>
              <a:ext cx="351000" cy="374400"/>
              <a:chOff x="3473280" y="1590840"/>
              <a:chExt cx="351000" cy="374400"/>
            </a:xfrm>
          </p:grpSpPr>
          <p:grpSp>
            <p:nvGrpSpPr>
              <p:cNvPr id="1246" name=""/>
              <p:cNvGrpSpPr/>
              <p:nvPr/>
            </p:nvGrpSpPr>
            <p:grpSpPr>
              <a:xfrm>
                <a:off x="3473280" y="1590840"/>
                <a:ext cx="347760" cy="368280"/>
                <a:chOff x="3473280" y="1590840"/>
                <a:chExt cx="347760" cy="36828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581280" y="170028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3476520" y="1595520"/>
                <a:ext cx="347760" cy="369720"/>
                <a:chOff x="3476520" y="1595520"/>
                <a:chExt cx="347760" cy="3697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3584520" y="17049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266" name="" descr=""/>
          <p:cNvPicPr/>
          <p:nvPr/>
        </p:nvPicPr>
        <p:blipFill>
          <a:blip r:embed="rId2"/>
          <a:stretch/>
        </p:blipFill>
        <p:spPr>
          <a:xfrm>
            <a:off x="3449520" y="4081320"/>
            <a:ext cx="519120" cy="42084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 flipV="1">
            <a:off x="3929040" y="4268880"/>
            <a:ext cx="19382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657600" y="4414680"/>
            <a:ext cx="0" cy="121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505320" y="5479920"/>
            <a:ext cx="434880" cy="454320"/>
            <a:chOff x="3505320" y="5479920"/>
            <a:chExt cx="434880" cy="454320"/>
          </a:xfrm>
        </p:grpSpPr>
        <p:grpSp>
          <p:nvGrpSpPr>
            <p:cNvPr id="1270" name=""/>
            <p:cNvGrpSpPr/>
            <p:nvPr/>
          </p:nvGrpSpPr>
          <p:grpSpPr>
            <a:xfrm>
              <a:off x="3505320" y="5479920"/>
              <a:ext cx="434880" cy="454320"/>
              <a:chOff x="3505320" y="5479920"/>
              <a:chExt cx="434880" cy="454320"/>
            </a:xfrm>
          </p:grpSpPr>
          <p:sp>
            <p:nvSpPr>
              <p:cNvPr id="1271" name=""/>
              <p:cNvSpPr/>
              <p:nvPr/>
            </p:nvSpPr>
            <p:spPr>
              <a:xfrm>
                <a:off x="3505320" y="552924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513240" y="553716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3529080" y="5546880"/>
              <a:ext cx="350640" cy="374400"/>
              <a:chOff x="3529080" y="5546880"/>
              <a:chExt cx="350640" cy="374400"/>
            </a:xfrm>
          </p:grpSpPr>
          <p:grpSp>
            <p:nvGrpSpPr>
              <p:cNvPr id="1278" name=""/>
              <p:cNvGrpSpPr/>
              <p:nvPr/>
            </p:nvGrpSpPr>
            <p:grpSpPr>
              <a:xfrm>
                <a:off x="3529080" y="5546880"/>
                <a:ext cx="347760" cy="368280"/>
                <a:chOff x="3529080" y="5546880"/>
                <a:chExt cx="347760" cy="36828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637080" y="565632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3532320" y="5551560"/>
                <a:ext cx="347400" cy="369720"/>
                <a:chOff x="3532320" y="5551560"/>
                <a:chExt cx="347400" cy="36972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3639960" y="566100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8" name=""/>
          <p:cNvSpPr/>
          <p:nvPr/>
        </p:nvSpPr>
        <p:spPr>
          <a:xfrm>
            <a:off x="1906560" y="4260960"/>
            <a:ext cx="159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1523880" y="4032360"/>
            <a:ext cx="435240" cy="453960"/>
            <a:chOff x="1523880" y="4032360"/>
            <a:chExt cx="435240" cy="453960"/>
          </a:xfrm>
        </p:grpSpPr>
        <p:grpSp>
          <p:nvGrpSpPr>
            <p:cNvPr id="1300" name=""/>
            <p:cNvGrpSpPr/>
            <p:nvPr/>
          </p:nvGrpSpPr>
          <p:grpSpPr>
            <a:xfrm>
              <a:off x="1523880" y="4032360"/>
              <a:ext cx="435240" cy="453960"/>
              <a:chOff x="1523880" y="4032360"/>
              <a:chExt cx="435240" cy="453960"/>
            </a:xfrm>
          </p:grpSpPr>
          <p:sp>
            <p:nvSpPr>
              <p:cNvPr id="1301" name=""/>
              <p:cNvSpPr/>
              <p:nvPr/>
            </p:nvSpPr>
            <p:spPr>
              <a:xfrm>
                <a:off x="1523880" y="408132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531800" y="408924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1547640" y="4098960"/>
              <a:ext cx="351000" cy="374760"/>
              <a:chOff x="1547640" y="4098960"/>
              <a:chExt cx="351000" cy="374760"/>
            </a:xfrm>
          </p:grpSpPr>
          <p:grpSp>
            <p:nvGrpSpPr>
              <p:cNvPr id="1308" name=""/>
              <p:cNvGrpSpPr/>
              <p:nvPr/>
            </p:nvGrpSpPr>
            <p:grpSpPr>
              <a:xfrm>
                <a:off x="1547640" y="4098960"/>
                <a:ext cx="347760" cy="368280"/>
                <a:chOff x="1547640" y="4098960"/>
                <a:chExt cx="347760" cy="36828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655640" y="42084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1550880" y="4103640"/>
                <a:ext cx="347760" cy="370080"/>
                <a:chOff x="1550880" y="4103640"/>
                <a:chExt cx="347760" cy="37008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1658880" y="421308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28" name=""/>
          <p:cNvSpPr/>
          <p:nvPr/>
        </p:nvSpPr>
        <p:spPr>
          <a:xfrm>
            <a:off x="3657600" y="2973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3"/>
          <a:stretch/>
        </p:blipFill>
        <p:spPr>
          <a:xfrm>
            <a:off x="5867280" y="2652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 flipV="1">
            <a:off x="6251400" y="2069640"/>
            <a:ext cx="473400" cy="5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6346800" y="2261880"/>
            <a:ext cx="104472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6535800" y="1676520"/>
            <a:ext cx="434880" cy="453960"/>
            <a:chOff x="6535800" y="1676520"/>
            <a:chExt cx="434880" cy="453960"/>
          </a:xfrm>
        </p:grpSpPr>
        <p:grpSp>
          <p:nvGrpSpPr>
            <p:cNvPr id="1333" name=""/>
            <p:cNvGrpSpPr/>
            <p:nvPr/>
          </p:nvGrpSpPr>
          <p:grpSpPr>
            <a:xfrm>
              <a:off x="6535800" y="1676520"/>
              <a:ext cx="434880" cy="453960"/>
              <a:chOff x="6535800" y="1676520"/>
              <a:chExt cx="434880" cy="453960"/>
            </a:xfrm>
          </p:grpSpPr>
          <p:sp>
            <p:nvSpPr>
              <p:cNvPr id="1334" name=""/>
              <p:cNvSpPr/>
              <p:nvPr/>
            </p:nvSpPr>
            <p:spPr>
              <a:xfrm>
                <a:off x="6535800" y="17254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543720" y="17334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6559560" y="1743120"/>
              <a:ext cx="351000" cy="374760"/>
              <a:chOff x="6559560" y="1743120"/>
              <a:chExt cx="351000" cy="374760"/>
            </a:xfrm>
          </p:grpSpPr>
          <p:grpSp>
            <p:nvGrpSpPr>
              <p:cNvPr id="1341" name=""/>
              <p:cNvGrpSpPr/>
              <p:nvPr/>
            </p:nvGrpSpPr>
            <p:grpSpPr>
              <a:xfrm>
                <a:off x="6559560" y="1743120"/>
                <a:ext cx="347760" cy="368280"/>
                <a:chOff x="6559560" y="1743120"/>
                <a:chExt cx="347760" cy="36828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6667560" y="18525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"/>
              <p:cNvGrpSpPr/>
              <p:nvPr/>
            </p:nvGrpSpPr>
            <p:grpSpPr>
              <a:xfrm>
                <a:off x="6562800" y="1747800"/>
                <a:ext cx="347760" cy="370080"/>
                <a:chOff x="6562800" y="1747800"/>
                <a:chExt cx="347760" cy="370080"/>
              </a:xfrm>
            </p:grpSpPr>
            <p:sp>
              <p:nvSpPr>
                <p:cNvPr id="1352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670800" y="185724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1" name=""/>
          <p:cNvGrpSpPr/>
          <p:nvPr/>
        </p:nvGrpSpPr>
        <p:grpSpPr>
          <a:xfrm>
            <a:off x="7392960" y="1968480"/>
            <a:ext cx="434880" cy="453960"/>
            <a:chOff x="7392960" y="1968480"/>
            <a:chExt cx="434880" cy="453960"/>
          </a:xfrm>
        </p:grpSpPr>
        <p:grpSp>
          <p:nvGrpSpPr>
            <p:cNvPr id="1362" name=""/>
            <p:cNvGrpSpPr/>
            <p:nvPr/>
          </p:nvGrpSpPr>
          <p:grpSpPr>
            <a:xfrm>
              <a:off x="7392960" y="1968480"/>
              <a:ext cx="434880" cy="453960"/>
              <a:chOff x="7392960" y="1968480"/>
              <a:chExt cx="434880" cy="453960"/>
            </a:xfrm>
          </p:grpSpPr>
          <p:sp>
            <p:nvSpPr>
              <p:cNvPr id="1363" name=""/>
              <p:cNvSpPr/>
              <p:nvPr/>
            </p:nvSpPr>
            <p:spPr>
              <a:xfrm>
                <a:off x="7392960" y="201780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00880" y="20257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7416720" y="2035080"/>
              <a:ext cx="351000" cy="374760"/>
              <a:chOff x="7416720" y="2035080"/>
              <a:chExt cx="351000" cy="37476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7416720" y="2035080"/>
                <a:ext cx="347760" cy="368280"/>
                <a:chOff x="7416720" y="2035080"/>
                <a:chExt cx="347760" cy="36828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7524720" y="2144880"/>
                  <a:ext cx="135000" cy="150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7419960" y="2039760"/>
                <a:ext cx="347760" cy="370080"/>
                <a:chOff x="7419960" y="2039760"/>
                <a:chExt cx="347760" cy="3700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7527960" y="21495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90" name="" descr=""/>
          <p:cNvPicPr/>
          <p:nvPr/>
        </p:nvPicPr>
        <p:blipFill>
          <a:blip r:embed="rId4"/>
          <a:stretch/>
        </p:blipFill>
        <p:spPr>
          <a:xfrm>
            <a:off x="5867280" y="4135320"/>
            <a:ext cx="519120" cy="420840"/>
          </a:xfrm>
          <a:prstGeom prst="rect">
            <a:avLst/>
          </a:prstGeom>
          <a:ln w="0">
            <a:noFill/>
          </a:ln>
        </p:spPr>
      </p:pic>
      <p:grpSp>
        <p:nvGrpSpPr>
          <p:cNvPr id="1391" name=""/>
          <p:cNvGrpSpPr/>
          <p:nvPr/>
        </p:nvGrpSpPr>
        <p:grpSpPr>
          <a:xfrm>
            <a:off x="6058080" y="5308560"/>
            <a:ext cx="434880" cy="453960"/>
            <a:chOff x="6058080" y="5308560"/>
            <a:chExt cx="434880" cy="453960"/>
          </a:xfrm>
        </p:grpSpPr>
        <p:grpSp>
          <p:nvGrpSpPr>
            <p:cNvPr id="1392" name=""/>
            <p:cNvGrpSpPr/>
            <p:nvPr/>
          </p:nvGrpSpPr>
          <p:grpSpPr>
            <a:xfrm>
              <a:off x="6058080" y="5308560"/>
              <a:ext cx="434880" cy="453960"/>
              <a:chOff x="6058080" y="5308560"/>
              <a:chExt cx="434880" cy="453960"/>
            </a:xfrm>
          </p:grpSpPr>
          <p:sp>
            <p:nvSpPr>
              <p:cNvPr id="1393" name=""/>
              <p:cNvSpPr/>
              <p:nvPr/>
            </p:nvSpPr>
            <p:spPr>
              <a:xfrm>
                <a:off x="6058080" y="5357880"/>
                <a:ext cx="38232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066000" y="536580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6081840" y="5375160"/>
              <a:ext cx="350640" cy="374760"/>
              <a:chOff x="6081840" y="5375160"/>
              <a:chExt cx="350640" cy="3747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6081840" y="5375160"/>
                <a:ext cx="347400" cy="368280"/>
                <a:chOff x="6081840" y="5375160"/>
                <a:chExt cx="347400" cy="36828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6189840" y="5484960"/>
                  <a:ext cx="13464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6084720" y="5380200"/>
                <a:ext cx="347760" cy="369720"/>
                <a:chOff x="6084720" y="5380200"/>
                <a:chExt cx="347760" cy="36972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192720" y="548964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0" name=""/>
          <p:cNvGrpSpPr/>
          <p:nvPr/>
        </p:nvGrpSpPr>
        <p:grpSpPr>
          <a:xfrm>
            <a:off x="7066080" y="4772160"/>
            <a:ext cx="434880" cy="453960"/>
            <a:chOff x="7066080" y="4772160"/>
            <a:chExt cx="434880" cy="453960"/>
          </a:xfrm>
        </p:grpSpPr>
        <p:grpSp>
          <p:nvGrpSpPr>
            <p:cNvPr id="1421" name=""/>
            <p:cNvGrpSpPr/>
            <p:nvPr/>
          </p:nvGrpSpPr>
          <p:grpSpPr>
            <a:xfrm>
              <a:off x="7066080" y="4772160"/>
              <a:ext cx="434880" cy="453960"/>
              <a:chOff x="7066080" y="4772160"/>
              <a:chExt cx="434880" cy="453960"/>
            </a:xfrm>
          </p:grpSpPr>
          <p:sp>
            <p:nvSpPr>
              <p:cNvPr id="1422" name=""/>
              <p:cNvSpPr/>
              <p:nvPr/>
            </p:nvSpPr>
            <p:spPr>
              <a:xfrm>
                <a:off x="7066080" y="482112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074000" y="4829040"/>
                <a:ext cx="36648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7089840" y="4838760"/>
              <a:ext cx="350640" cy="374760"/>
              <a:chOff x="7089840" y="4838760"/>
              <a:chExt cx="350640" cy="374760"/>
            </a:xfrm>
          </p:grpSpPr>
          <p:grpSp>
            <p:nvGrpSpPr>
              <p:cNvPr id="1429" name=""/>
              <p:cNvGrpSpPr/>
              <p:nvPr/>
            </p:nvGrpSpPr>
            <p:grpSpPr>
              <a:xfrm>
                <a:off x="7089840" y="4838760"/>
                <a:ext cx="347760" cy="368280"/>
                <a:chOff x="7089840" y="4838760"/>
                <a:chExt cx="347760" cy="36828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7197840" y="49482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7093080" y="4843440"/>
                <a:ext cx="347400" cy="370080"/>
                <a:chOff x="7093080" y="4843440"/>
                <a:chExt cx="347400" cy="3700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201080" y="495288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9" name=""/>
          <p:cNvGrpSpPr/>
          <p:nvPr/>
        </p:nvGrpSpPr>
        <p:grpSpPr>
          <a:xfrm>
            <a:off x="7202520" y="3940200"/>
            <a:ext cx="434880" cy="453960"/>
            <a:chOff x="7202520" y="3940200"/>
            <a:chExt cx="434880" cy="453960"/>
          </a:xfrm>
        </p:grpSpPr>
        <p:grpSp>
          <p:nvGrpSpPr>
            <p:cNvPr id="1450" name=""/>
            <p:cNvGrpSpPr/>
            <p:nvPr/>
          </p:nvGrpSpPr>
          <p:grpSpPr>
            <a:xfrm>
              <a:off x="7202520" y="3940200"/>
              <a:ext cx="434880" cy="453960"/>
              <a:chOff x="7202520" y="3940200"/>
              <a:chExt cx="434880" cy="453960"/>
            </a:xfrm>
          </p:grpSpPr>
          <p:sp>
            <p:nvSpPr>
              <p:cNvPr id="1451" name=""/>
              <p:cNvSpPr/>
              <p:nvPr/>
            </p:nvSpPr>
            <p:spPr>
              <a:xfrm>
                <a:off x="7202520" y="398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210440" y="399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7226280" y="4006800"/>
              <a:ext cx="351000" cy="374760"/>
              <a:chOff x="7226280" y="4006800"/>
              <a:chExt cx="351000" cy="374760"/>
            </a:xfrm>
          </p:grpSpPr>
          <p:grpSp>
            <p:nvGrpSpPr>
              <p:cNvPr id="1458" name=""/>
              <p:cNvGrpSpPr/>
              <p:nvPr/>
            </p:nvGrpSpPr>
            <p:grpSpPr>
              <a:xfrm>
                <a:off x="7226280" y="4006800"/>
                <a:ext cx="347760" cy="368280"/>
                <a:chOff x="7226280" y="4006800"/>
                <a:chExt cx="347760" cy="3682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7334280" y="411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7229520" y="4011480"/>
                <a:ext cx="347760" cy="370080"/>
                <a:chOff x="7229520" y="4011480"/>
                <a:chExt cx="347760" cy="37008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337520" y="412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78" name=""/>
          <p:cNvSpPr/>
          <p:nvPr/>
        </p:nvSpPr>
        <p:spPr>
          <a:xfrm>
            <a:off x="6157800" y="4530600"/>
            <a:ext cx="187560" cy="77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348240" y="4432320"/>
            <a:ext cx="717840" cy="5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348240" y="4233960"/>
            <a:ext cx="85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075360" y="3027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7446960" y="2644920"/>
            <a:ext cx="434880" cy="453960"/>
            <a:chOff x="7446960" y="2644920"/>
            <a:chExt cx="434880" cy="453960"/>
          </a:xfrm>
        </p:grpSpPr>
        <p:grpSp>
          <p:nvGrpSpPr>
            <p:cNvPr id="1483" name=""/>
            <p:cNvGrpSpPr/>
            <p:nvPr/>
          </p:nvGrpSpPr>
          <p:grpSpPr>
            <a:xfrm>
              <a:off x="7446960" y="2644920"/>
              <a:ext cx="434880" cy="453960"/>
              <a:chOff x="7446960" y="2644920"/>
              <a:chExt cx="434880" cy="453960"/>
            </a:xfrm>
          </p:grpSpPr>
          <p:sp>
            <p:nvSpPr>
              <p:cNvPr id="1484" name=""/>
              <p:cNvSpPr/>
              <p:nvPr/>
            </p:nvSpPr>
            <p:spPr>
              <a:xfrm>
                <a:off x="7446960" y="26938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454880" y="27018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7470720" y="2711520"/>
              <a:ext cx="351000" cy="374760"/>
              <a:chOff x="7470720" y="2711520"/>
              <a:chExt cx="351000" cy="374760"/>
            </a:xfrm>
          </p:grpSpPr>
          <p:grpSp>
            <p:nvGrpSpPr>
              <p:cNvPr id="1491" name=""/>
              <p:cNvGrpSpPr/>
              <p:nvPr/>
            </p:nvGrpSpPr>
            <p:grpSpPr>
              <a:xfrm>
                <a:off x="7470720" y="2711520"/>
                <a:ext cx="347760" cy="368280"/>
                <a:chOff x="7470720" y="2711520"/>
                <a:chExt cx="347760" cy="3682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578720" y="28209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7473960" y="2716200"/>
                <a:ext cx="347760" cy="370080"/>
                <a:chOff x="7473960" y="2716200"/>
                <a:chExt cx="347760" cy="3700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581960" y="28256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1" name=""/>
          <p:cNvGrpSpPr/>
          <p:nvPr/>
        </p:nvGrpSpPr>
        <p:grpSpPr>
          <a:xfrm>
            <a:off x="2514600" y="1600200"/>
            <a:ext cx="434880" cy="453960"/>
            <a:chOff x="2514600" y="1600200"/>
            <a:chExt cx="434880" cy="453960"/>
          </a:xfrm>
        </p:grpSpPr>
        <p:grpSp>
          <p:nvGrpSpPr>
            <p:cNvPr id="1512" name=""/>
            <p:cNvGrpSpPr/>
            <p:nvPr/>
          </p:nvGrpSpPr>
          <p:grpSpPr>
            <a:xfrm>
              <a:off x="2514600" y="1600200"/>
              <a:ext cx="434880" cy="453960"/>
              <a:chOff x="2514600" y="1600200"/>
              <a:chExt cx="434880" cy="453960"/>
            </a:xfrm>
          </p:grpSpPr>
          <p:sp>
            <p:nvSpPr>
              <p:cNvPr id="1513" name=""/>
              <p:cNvSpPr/>
              <p:nvPr/>
            </p:nvSpPr>
            <p:spPr>
              <a:xfrm>
                <a:off x="2514600" y="164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522520" y="165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2538360" y="1666800"/>
              <a:ext cx="351000" cy="374760"/>
              <a:chOff x="2538360" y="1666800"/>
              <a:chExt cx="351000" cy="374760"/>
            </a:xfrm>
          </p:grpSpPr>
          <p:grpSp>
            <p:nvGrpSpPr>
              <p:cNvPr id="1520" name=""/>
              <p:cNvGrpSpPr/>
              <p:nvPr/>
            </p:nvGrpSpPr>
            <p:grpSpPr>
              <a:xfrm>
                <a:off x="2538360" y="1666800"/>
                <a:ext cx="347760" cy="368280"/>
                <a:chOff x="2538360" y="1666800"/>
                <a:chExt cx="347760" cy="3682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2646360" y="177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2541600" y="1671480"/>
                <a:ext cx="347760" cy="370080"/>
                <a:chOff x="2541600" y="1671480"/>
                <a:chExt cx="347760" cy="37008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2649600" y="178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40" name=""/>
          <p:cNvSpPr/>
          <p:nvPr/>
        </p:nvSpPr>
        <p:spPr>
          <a:xfrm>
            <a:off x="2897280" y="1982880"/>
            <a:ext cx="60804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363760" y="44956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429000" y="4497480"/>
            <a:ext cx="0" cy="912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7320" y="4724280"/>
            <a:ext cx="2462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%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s and le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same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809880" y="3583080"/>
            <a:ext cx="0" cy="45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3811320" y="403848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957840" y="2971800"/>
            <a:ext cx="1925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101200" y="5851440"/>
            <a:ext cx="3720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raffic is symmet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to each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32448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pac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capacity if all traffic patterns are asymmetrical and divided into user clas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/(2N - 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capacity if users never talk to nodes in the same backbone net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Nc/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 #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2" name="" descr=""/>
          <p:cNvPicPr/>
          <p:nvPr/>
        </p:nvPicPr>
        <p:blipFill>
          <a:blip r:embed="rId1"/>
          <a:stretch/>
        </p:blipFill>
        <p:spPr>
          <a:xfrm>
            <a:off x="3449520" y="2598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1553" name=""/>
          <p:cNvSpPr/>
          <p:nvPr/>
        </p:nvSpPr>
        <p:spPr>
          <a:xfrm>
            <a:off x="3929040" y="2795760"/>
            <a:ext cx="201456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548160" y="1919160"/>
            <a:ext cx="187200" cy="67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668680" y="2592360"/>
            <a:ext cx="78084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2209680" y="2362320"/>
            <a:ext cx="435240" cy="453960"/>
            <a:chOff x="2209680" y="2362320"/>
            <a:chExt cx="435240" cy="453960"/>
          </a:xfrm>
        </p:grpSpPr>
        <p:grpSp>
          <p:nvGrpSpPr>
            <p:cNvPr id="1557" name=""/>
            <p:cNvGrpSpPr/>
            <p:nvPr/>
          </p:nvGrpSpPr>
          <p:grpSpPr>
            <a:xfrm>
              <a:off x="2209680" y="2362320"/>
              <a:ext cx="435240" cy="453960"/>
              <a:chOff x="2209680" y="2362320"/>
              <a:chExt cx="435240" cy="453960"/>
            </a:xfrm>
          </p:grpSpPr>
          <p:sp>
            <p:nvSpPr>
              <p:cNvPr id="1558" name=""/>
              <p:cNvSpPr/>
              <p:nvPr/>
            </p:nvSpPr>
            <p:spPr>
              <a:xfrm>
                <a:off x="2209680" y="24112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17600" y="24192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2233440" y="2428920"/>
              <a:ext cx="351000" cy="374760"/>
              <a:chOff x="2233440" y="2428920"/>
              <a:chExt cx="351000" cy="374760"/>
            </a:xfrm>
          </p:grpSpPr>
          <p:grpSp>
            <p:nvGrpSpPr>
              <p:cNvPr id="1565" name=""/>
              <p:cNvGrpSpPr/>
              <p:nvPr/>
            </p:nvGrpSpPr>
            <p:grpSpPr>
              <a:xfrm>
                <a:off x="2233440" y="2428920"/>
                <a:ext cx="347760" cy="368280"/>
                <a:chOff x="2233440" y="2428920"/>
                <a:chExt cx="347760" cy="36828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2341440" y="25383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2236680" y="2433600"/>
                <a:ext cx="347760" cy="370080"/>
                <a:chOff x="2236680" y="2433600"/>
                <a:chExt cx="347760" cy="37008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2344680" y="25430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85" name=""/>
          <p:cNvGrpSpPr/>
          <p:nvPr/>
        </p:nvGrpSpPr>
        <p:grpSpPr>
          <a:xfrm>
            <a:off x="3449520" y="1523880"/>
            <a:ext cx="435240" cy="454320"/>
            <a:chOff x="3449520" y="1523880"/>
            <a:chExt cx="435240" cy="454320"/>
          </a:xfrm>
        </p:grpSpPr>
        <p:grpSp>
          <p:nvGrpSpPr>
            <p:cNvPr id="1586" name=""/>
            <p:cNvGrpSpPr/>
            <p:nvPr/>
          </p:nvGrpSpPr>
          <p:grpSpPr>
            <a:xfrm>
              <a:off x="3449520" y="1523880"/>
              <a:ext cx="435240" cy="454320"/>
              <a:chOff x="3449520" y="1523880"/>
              <a:chExt cx="435240" cy="454320"/>
            </a:xfrm>
          </p:grpSpPr>
          <p:sp>
            <p:nvSpPr>
              <p:cNvPr id="1587" name=""/>
              <p:cNvSpPr/>
              <p:nvPr/>
            </p:nvSpPr>
            <p:spPr>
              <a:xfrm>
                <a:off x="3449520" y="157320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57440" y="15811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3473280" y="1590840"/>
              <a:ext cx="351000" cy="374400"/>
              <a:chOff x="3473280" y="1590840"/>
              <a:chExt cx="351000" cy="374400"/>
            </a:xfrm>
          </p:grpSpPr>
          <p:grpSp>
            <p:nvGrpSpPr>
              <p:cNvPr id="1594" name=""/>
              <p:cNvGrpSpPr/>
              <p:nvPr/>
            </p:nvGrpSpPr>
            <p:grpSpPr>
              <a:xfrm>
                <a:off x="3473280" y="1590840"/>
                <a:ext cx="347760" cy="368280"/>
                <a:chOff x="3473280" y="1590840"/>
                <a:chExt cx="347760" cy="36828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581280" y="170028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4" name=""/>
              <p:cNvGrpSpPr/>
              <p:nvPr/>
            </p:nvGrpSpPr>
            <p:grpSpPr>
              <a:xfrm>
                <a:off x="3476520" y="1595520"/>
                <a:ext cx="347760" cy="369720"/>
                <a:chOff x="3476520" y="1595520"/>
                <a:chExt cx="347760" cy="36972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584520" y="17049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614" name="" descr=""/>
          <p:cNvPicPr/>
          <p:nvPr/>
        </p:nvPicPr>
        <p:blipFill>
          <a:blip r:embed="rId2"/>
          <a:stretch/>
        </p:blipFill>
        <p:spPr>
          <a:xfrm>
            <a:off x="3449520" y="4081320"/>
            <a:ext cx="519120" cy="420840"/>
          </a:xfrm>
          <a:prstGeom prst="rect">
            <a:avLst/>
          </a:prstGeom>
          <a:ln w="0">
            <a:noFill/>
          </a:ln>
        </p:spPr>
      </p:pic>
      <p:sp>
        <p:nvSpPr>
          <p:cNvPr id="1615" name=""/>
          <p:cNvSpPr/>
          <p:nvPr/>
        </p:nvSpPr>
        <p:spPr>
          <a:xfrm flipV="1">
            <a:off x="3929040" y="4268880"/>
            <a:ext cx="19382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657600" y="4414680"/>
            <a:ext cx="0" cy="121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505320" y="5479920"/>
            <a:ext cx="434880" cy="454320"/>
            <a:chOff x="3505320" y="5479920"/>
            <a:chExt cx="434880" cy="454320"/>
          </a:xfrm>
        </p:grpSpPr>
        <p:grpSp>
          <p:nvGrpSpPr>
            <p:cNvPr id="1618" name=""/>
            <p:cNvGrpSpPr/>
            <p:nvPr/>
          </p:nvGrpSpPr>
          <p:grpSpPr>
            <a:xfrm>
              <a:off x="3505320" y="5479920"/>
              <a:ext cx="434880" cy="454320"/>
              <a:chOff x="3505320" y="5479920"/>
              <a:chExt cx="434880" cy="454320"/>
            </a:xfrm>
          </p:grpSpPr>
          <p:sp>
            <p:nvSpPr>
              <p:cNvPr id="1619" name=""/>
              <p:cNvSpPr/>
              <p:nvPr/>
            </p:nvSpPr>
            <p:spPr>
              <a:xfrm>
                <a:off x="3505320" y="552924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513240" y="553716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3529080" y="5546880"/>
              <a:ext cx="350640" cy="374400"/>
              <a:chOff x="3529080" y="5546880"/>
              <a:chExt cx="350640" cy="374400"/>
            </a:xfrm>
          </p:grpSpPr>
          <p:grpSp>
            <p:nvGrpSpPr>
              <p:cNvPr id="1626" name=""/>
              <p:cNvGrpSpPr/>
              <p:nvPr/>
            </p:nvGrpSpPr>
            <p:grpSpPr>
              <a:xfrm>
                <a:off x="3529080" y="5546880"/>
                <a:ext cx="347760" cy="368280"/>
                <a:chOff x="3529080" y="5546880"/>
                <a:chExt cx="347760" cy="36828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637080" y="565632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6" name=""/>
              <p:cNvGrpSpPr/>
              <p:nvPr/>
            </p:nvGrpSpPr>
            <p:grpSpPr>
              <a:xfrm>
                <a:off x="3532320" y="5551560"/>
                <a:ext cx="347400" cy="369720"/>
                <a:chOff x="3532320" y="5551560"/>
                <a:chExt cx="347400" cy="369720"/>
              </a:xfrm>
            </p:grpSpPr>
            <p:sp>
              <p:nvSpPr>
                <p:cNvPr id="1637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639960" y="566100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46" name=""/>
          <p:cNvSpPr/>
          <p:nvPr/>
        </p:nvSpPr>
        <p:spPr>
          <a:xfrm>
            <a:off x="1906560" y="4260960"/>
            <a:ext cx="159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1523880" y="4032360"/>
            <a:ext cx="435240" cy="453960"/>
            <a:chOff x="1523880" y="4032360"/>
            <a:chExt cx="435240" cy="453960"/>
          </a:xfrm>
        </p:grpSpPr>
        <p:grpSp>
          <p:nvGrpSpPr>
            <p:cNvPr id="1648" name=""/>
            <p:cNvGrpSpPr/>
            <p:nvPr/>
          </p:nvGrpSpPr>
          <p:grpSpPr>
            <a:xfrm>
              <a:off x="1523880" y="4032360"/>
              <a:ext cx="435240" cy="453960"/>
              <a:chOff x="1523880" y="4032360"/>
              <a:chExt cx="435240" cy="453960"/>
            </a:xfrm>
          </p:grpSpPr>
          <p:sp>
            <p:nvSpPr>
              <p:cNvPr id="1649" name=""/>
              <p:cNvSpPr/>
              <p:nvPr/>
            </p:nvSpPr>
            <p:spPr>
              <a:xfrm>
                <a:off x="1523880" y="408132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531800" y="408924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1547640" y="4098960"/>
              <a:ext cx="351000" cy="374760"/>
              <a:chOff x="1547640" y="4098960"/>
              <a:chExt cx="351000" cy="374760"/>
            </a:xfrm>
          </p:grpSpPr>
          <p:grpSp>
            <p:nvGrpSpPr>
              <p:cNvPr id="1656" name=""/>
              <p:cNvGrpSpPr/>
              <p:nvPr/>
            </p:nvGrpSpPr>
            <p:grpSpPr>
              <a:xfrm>
                <a:off x="1547640" y="4098960"/>
                <a:ext cx="347760" cy="368280"/>
                <a:chOff x="1547640" y="4098960"/>
                <a:chExt cx="347760" cy="36828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655640" y="42084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6" name=""/>
              <p:cNvGrpSpPr/>
              <p:nvPr/>
            </p:nvGrpSpPr>
            <p:grpSpPr>
              <a:xfrm>
                <a:off x="1550880" y="4103640"/>
                <a:ext cx="347760" cy="370080"/>
                <a:chOff x="1550880" y="4103640"/>
                <a:chExt cx="347760" cy="370080"/>
              </a:xfrm>
            </p:grpSpPr>
            <p:sp>
              <p:nvSpPr>
                <p:cNvPr id="1667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1658880" y="421308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6" name=""/>
          <p:cNvSpPr/>
          <p:nvPr/>
        </p:nvSpPr>
        <p:spPr>
          <a:xfrm>
            <a:off x="3657600" y="2973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3"/>
          <a:stretch/>
        </p:blipFill>
        <p:spPr>
          <a:xfrm>
            <a:off x="5867280" y="2652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 flipV="1">
            <a:off x="6251400" y="2069640"/>
            <a:ext cx="473400" cy="5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6346800" y="2261880"/>
            <a:ext cx="104472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6535800" y="1676520"/>
            <a:ext cx="434880" cy="453960"/>
            <a:chOff x="6535800" y="1676520"/>
            <a:chExt cx="434880" cy="453960"/>
          </a:xfrm>
        </p:grpSpPr>
        <p:grpSp>
          <p:nvGrpSpPr>
            <p:cNvPr id="1681" name=""/>
            <p:cNvGrpSpPr/>
            <p:nvPr/>
          </p:nvGrpSpPr>
          <p:grpSpPr>
            <a:xfrm>
              <a:off x="6535800" y="1676520"/>
              <a:ext cx="434880" cy="453960"/>
              <a:chOff x="6535800" y="1676520"/>
              <a:chExt cx="434880" cy="453960"/>
            </a:xfrm>
          </p:grpSpPr>
          <p:sp>
            <p:nvSpPr>
              <p:cNvPr id="1682" name=""/>
              <p:cNvSpPr/>
              <p:nvPr/>
            </p:nvSpPr>
            <p:spPr>
              <a:xfrm>
                <a:off x="6535800" y="17254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543720" y="17334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6559560" y="1743120"/>
              <a:ext cx="351000" cy="374760"/>
              <a:chOff x="6559560" y="1743120"/>
              <a:chExt cx="351000" cy="374760"/>
            </a:xfrm>
          </p:grpSpPr>
          <p:grpSp>
            <p:nvGrpSpPr>
              <p:cNvPr id="1689" name=""/>
              <p:cNvGrpSpPr/>
              <p:nvPr/>
            </p:nvGrpSpPr>
            <p:grpSpPr>
              <a:xfrm>
                <a:off x="6559560" y="1743120"/>
                <a:ext cx="347760" cy="368280"/>
                <a:chOff x="6559560" y="1743120"/>
                <a:chExt cx="347760" cy="36828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6667560" y="18525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9" name=""/>
              <p:cNvGrpSpPr/>
              <p:nvPr/>
            </p:nvGrpSpPr>
            <p:grpSpPr>
              <a:xfrm>
                <a:off x="6562800" y="1747800"/>
                <a:ext cx="347760" cy="370080"/>
                <a:chOff x="6562800" y="1747800"/>
                <a:chExt cx="347760" cy="370080"/>
              </a:xfrm>
            </p:grpSpPr>
            <p:sp>
              <p:nvSpPr>
                <p:cNvPr id="1700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670800" y="185724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09" name=""/>
          <p:cNvGrpSpPr/>
          <p:nvPr/>
        </p:nvGrpSpPr>
        <p:grpSpPr>
          <a:xfrm>
            <a:off x="7392960" y="1968480"/>
            <a:ext cx="434880" cy="453960"/>
            <a:chOff x="7392960" y="1968480"/>
            <a:chExt cx="434880" cy="453960"/>
          </a:xfrm>
        </p:grpSpPr>
        <p:grpSp>
          <p:nvGrpSpPr>
            <p:cNvPr id="1710" name=""/>
            <p:cNvGrpSpPr/>
            <p:nvPr/>
          </p:nvGrpSpPr>
          <p:grpSpPr>
            <a:xfrm>
              <a:off x="7392960" y="1968480"/>
              <a:ext cx="434880" cy="453960"/>
              <a:chOff x="7392960" y="1968480"/>
              <a:chExt cx="434880" cy="453960"/>
            </a:xfrm>
          </p:grpSpPr>
          <p:sp>
            <p:nvSpPr>
              <p:cNvPr id="1711" name=""/>
              <p:cNvSpPr/>
              <p:nvPr/>
            </p:nvSpPr>
            <p:spPr>
              <a:xfrm>
                <a:off x="7392960" y="201780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400880" y="20257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7416720" y="2035080"/>
              <a:ext cx="351000" cy="374760"/>
              <a:chOff x="7416720" y="2035080"/>
              <a:chExt cx="351000" cy="374760"/>
            </a:xfrm>
          </p:grpSpPr>
          <p:grpSp>
            <p:nvGrpSpPr>
              <p:cNvPr id="1718" name=""/>
              <p:cNvGrpSpPr/>
              <p:nvPr/>
            </p:nvGrpSpPr>
            <p:grpSpPr>
              <a:xfrm>
                <a:off x="7416720" y="2035080"/>
                <a:ext cx="347760" cy="368280"/>
                <a:chOff x="7416720" y="2035080"/>
                <a:chExt cx="347760" cy="36828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7524720" y="2144880"/>
                  <a:ext cx="135000" cy="150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7419960" y="2039760"/>
                <a:ext cx="347760" cy="370080"/>
                <a:chOff x="7419960" y="2039760"/>
                <a:chExt cx="347760" cy="37008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7527960" y="21495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738" name="" descr=""/>
          <p:cNvPicPr/>
          <p:nvPr/>
        </p:nvPicPr>
        <p:blipFill>
          <a:blip r:embed="rId4"/>
          <a:stretch/>
        </p:blipFill>
        <p:spPr>
          <a:xfrm>
            <a:off x="5867280" y="4135320"/>
            <a:ext cx="519120" cy="420840"/>
          </a:xfrm>
          <a:prstGeom prst="rect">
            <a:avLst/>
          </a:prstGeom>
          <a:ln w="0">
            <a:noFill/>
          </a:ln>
        </p:spPr>
      </p:pic>
      <p:grpSp>
        <p:nvGrpSpPr>
          <p:cNvPr id="1739" name=""/>
          <p:cNvGrpSpPr/>
          <p:nvPr/>
        </p:nvGrpSpPr>
        <p:grpSpPr>
          <a:xfrm>
            <a:off x="6058080" y="5308560"/>
            <a:ext cx="434880" cy="453960"/>
            <a:chOff x="6058080" y="5308560"/>
            <a:chExt cx="434880" cy="453960"/>
          </a:xfrm>
        </p:grpSpPr>
        <p:grpSp>
          <p:nvGrpSpPr>
            <p:cNvPr id="1740" name=""/>
            <p:cNvGrpSpPr/>
            <p:nvPr/>
          </p:nvGrpSpPr>
          <p:grpSpPr>
            <a:xfrm>
              <a:off x="6058080" y="5308560"/>
              <a:ext cx="434880" cy="453960"/>
              <a:chOff x="6058080" y="5308560"/>
              <a:chExt cx="434880" cy="453960"/>
            </a:xfrm>
          </p:grpSpPr>
          <p:sp>
            <p:nvSpPr>
              <p:cNvPr id="1741" name=""/>
              <p:cNvSpPr/>
              <p:nvPr/>
            </p:nvSpPr>
            <p:spPr>
              <a:xfrm>
                <a:off x="6058080" y="5357880"/>
                <a:ext cx="38232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66000" y="536580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6081840" y="5375160"/>
              <a:ext cx="350640" cy="374760"/>
              <a:chOff x="6081840" y="5375160"/>
              <a:chExt cx="350640" cy="374760"/>
            </a:xfrm>
          </p:grpSpPr>
          <p:grpSp>
            <p:nvGrpSpPr>
              <p:cNvPr id="1748" name=""/>
              <p:cNvGrpSpPr/>
              <p:nvPr/>
            </p:nvGrpSpPr>
            <p:grpSpPr>
              <a:xfrm>
                <a:off x="6081840" y="5375160"/>
                <a:ext cx="347400" cy="368280"/>
                <a:chOff x="6081840" y="5375160"/>
                <a:chExt cx="347400" cy="36828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6189840" y="5484960"/>
                  <a:ext cx="13464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6084720" y="5380200"/>
                <a:ext cx="347760" cy="369720"/>
                <a:chOff x="6084720" y="5380200"/>
                <a:chExt cx="347760" cy="369720"/>
              </a:xfrm>
            </p:grpSpPr>
            <p:sp>
              <p:nvSpPr>
                <p:cNvPr id="1759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6192720" y="548964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68" name=""/>
          <p:cNvGrpSpPr/>
          <p:nvPr/>
        </p:nvGrpSpPr>
        <p:grpSpPr>
          <a:xfrm>
            <a:off x="7066080" y="4772160"/>
            <a:ext cx="434880" cy="453960"/>
            <a:chOff x="7066080" y="4772160"/>
            <a:chExt cx="434880" cy="453960"/>
          </a:xfrm>
        </p:grpSpPr>
        <p:grpSp>
          <p:nvGrpSpPr>
            <p:cNvPr id="1769" name=""/>
            <p:cNvGrpSpPr/>
            <p:nvPr/>
          </p:nvGrpSpPr>
          <p:grpSpPr>
            <a:xfrm>
              <a:off x="7066080" y="4772160"/>
              <a:ext cx="434880" cy="453960"/>
              <a:chOff x="7066080" y="4772160"/>
              <a:chExt cx="434880" cy="453960"/>
            </a:xfrm>
          </p:grpSpPr>
          <p:sp>
            <p:nvSpPr>
              <p:cNvPr id="1770" name=""/>
              <p:cNvSpPr/>
              <p:nvPr/>
            </p:nvSpPr>
            <p:spPr>
              <a:xfrm>
                <a:off x="7066080" y="482112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074000" y="4829040"/>
                <a:ext cx="36648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6" name=""/>
            <p:cNvGrpSpPr/>
            <p:nvPr/>
          </p:nvGrpSpPr>
          <p:grpSpPr>
            <a:xfrm>
              <a:off x="7089840" y="4838760"/>
              <a:ext cx="350640" cy="374760"/>
              <a:chOff x="7089840" y="4838760"/>
              <a:chExt cx="350640" cy="3747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7089840" y="4838760"/>
                <a:ext cx="347760" cy="368280"/>
                <a:chOff x="7089840" y="4838760"/>
                <a:chExt cx="347760" cy="36828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7197840" y="49482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7" name=""/>
              <p:cNvGrpSpPr/>
              <p:nvPr/>
            </p:nvGrpSpPr>
            <p:grpSpPr>
              <a:xfrm>
                <a:off x="7093080" y="4843440"/>
                <a:ext cx="347400" cy="370080"/>
                <a:chOff x="7093080" y="4843440"/>
                <a:chExt cx="347400" cy="370080"/>
              </a:xfrm>
            </p:grpSpPr>
            <p:sp>
              <p:nvSpPr>
                <p:cNvPr id="1788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7201080" y="495288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97" name=""/>
          <p:cNvGrpSpPr/>
          <p:nvPr/>
        </p:nvGrpSpPr>
        <p:grpSpPr>
          <a:xfrm>
            <a:off x="7202520" y="3940200"/>
            <a:ext cx="434880" cy="453960"/>
            <a:chOff x="7202520" y="3940200"/>
            <a:chExt cx="434880" cy="453960"/>
          </a:xfrm>
        </p:grpSpPr>
        <p:grpSp>
          <p:nvGrpSpPr>
            <p:cNvPr id="1798" name=""/>
            <p:cNvGrpSpPr/>
            <p:nvPr/>
          </p:nvGrpSpPr>
          <p:grpSpPr>
            <a:xfrm>
              <a:off x="7202520" y="3940200"/>
              <a:ext cx="434880" cy="453960"/>
              <a:chOff x="7202520" y="3940200"/>
              <a:chExt cx="434880" cy="453960"/>
            </a:xfrm>
          </p:grpSpPr>
          <p:sp>
            <p:nvSpPr>
              <p:cNvPr id="1799" name=""/>
              <p:cNvSpPr/>
              <p:nvPr/>
            </p:nvSpPr>
            <p:spPr>
              <a:xfrm>
                <a:off x="7202520" y="398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210440" y="399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5" name=""/>
            <p:cNvGrpSpPr/>
            <p:nvPr/>
          </p:nvGrpSpPr>
          <p:grpSpPr>
            <a:xfrm>
              <a:off x="7226280" y="4006800"/>
              <a:ext cx="351000" cy="374760"/>
              <a:chOff x="7226280" y="4006800"/>
              <a:chExt cx="351000" cy="374760"/>
            </a:xfrm>
          </p:grpSpPr>
          <p:grpSp>
            <p:nvGrpSpPr>
              <p:cNvPr id="1806" name=""/>
              <p:cNvGrpSpPr/>
              <p:nvPr/>
            </p:nvGrpSpPr>
            <p:grpSpPr>
              <a:xfrm>
                <a:off x="7226280" y="4006800"/>
                <a:ext cx="347760" cy="368280"/>
                <a:chOff x="7226280" y="4006800"/>
                <a:chExt cx="347760" cy="368280"/>
              </a:xfrm>
            </p:grpSpPr>
            <p:sp>
              <p:nvSpPr>
                <p:cNvPr id="1807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334280" y="411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6" name=""/>
              <p:cNvGrpSpPr/>
              <p:nvPr/>
            </p:nvGrpSpPr>
            <p:grpSpPr>
              <a:xfrm>
                <a:off x="7229520" y="4011480"/>
                <a:ext cx="347760" cy="370080"/>
                <a:chOff x="7229520" y="4011480"/>
                <a:chExt cx="347760" cy="37008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337520" y="412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6" name=""/>
          <p:cNvSpPr/>
          <p:nvPr/>
        </p:nvSpPr>
        <p:spPr>
          <a:xfrm>
            <a:off x="6157800" y="4530600"/>
            <a:ext cx="187560" cy="77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348240" y="4432320"/>
            <a:ext cx="717840" cy="5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348240" y="4233960"/>
            <a:ext cx="85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075360" y="3027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7446960" y="2644920"/>
            <a:ext cx="434880" cy="453960"/>
            <a:chOff x="7446960" y="2644920"/>
            <a:chExt cx="434880" cy="453960"/>
          </a:xfrm>
        </p:grpSpPr>
        <p:grpSp>
          <p:nvGrpSpPr>
            <p:cNvPr id="1831" name=""/>
            <p:cNvGrpSpPr/>
            <p:nvPr/>
          </p:nvGrpSpPr>
          <p:grpSpPr>
            <a:xfrm>
              <a:off x="7446960" y="2644920"/>
              <a:ext cx="434880" cy="453960"/>
              <a:chOff x="7446960" y="2644920"/>
              <a:chExt cx="434880" cy="453960"/>
            </a:xfrm>
          </p:grpSpPr>
          <p:sp>
            <p:nvSpPr>
              <p:cNvPr id="1832" name=""/>
              <p:cNvSpPr/>
              <p:nvPr/>
            </p:nvSpPr>
            <p:spPr>
              <a:xfrm>
                <a:off x="7446960" y="26938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454880" y="27018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7470720" y="2711520"/>
              <a:ext cx="351000" cy="374760"/>
              <a:chOff x="7470720" y="2711520"/>
              <a:chExt cx="351000" cy="374760"/>
            </a:xfrm>
          </p:grpSpPr>
          <p:grpSp>
            <p:nvGrpSpPr>
              <p:cNvPr id="1839" name=""/>
              <p:cNvGrpSpPr/>
              <p:nvPr/>
            </p:nvGrpSpPr>
            <p:grpSpPr>
              <a:xfrm>
                <a:off x="7470720" y="2711520"/>
                <a:ext cx="347760" cy="368280"/>
                <a:chOff x="7470720" y="2711520"/>
                <a:chExt cx="347760" cy="368280"/>
              </a:xfrm>
            </p:grpSpPr>
            <p:sp>
              <p:nvSpPr>
                <p:cNvPr id="1840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578720" y="28209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9" name=""/>
              <p:cNvGrpSpPr/>
              <p:nvPr/>
            </p:nvGrpSpPr>
            <p:grpSpPr>
              <a:xfrm>
                <a:off x="7473960" y="2716200"/>
                <a:ext cx="347760" cy="370080"/>
                <a:chOff x="7473960" y="2716200"/>
                <a:chExt cx="347760" cy="370080"/>
              </a:xfrm>
            </p:grpSpPr>
            <p:sp>
              <p:nvSpPr>
                <p:cNvPr id="1850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7581960" y="28256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59" name=""/>
          <p:cNvGrpSpPr/>
          <p:nvPr/>
        </p:nvGrpSpPr>
        <p:grpSpPr>
          <a:xfrm>
            <a:off x="2514600" y="1600200"/>
            <a:ext cx="434880" cy="453960"/>
            <a:chOff x="2514600" y="1600200"/>
            <a:chExt cx="434880" cy="453960"/>
          </a:xfrm>
        </p:grpSpPr>
        <p:grpSp>
          <p:nvGrpSpPr>
            <p:cNvPr id="1860" name=""/>
            <p:cNvGrpSpPr/>
            <p:nvPr/>
          </p:nvGrpSpPr>
          <p:grpSpPr>
            <a:xfrm>
              <a:off x="2514600" y="1600200"/>
              <a:ext cx="434880" cy="453960"/>
              <a:chOff x="2514600" y="1600200"/>
              <a:chExt cx="434880" cy="453960"/>
            </a:xfrm>
          </p:grpSpPr>
          <p:sp>
            <p:nvSpPr>
              <p:cNvPr id="1861" name=""/>
              <p:cNvSpPr/>
              <p:nvPr/>
            </p:nvSpPr>
            <p:spPr>
              <a:xfrm>
                <a:off x="2514600" y="164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522520" y="165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2538360" y="1666800"/>
              <a:ext cx="351000" cy="374760"/>
              <a:chOff x="2538360" y="1666800"/>
              <a:chExt cx="351000" cy="374760"/>
            </a:xfrm>
          </p:grpSpPr>
          <p:grpSp>
            <p:nvGrpSpPr>
              <p:cNvPr id="1868" name=""/>
              <p:cNvGrpSpPr/>
              <p:nvPr/>
            </p:nvGrpSpPr>
            <p:grpSpPr>
              <a:xfrm>
                <a:off x="2538360" y="1666800"/>
                <a:ext cx="347760" cy="368280"/>
                <a:chOff x="2538360" y="1666800"/>
                <a:chExt cx="347760" cy="36828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2646360" y="177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8" name=""/>
              <p:cNvGrpSpPr/>
              <p:nvPr/>
            </p:nvGrpSpPr>
            <p:grpSpPr>
              <a:xfrm>
                <a:off x="2541600" y="1671480"/>
                <a:ext cx="347760" cy="370080"/>
                <a:chOff x="2541600" y="1671480"/>
                <a:chExt cx="347760" cy="370080"/>
              </a:xfrm>
            </p:grpSpPr>
            <p:sp>
              <p:nvSpPr>
                <p:cNvPr id="1879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2649600" y="178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8" name=""/>
          <p:cNvSpPr/>
          <p:nvPr/>
        </p:nvSpPr>
        <p:spPr>
          <a:xfrm>
            <a:off x="2897280" y="1982880"/>
            <a:ext cx="60804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363760" y="44956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429000" y="4497480"/>
            <a:ext cx="0" cy="912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-3600" y="5486400"/>
            <a:ext cx="35791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may enter or le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 the same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809880" y="3583080"/>
            <a:ext cx="0" cy="45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3811320" y="403848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960720" y="2971800"/>
            <a:ext cx="1910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101200" y="5851440"/>
            <a:ext cx="388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is asymmet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to backbon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32448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 rou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namic bandwidth resource allo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f-healing architec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topologies and design sty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ted or centralized network mana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to accomodate multiple protoco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225000" y="5029200"/>
            <a:ext cx="35791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may enter or le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 the same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9" name="" descr=""/>
          <p:cNvPicPr/>
          <p:nvPr/>
        </p:nvPicPr>
        <p:blipFill>
          <a:blip r:embed="rId1"/>
          <a:stretch/>
        </p:blipFill>
        <p:spPr>
          <a:xfrm>
            <a:off x="2048040" y="2343240"/>
            <a:ext cx="331560" cy="264960"/>
          </a:xfrm>
          <a:prstGeom prst="rect">
            <a:avLst/>
          </a:prstGeom>
          <a:ln w="0">
            <a:noFill/>
          </a:ln>
        </p:spPr>
      </p:pic>
      <p:sp>
        <p:nvSpPr>
          <p:cNvPr id="1900" name=""/>
          <p:cNvSpPr/>
          <p:nvPr/>
        </p:nvSpPr>
        <p:spPr>
          <a:xfrm>
            <a:off x="2349360" y="2465280"/>
            <a:ext cx="12668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111400" y="1922400"/>
            <a:ext cx="115920" cy="4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557360" y="2340000"/>
            <a:ext cx="49068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1268280" y="2195640"/>
            <a:ext cx="274680" cy="282600"/>
            <a:chOff x="1268280" y="2195640"/>
            <a:chExt cx="274680" cy="282600"/>
          </a:xfrm>
        </p:grpSpPr>
        <p:grpSp>
          <p:nvGrpSpPr>
            <p:cNvPr id="1904" name=""/>
            <p:cNvGrpSpPr/>
            <p:nvPr/>
          </p:nvGrpSpPr>
          <p:grpSpPr>
            <a:xfrm>
              <a:off x="1268280" y="2195640"/>
              <a:ext cx="274680" cy="282600"/>
              <a:chOff x="1268280" y="2195640"/>
              <a:chExt cx="274680" cy="282600"/>
            </a:xfrm>
          </p:grpSpPr>
          <p:sp>
            <p:nvSpPr>
              <p:cNvPr id="1905" name=""/>
              <p:cNvSpPr/>
              <p:nvPr/>
            </p:nvSpPr>
            <p:spPr>
              <a:xfrm>
                <a:off x="1268280" y="2225520"/>
                <a:ext cx="241560" cy="252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273320" y="2230560"/>
                <a:ext cx="231480" cy="24264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268280" y="21956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268280" y="21956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509840" y="2195640"/>
                <a:ext cx="33120" cy="280800"/>
              </a:xfrm>
              <a:custGeom>
                <a:avLst/>
                <a:gdLst/>
                <a:ahLst/>
                <a:rect l="l" t="t" r="r" b="b"/>
                <a:pathLst>
                  <a:path w="21" h="177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509840" y="2195640"/>
                <a:ext cx="33120" cy="280800"/>
              </a:xfrm>
              <a:custGeom>
                <a:avLst/>
                <a:gdLst/>
                <a:ahLst/>
                <a:rect l="l" t="t" r="r" b="b"/>
                <a:pathLst>
                  <a:path w="21" h="177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1282680" y="2236680"/>
              <a:ext cx="222120" cy="233640"/>
              <a:chOff x="1282680" y="2236680"/>
              <a:chExt cx="222120" cy="233640"/>
            </a:xfrm>
          </p:grpSpPr>
          <p:grpSp>
            <p:nvGrpSpPr>
              <p:cNvPr id="1912" name=""/>
              <p:cNvGrpSpPr/>
              <p:nvPr/>
            </p:nvGrpSpPr>
            <p:grpSpPr>
              <a:xfrm>
                <a:off x="1282680" y="2236680"/>
                <a:ext cx="219240" cy="230400"/>
                <a:chOff x="1282680" y="2236680"/>
                <a:chExt cx="219240" cy="23040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1324080" y="22366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324080" y="22366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390680" y="2278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390680" y="2278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398600" y="23526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398600" y="23526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282680" y="236232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282680" y="236232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1351080" y="2305080"/>
                  <a:ext cx="838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1285920" y="2239920"/>
                <a:ext cx="218880" cy="230400"/>
                <a:chOff x="1285920" y="2239920"/>
                <a:chExt cx="218880" cy="23040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1327320" y="2239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327320" y="2239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393920" y="228132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93920" y="228132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401840" y="235584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401840" y="235584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285920" y="23637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285920" y="23637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353960" y="2308320"/>
                  <a:ext cx="84240" cy="950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32" name=""/>
          <p:cNvGrpSpPr/>
          <p:nvPr/>
        </p:nvGrpSpPr>
        <p:grpSpPr>
          <a:xfrm>
            <a:off x="2048040" y="1676520"/>
            <a:ext cx="274320" cy="280800"/>
            <a:chOff x="2048040" y="1676520"/>
            <a:chExt cx="274320" cy="280800"/>
          </a:xfrm>
        </p:grpSpPr>
        <p:grpSp>
          <p:nvGrpSpPr>
            <p:cNvPr id="1933" name=""/>
            <p:cNvGrpSpPr/>
            <p:nvPr/>
          </p:nvGrpSpPr>
          <p:grpSpPr>
            <a:xfrm>
              <a:off x="2048040" y="1676520"/>
              <a:ext cx="274320" cy="280800"/>
              <a:chOff x="2048040" y="1676520"/>
              <a:chExt cx="274320" cy="280800"/>
            </a:xfrm>
          </p:grpSpPr>
          <p:sp>
            <p:nvSpPr>
              <p:cNvPr id="1934" name=""/>
              <p:cNvSpPr/>
              <p:nvPr/>
            </p:nvSpPr>
            <p:spPr>
              <a:xfrm>
                <a:off x="2048040" y="170640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052720" y="171144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048040" y="167652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048040" y="167652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289240" y="167652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289240" y="167652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0" name=""/>
            <p:cNvGrpSpPr/>
            <p:nvPr/>
          </p:nvGrpSpPr>
          <p:grpSpPr>
            <a:xfrm>
              <a:off x="2062080" y="1717560"/>
              <a:ext cx="222480" cy="231840"/>
              <a:chOff x="2062080" y="1717560"/>
              <a:chExt cx="222480" cy="231840"/>
            </a:xfrm>
          </p:grpSpPr>
          <p:grpSp>
            <p:nvGrpSpPr>
              <p:cNvPr id="1941" name=""/>
              <p:cNvGrpSpPr/>
              <p:nvPr/>
            </p:nvGrpSpPr>
            <p:grpSpPr>
              <a:xfrm>
                <a:off x="2062080" y="1717560"/>
                <a:ext cx="219240" cy="228600"/>
                <a:chOff x="2062080" y="1717560"/>
                <a:chExt cx="219240" cy="228600"/>
              </a:xfrm>
            </p:grpSpPr>
            <p:sp>
              <p:nvSpPr>
                <p:cNvPr id="1942" name=""/>
                <p:cNvSpPr/>
                <p:nvPr/>
              </p:nvSpPr>
              <p:spPr>
                <a:xfrm>
                  <a:off x="2103480" y="17175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2103480" y="17175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2170080" y="17589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2170080" y="17589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2178000" y="18320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2178000" y="18320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2062080" y="184140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2062080" y="184140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2130480" y="178596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1" name=""/>
              <p:cNvGrpSpPr/>
              <p:nvPr/>
            </p:nvGrpSpPr>
            <p:grpSpPr>
              <a:xfrm>
                <a:off x="2065320" y="1720800"/>
                <a:ext cx="219240" cy="228600"/>
                <a:chOff x="2065320" y="1720800"/>
                <a:chExt cx="219240" cy="22860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2106720" y="17208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2106720" y="17208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2173320" y="176220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2173320" y="176220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2181240" y="183528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2181240" y="183528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2065320" y="18446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2065320" y="18446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2133720" y="1789200"/>
                  <a:ext cx="838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61" name="" descr=""/>
          <p:cNvPicPr/>
          <p:nvPr/>
        </p:nvPicPr>
        <p:blipFill>
          <a:blip r:embed="rId2"/>
          <a:stretch/>
        </p:blipFill>
        <p:spPr>
          <a:xfrm>
            <a:off x="2048040" y="3262320"/>
            <a:ext cx="331560" cy="264960"/>
          </a:xfrm>
          <a:prstGeom prst="rect">
            <a:avLst/>
          </a:prstGeom>
          <a:ln w="0">
            <a:noFill/>
          </a:ln>
        </p:spPr>
      </p:pic>
      <p:sp>
        <p:nvSpPr>
          <p:cNvPr id="1962" name=""/>
          <p:cNvSpPr/>
          <p:nvPr/>
        </p:nvSpPr>
        <p:spPr>
          <a:xfrm flipV="1">
            <a:off x="2349360" y="3377880"/>
            <a:ext cx="12178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179800" y="346860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4" name=""/>
          <p:cNvGrpSpPr/>
          <p:nvPr/>
        </p:nvGrpSpPr>
        <p:grpSpPr>
          <a:xfrm>
            <a:off x="2082960" y="4129200"/>
            <a:ext cx="274320" cy="280800"/>
            <a:chOff x="2082960" y="4129200"/>
            <a:chExt cx="274320" cy="280800"/>
          </a:xfrm>
        </p:grpSpPr>
        <p:grpSp>
          <p:nvGrpSpPr>
            <p:cNvPr id="1965" name=""/>
            <p:cNvGrpSpPr/>
            <p:nvPr/>
          </p:nvGrpSpPr>
          <p:grpSpPr>
            <a:xfrm>
              <a:off x="2082960" y="4129200"/>
              <a:ext cx="274320" cy="280800"/>
              <a:chOff x="2082960" y="4129200"/>
              <a:chExt cx="274320" cy="280800"/>
            </a:xfrm>
          </p:grpSpPr>
          <p:sp>
            <p:nvSpPr>
              <p:cNvPr id="1966" name=""/>
              <p:cNvSpPr/>
              <p:nvPr/>
            </p:nvSpPr>
            <p:spPr>
              <a:xfrm>
                <a:off x="2082960" y="415908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087640" y="416412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082960" y="412920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082960" y="412920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2324160" y="412920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24160" y="412920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"/>
            <p:cNvGrpSpPr/>
            <p:nvPr/>
          </p:nvGrpSpPr>
          <p:grpSpPr>
            <a:xfrm>
              <a:off x="2097000" y="4170240"/>
              <a:ext cx="222480" cy="231840"/>
              <a:chOff x="2097000" y="4170240"/>
              <a:chExt cx="222480" cy="231840"/>
            </a:xfrm>
          </p:grpSpPr>
          <p:grpSp>
            <p:nvGrpSpPr>
              <p:cNvPr id="1973" name=""/>
              <p:cNvGrpSpPr/>
              <p:nvPr/>
            </p:nvGrpSpPr>
            <p:grpSpPr>
              <a:xfrm>
                <a:off x="2097000" y="4170240"/>
                <a:ext cx="219240" cy="228600"/>
                <a:chOff x="2097000" y="4170240"/>
                <a:chExt cx="219240" cy="228600"/>
              </a:xfrm>
            </p:grpSpPr>
            <p:sp>
              <p:nvSpPr>
                <p:cNvPr id="1974" name=""/>
                <p:cNvSpPr/>
                <p:nvPr/>
              </p:nvSpPr>
              <p:spPr>
                <a:xfrm>
                  <a:off x="2138400" y="41702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2138400" y="41702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2205000" y="42116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2205000" y="42116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2212920" y="428472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212920" y="428472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097000" y="42940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097000" y="42940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165400" y="423864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3" name=""/>
              <p:cNvGrpSpPr/>
              <p:nvPr/>
            </p:nvGrpSpPr>
            <p:grpSpPr>
              <a:xfrm>
                <a:off x="2100240" y="4173480"/>
                <a:ext cx="219240" cy="228600"/>
                <a:chOff x="2100240" y="4173480"/>
                <a:chExt cx="219240" cy="228600"/>
              </a:xfrm>
            </p:grpSpPr>
            <p:sp>
              <p:nvSpPr>
                <p:cNvPr id="1984" name=""/>
                <p:cNvSpPr/>
                <p:nvPr/>
              </p:nvSpPr>
              <p:spPr>
                <a:xfrm>
                  <a:off x="2141640" y="41734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141640" y="41734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208240" y="42148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208240" y="42148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2216160" y="428796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216160" y="428796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00240" y="4297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100240" y="4297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168640" y="4241880"/>
                  <a:ext cx="838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93" name=""/>
          <p:cNvSpPr/>
          <p:nvPr/>
        </p:nvSpPr>
        <p:spPr>
          <a:xfrm>
            <a:off x="1079640" y="337356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838080" y="3230640"/>
            <a:ext cx="273240" cy="282600"/>
            <a:chOff x="838080" y="3230640"/>
            <a:chExt cx="273240" cy="282600"/>
          </a:xfrm>
        </p:grpSpPr>
        <p:grpSp>
          <p:nvGrpSpPr>
            <p:cNvPr id="1995" name=""/>
            <p:cNvGrpSpPr/>
            <p:nvPr/>
          </p:nvGrpSpPr>
          <p:grpSpPr>
            <a:xfrm>
              <a:off x="838080" y="3230640"/>
              <a:ext cx="273240" cy="282600"/>
              <a:chOff x="838080" y="3230640"/>
              <a:chExt cx="273240" cy="282600"/>
            </a:xfrm>
          </p:grpSpPr>
          <p:sp>
            <p:nvSpPr>
              <p:cNvPr id="1996" name=""/>
              <p:cNvSpPr/>
              <p:nvPr/>
            </p:nvSpPr>
            <p:spPr>
              <a:xfrm>
                <a:off x="838080" y="326088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843120" y="3265560"/>
                <a:ext cx="230040" cy="24264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38080" y="323064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838080" y="323064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079640" y="3230640"/>
                <a:ext cx="31680" cy="28080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079640" y="3230640"/>
                <a:ext cx="31680" cy="28080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852480" y="3271680"/>
              <a:ext cx="220680" cy="233640"/>
              <a:chOff x="852480" y="3271680"/>
              <a:chExt cx="220680" cy="233640"/>
            </a:xfrm>
          </p:grpSpPr>
          <p:grpSp>
            <p:nvGrpSpPr>
              <p:cNvPr id="2003" name=""/>
              <p:cNvGrpSpPr/>
              <p:nvPr/>
            </p:nvGrpSpPr>
            <p:grpSpPr>
              <a:xfrm>
                <a:off x="852480" y="3271680"/>
                <a:ext cx="217440" cy="230400"/>
                <a:chOff x="852480" y="3271680"/>
                <a:chExt cx="217440" cy="23040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893880" y="32716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893880" y="32716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958680" y="3313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958680" y="3313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966960" y="33876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966960" y="33876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852480" y="33973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852480" y="33973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919080" y="334008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3" name=""/>
              <p:cNvGrpSpPr/>
              <p:nvPr/>
            </p:nvGrpSpPr>
            <p:grpSpPr>
              <a:xfrm>
                <a:off x="855720" y="3274920"/>
                <a:ext cx="217440" cy="230400"/>
                <a:chOff x="855720" y="3274920"/>
                <a:chExt cx="217440" cy="23040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896760" y="3274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896760" y="3274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961920" y="331632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961920" y="331632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969840" y="33908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969840" y="33908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855720" y="33987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855720" y="33987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922320" y="3343320"/>
                  <a:ext cx="85680" cy="950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23" name=""/>
          <p:cNvSpPr/>
          <p:nvPr/>
        </p:nvSpPr>
        <p:spPr>
          <a:xfrm>
            <a:off x="2179800" y="2575080"/>
            <a:ext cx="0" cy="70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4" name="" descr=""/>
          <p:cNvPicPr/>
          <p:nvPr/>
        </p:nvPicPr>
        <p:blipFill>
          <a:blip r:embed="rId3"/>
          <a:stretch/>
        </p:blipFill>
        <p:spPr>
          <a:xfrm>
            <a:off x="3567240" y="2376360"/>
            <a:ext cx="331560" cy="26532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/>
          <p:nvPr/>
        </p:nvSpPr>
        <p:spPr>
          <a:xfrm flipV="1">
            <a:off x="3809880" y="2015640"/>
            <a:ext cx="2955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3870360" y="2133360"/>
            <a:ext cx="65556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7" name=""/>
          <p:cNvGrpSpPr/>
          <p:nvPr/>
        </p:nvGrpSpPr>
        <p:grpSpPr>
          <a:xfrm>
            <a:off x="3987720" y="1771560"/>
            <a:ext cx="273240" cy="281160"/>
            <a:chOff x="3987720" y="1771560"/>
            <a:chExt cx="273240" cy="281160"/>
          </a:xfrm>
        </p:grpSpPr>
        <p:grpSp>
          <p:nvGrpSpPr>
            <p:cNvPr id="2028" name=""/>
            <p:cNvGrpSpPr/>
            <p:nvPr/>
          </p:nvGrpSpPr>
          <p:grpSpPr>
            <a:xfrm>
              <a:off x="3987720" y="1771560"/>
              <a:ext cx="273240" cy="281160"/>
              <a:chOff x="3987720" y="1771560"/>
              <a:chExt cx="273240" cy="281160"/>
            </a:xfrm>
          </p:grpSpPr>
          <p:sp>
            <p:nvSpPr>
              <p:cNvPr id="2029" name=""/>
              <p:cNvSpPr/>
              <p:nvPr/>
            </p:nvSpPr>
            <p:spPr>
              <a:xfrm>
                <a:off x="3987720" y="1801800"/>
                <a:ext cx="24156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992400" y="1806480"/>
                <a:ext cx="230400" cy="2415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987720" y="177156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987720" y="177156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229280" y="177156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229280" y="177156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4002120" y="1812960"/>
              <a:ext cx="220680" cy="231840"/>
              <a:chOff x="4002120" y="1812960"/>
              <a:chExt cx="220680" cy="231840"/>
            </a:xfrm>
          </p:grpSpPr>
          <p:grpSp>
            <p:nvGrpSpPr>
              <p:cNvPr id="2036" name=""/>
              <p:cNvGrpSpPr/>
              <p:nvPr/>
            </p:nvGrpSpPr>
            <p:grpSpPr>
              <a:xfrm>
                <a:off x="4002120" y="1812960"/>
                <a:ext cx="217440" cy="228600"/>
                <a:chOff x="4002120" y="1812960"/>
                <a:chExt cx="217440" cy="22860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4043520" y="18129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043520" y="18129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108320" y="185436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108320" y="185436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116240" y="192708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116240" y="192708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002120" y="193680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002120" y="193680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068720" y="188136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6" name=""/>
              <p:cNvGrpSpPr/>
              <p:nvPr/>
            </p:nvGrpSpPr>
            <p:grpSpPr>
              <a:xfrm>
                <a:off x="4005360" y="1816200"/>
                <a:ext cx="217440" cy="228600"/>
                <a:chOff x="4005360" y="1816200"/>
                <a:chExt cx="217440" cy="22860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4046400" y="18162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046400" y="18162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111560" y="1857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111560" y="1857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119480" y="193032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119480" y="193032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005360" y="194004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005360" y="194004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071960" y="188424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56" name=""/>
          <p:cNvGrpSpPr/>
          <p:nvPr/>
        </p:nvGrpSpPr>
        <p:grpSpPr>
          <a:xfrm>
            <a:off x="4525920" y="1952640"/>
            <a:ext cx="274680" cy="280800"/>
            <a:chOff x="4525920" y="1952640"/>
            <a:chExt cx="274680" cy="280800"/>
          </a:xfrm>
        </p:grpSpPr>
        <p:grpSp>
          <p:nvGrpSpPr>
            <p:cNvPr id="2057" name=""/>
            <p:cNvGrpSpPr/>
            <p:nvPr/>
          </p:nvGrpSpPr>
          <p:grpSpPr>
            <a:xfrm>
              <a:off x="4525920" y="1952640"/>
              <a:ext cx="274680" cy="280800"/>
              <a:chOff x="4525920" y="1952640"/>
              <a:chExt cx="274680" cy="280800"/>
            </a:xfrm>
          </p:grpSpPr>
          <p:sp>
            <p:nvSpPr>
              <p:cNvPr id="2058" name=""/>
              <p:cNvSpPr/>
              <p:nvPr/>
            </p:nvSpPr>
            <p:spPr>
              <a:xfrm>
                <a:off x="4525920" y="1982880"/>
                <a:ext cx="241200" cy="2505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530600" y="198756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525920" y="19526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525920" y="19526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767120" y="1952640"/>
                <a:ext cx="3348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767120" y="1952640"/>
                <a:ext cx="3348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4540320" y="1994040"/>
              <a:ext cx="222120" cy="231480"/>
              <a:chOff x="4540320" y="1994040"/>
              <a:chExt cx="222120" cy="231480"/>
            </a:xfrm>
          </p:grpSpPr>
          <p:grpSp>
            <p:nvGrpSpPr>
              <p:cNvPr id="2065" name=""/>
              <p:cNvGrpSpPr/>
              <p:nvPr/>
            </p:nvGrpSpPr>
            <p:grpSpPr>
              <a:xfrm>
                <a:off x="4540320" y="1994040"/>
                <a:ext cx="218880" cy="228600"/>
                <a:chOff x="4540320" y="1994040"/>
                <a:chExt cx="218880" cy="228600"/>
              </a:xfrm>
            </p:grpSpPr>
            <p:sp>
              <p:nvSpPr>
                <p:cNvPr id="2066" name=""/>
                <p:cNvSpPr/>
                <p:nvPr/>
              </p:nvSpPr>
              <p:spPr>
                <a:xfrm>
                  <a:off x="4581360" y="1994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581360" y="1994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648320" y="203508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648320" y="203508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656240" y="21081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656240" y="21081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540320" y="21178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540320" y="21178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608360" y="206208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5" name=""/>
              <p:cNvGrpSpPr/>
              <p:nvPr/>
            </p:nvGrpSpPr>
            <p:grpSpPr>
              <a:xfrm>
                <a:off x="4543560" y="1996920"/>
                <a:ext cx="218880" cy="228600"/>
                <a:chOff x="4543560" y="1996920"/>
                <a:chExt cx="218880" cy="22860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4584600" y="1996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584600" y="1996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651200" y="2038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651200" y="2038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659480" y="21114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659480" y="21114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543560" y="212076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543560" y="212076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611600" y="206532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085" name="" descr=""/>
          <p:cNvPicPr/>
          <p:nvPr/>
        </p:nvPicPr>
        <p:blipFill>
          <a:blip r:embed="rId4"/>
          <a:stretch/>
        </p:blipFill>
        <p:spPr>
          <a:xfrm>
            <a:off x="3567240" y="3295800"/>
            <a:ext cx="331560" cy="264960"/>
          </a:xfrm>
          <a:prstGeom prst="rect">
            <a:avLst/>
          </a:prstGeom>
          <a:ln w="0">
            <a:noFill/>
          </a:ln>
        </p:spPr>
      </p:pic>
      <p:grpSp>
        <p:nvGrpSpPr>
          <p:cNvPr id="2086" name=""/>
          <p:cNvGrpSpPr/>
          <p:nvPr/>
        </p:nvGrpSpPr>
        <p:grpSpPr>
          <a:xfrm>
            <a:off x="3687840" y="4022640"/>
            <a:ext cx="272880" cy="281160"/>
            <a:chOff x="3687840" y="4022640"/>
            <a:chExt cx="272880" cy="281160"/>
          </a:xfrm>
        </p:grpSpPr>
        <p:grpSp>
          <p:nvGrpSpPr>
            <p:cNvPr id="2087" name=""/>
            <p:cNvGrpSpPr/>
            <p:nvPr/>
          </p:nvGrpSpPr>
          <p:grpSpPr>
            <a:xfrm>
              <a:off x="3687840" y="4022640"/>
              <a:ext cx="272880" cy="281160"/>
              <a:chOff x="3687840" y="4022640"/>
              <a:chExt cx="272880" cy="281160"/>
            </a:xfrm>
          </p:grpSpPr>
          <p:sp>
            <p:nvSpPr>
              <p:cNvPr id="2088" name=""/>
              <p:cNvSpPr/>
              <p:nvPr/>
            </p:nvSpPr>
            <p:spPr>
              <a:xfrm>
                <a:off x="3687840" y="405288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692520" y="4057560"/>
                <a:ext cx="230040" cy="2415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687840" y="40226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87840" y="40226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929040" y="40226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929040" y="40226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4" name=""/>
            <p:cNvGrpSpPr/>
            <p:nvPr/>
          </p:nvGrpSpPr>
          <p:grpSpPr>
            <a:xfrm>
              <a:off x="3701880" y="4064040"/>
              <a:ext cx="220680" cy="231840"/>
              <a:chOff x="3701880" y="4064040"/>
              <a:chExt cx="220680" cy="231840"/>
            </a:xfrm>
          </p:grpSpPr>
          <p:grpSp>
            <p:nvGrpSpPr>
              <p:cNvPr id="2095" name=""/>
              <p:cNvGrpSpPr/>
              <p:nvPr/>
            </p:nvGrpSpPr>
            <p:grpSpPr>
              <a:xfrm>
                <a:off x="3701880" y="4064040"/>
                <a:ext cx="217800" cy="228600"/>
                <a:chOff x="3701880" y="4064040"/>
                <a:chExt cx="217800" cy="228600"/>
              </a:xfrm>
            </p:grpSpPr>
            <p:sp>
              <p:nvSpPr>
                <p:cNvPr id="2096" name=""/>
                <p:cNvSpPr/>
                <p:nvPr/>
              </p:nvSpPr>
              <p:spPr>
                <a:xfrm>
                  <a:off x="3743280" y="4064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743280" y="4064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3808440" y="410544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3808440" y="410544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3816360" y="41781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3816360" y="41781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3701880" y="41878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3701880" y="41878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3768840" y="413244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3705120" y="4067280"/>
                <a:ext cx="217440" cy="228600"/>
                <a:chOff x="3705120" y="4067280"/>
                <a:chExt cx="217440" cy="22860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3746520" y="40672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3746520" y="40672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3811680" y="410832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3811680" y="410832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3819600" y="41814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3819600" y="41814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3705120" y="419112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3705120" y="419112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3772080" y="413532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5" name=""/>
          <p:cNvGrpSpPr/>
          <p:nvPr/>
        </p:nvGrpSpPr>
        <p:grpSpPr>
          <a:xfrm>
            <a:off x="4321080" y="3689280"/>
            <a:ext cx="273240" cy="282600"/>
            <a:chOff x="4321080" y="3689280"/>
            <a:chExt cx="273240" cy="282600"/>
          </a:xfrm>
        </p:grpSpPr>
        <p:grpSp>
          <p:nvGrpSpPr>
            <p:cNvPr id="2116" name=""/>
            <p:cNvGrpSpPr/>
            <p:nvPr/>
          </p:nvGrpSpPr>
          <p:grpSpPr>
            <a:xfrm>
              <a:off x="4321080" y="3689280"/>
              <a:ext cx="273240" cy="282600"/>
              <a:chOff x="4321080" y="3689280"/>
              <a:chExt cx="273240" cy="282600"/>
            </a:xfrm>
          </p:grpSpPr>
          <p:sp>
            <p:nvSpPr>
              <p:cNvPr id="2117" name=""/>
              <p:cNvSpPr/>
              <p:nvPr/>
            </p:nvSpPr>
            <p:spPr>
              <a:xfrm>
                <a:off x="4321080" y="371952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325760" y="3724200"/>
                <a:ext cx="230400" cy="2430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4321080" y="36892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4321080" y="36892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562640" y="368928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562640" y="368928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4335480" y="3730680"/>
              <a:ext cx="220680" cy="233280"/>
              <a:chOff x="4335480" y="3730680"/>
              <a:chExt cx="220680" cy="233280"/>
            </a:xfrm>
          </p:grpSpPr>
          <p:grpSp>
            <p:nvGrpSpPr>
              <p:cNvPr id="2124" name=""/>
              <p:cNvGrpSpPr/>
              <p:nvPr/>
            </p:nvGrpSpPr>
            <p:grpSpPr>
              <a:xfrm>
                <a:off x="4335480" y="3730680"/>
                <a:ext cx="217440" cy="230040"/>
                <a:chOff x="4335480" y="3730680"/>
                <a:chExt cx="217440" cy="230040"/>
              </a:xfrm>
            </p:grpSpPr>
            <p:sp>
              <p:nvSpPr>
                <p:cNvPr id="2125" name=""/>
                <p:cNvSpPr/>
                <p:nvPr/>
              </p:nvSpPr>
              <p:spPr>
                <a:xfrm>
                  <a:off x="4376880" y="37306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4376880" y="37306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4441680" y="37720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4441680" y="37720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4449600" y="384660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4449600" y="384660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4335480" y="38559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4335480" y="38559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4402080" y="379872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4" name=""/>
              <p:cNvGrpSpPr/>
              <p:nvPr/>
            </p:nvGrpSpPr>
            <p:grpSpPr>
              <a:xfrm>
                <a:off x="4338720" y="3733920"/>
                <a:ext cx="217440" cy="230040"/>
                <a:chOff x="4338720" y="3733920"/>
                <a:chExt cx="217440" cy="230040"/>
              </a:xfrm>
            </p:grpSpPr>
            <p:sp>
              <p:nvSpPr>
                <p:cNvPr id="2135" name=""/>
                <p:cNvSpPr/>
                <p:nvPr/>
              </p:nvSpPr>
              <p:spPr>
                <a:xfrm>
                  <a:off x="4379760" y="3733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4379760" y="3733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4444920" y="377496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4444920" y="377496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4452840" y="38498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4452840" y="38498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4338720" y="385776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4338720" y="385776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4405320" y="380196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44" name=""/>
          <p:cNvGrpSpPr/>
          <p:nvPr/>
        </p:nvGrpSpPr>
        <p:grpSpPr>
          <a:xfrm>
            <a:off x="4406760" y="3173400"/>
            <a:ext cx="273240" cy="282600"/>
            <a:chOff x="4406760" y="3173400"/>
            <a:chExt cx="273240" cy="282600"/>
          </a:xfrm>
        </p:grpSpPr>
        <p:grpSp>
          <p:nvGrpSpPr>
            <p:cNvPr id="2145" name=""/>
            <p:cNvGrpSpPr/>
            <p:nvPr/>
          </p:nvGrpSpPr>
          <p:grpSpPr>
            <a:xfrm>
              <a:off x="4406760" y="3173400"/>
              <a:ext cx="273240" cy="282600"/>
              <a:chOff x="4406760" y="3173400"/>
              <a:chExt cx="273240" cy="282600"/>
            </a:xfrm>
          </p:grpSpPr>
          <p:sp>
            <p:nvSpPr>
              <p:cNvPr id="2146" name=""/>
              <p:cNvSpPr/>
              <p:nvPr/>
            </p:nvSpPr>
            <p:spPr>
              <a:xfrm>
                <a:off x="4406760" y="320364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4411800" y="3208320"/>
                <a:ext cx="230040" cy="2430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4406760" y="317340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406760" y="317340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648320" y="317340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4648320" y="317340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2" name=""/>
            <p:cNvGrpSpPr/>
            <p:nvPr/>
          </p:nvGrpSpPr>
          <p:grpSpPr>
            <a:xfrm>
              <a:off x="4421160" y="3214800"/>
              <a:ext cx="220680" cy="233280"/>
              <a:chOff x="4421160" y="3214800"/>
              <a:chExt cx="220680" cy="233280"/>
            </a:xfrm>
          </p:grpSpPr>
          <p:grpSp>
            <p:nvGrpSpPr>
              <p:cNvPr id="2153" name=""/>
              <p:cNvGrpSpPr/>
              <p:nvPr/>
            </p:nvGrpSpPr>
            <p:grpSpPr>
              <a:xfrm>
                <a:off x="4421160" y="3214800"/>
                <a:ext cx="217440" cy="230040"/>
                <a:chOff x="4421160" y="3214800"/>
                <a:chExt cx="217440" cy="230040"/>
              </a:xfrm>
            </p:grpSpPr>
            <p:sp>
              <p:nvSpPr>
                <p:cNvPr id="2154" name=""/>
                <p:cNvSpPr/>
                <p:nvPr/>
              </p:nvSpPr>
              <p:spPr>
                <a:xfrm>
                  <a:off x="4462560" y="321480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4462560" y="321480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527720" y="325584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4527720" y="325584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4535640" y="333072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4535640" y="333072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4421160" y="334008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4421160" y="334008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4487760" y="328284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3" name=""/>
              <p:cNvGrpSpPr/>
              <p:nvPr/>
            </p:nvGrpSpPr>
            <p:grpSpPr>
              <a:xfrm>
                <a:off x="4424400" y="3218040"/>
                <a:ext cx="217440" cy="230040"/>
                <a:chOff x="4424400" y="3218040"/>
                <a:chExt cx="217440" cy="23004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4465800" y="3218040"/>
                  <a:ext cx="61920" cy="11556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465800" y="3218040"/>
                  <a:ext cx="61920" cy="11556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530600" y="325908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530600" y="325908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538520" y="33336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538520" y="33336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424400" y="334152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424400" y="334152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91000" y="328608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73" name=""/>
          <p:cNvSpPr/>
          <p:nvPr/>
        </p:nvSpPr>
        <p:spPr>
          <a:xfrm>
            <a:off x="3751200" y="3540240"/>
            <a:ext cx="11736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870360" y="3479760"/>
            <a:ext cx="450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870360" y="3355920"/>
            <a:ext cx="53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3699000" y="2608200"/>
            <a:ext cx="0" cy="70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4560840" y="2371680"/>
            <a:ext cx="273240" cy="281160"/>
            <a:chOff x="4560840" y="2371680"/>
            <a:chExt cx="273240" cy="281160"/>
          </a:xfrm>
        </p:grpSpPr>
        <p:grpSp>
          <p:nvGrpSpPr>
            <p:cNvPr id="2178" name=""/>
            <p:cNvGrpSpPr/>
            <p:nvPr/>
          </p:nvGrpSpPr>
          <p:grpSpPr>
            <a:xfrm>
              <a:off x="4560840" y="2371680"/>
              <a:ext cx="273240" cy="281160"/>
              <a:chOff x="4560840" y="2371680"/>
              <a:chExt cx="273240" cy="281160"/>
            </a:xfrm>
          </p:grpSpPr>
          <p:sp>
            <p:nvSpPr>
              <p:cNvPr id="2179" name=""/>
              <p:cNvSpPr/>
              <p:nvPr/>
            </p:nvSpPr>
            <p:spPr>
              <a:xfrm>
                <a:off x="4560840" y="240192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565520" y="2406600"/>
                <a:ext cx="23040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560840" y="23716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560840" y="23716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02040" y="2371680"/>
                <a:ext cx="3204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802040" y="2371680"/>
                <a:ext cx="3204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5" name=""/>
            <p:cNvGrpSpPr/>
            <p:nvPr/>
          </p:nvGrpSpPr>
          <p:grpSpPr>
            <a:xfrm>
              <a:off x="4575240" y="2413080"/>
              <a:ext cx="220680" cy="231840"/>
              <a:chOff x="4575240" y="2413080"/>
              <a:chExt cx="220680" cy="231840"/>
            </a:xfrm>
          </p:grpSpPr>
          <p:grpSp>
            <p:nvGrpSpPr>
              <p:cNvPr id="2186" name=""/>
              <p:cNvGrpSpPr/>
              <p:nvPr/>
            </p:nvGrpSpPr>
            <p:grpSpPr>
              <a:xfrm>
                <a:off x="4575240" y="2413080"/>
                <a:ext cx="217440" cy="228600"/>
                <a:chOff x="4575240" y="2413080"/>
                <a:chExt cx="217440" cy="228600"/>
              </a:xfrm>
            </p:grpSpPr>
            <p:sp>
              <p:nvSpPr>
                <p:cNvPr id="2187" name=""/>
                <p:cNvSpPr/>
                <p:nvPr/>
              </p:nvSpPr>
              <p:spPr>
                <a:xfrm>
                  <a:off x="4616280" y="24130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4616280" y="24130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4681440" y="24541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4681440" y="24541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4689360" y="25272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4689360" y="25272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4575240" y="25369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4575240" y="25369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4641840" y="248112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6" name=""/>
              <p:cNvGrpSpPr/>
              <p:nvPr/>
            </p:nvGrpSpPr>
            <p:grpSpPr>
              <a:xfrm>
                <a:off x="4578480" y="2416320"/>
                <a:ext cx="217440" cy="228600"/>
                <a:chOff x="4578480" y="2416320"/>
                <a:chExt cx="217440" cy="228600"/>
              </a:xfrm>
            </p:grpSpPr>
            <p:sp>
              <p:nvSpPr>
                <p:cNvPr id="2197" name=""/>
                <p:cNvSpPr/>
                <p:nvPr/>
              </p:nvSpPr>
              <p:spPr>
                <a:xfrm>
                  <a:off x="4619520" y="24163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4619520" y="24163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4684680" y="24573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4684680" y="24573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4692600" y="25304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4692600" y="25304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4578480" y="254016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578480" y="254016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4645080" y="248436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6" name=""/>
          <p:cNvGrpSpPr/>
          <p:nvPr/>
        </p:nvGrpSpPr>
        <p:grpSpPr>
          <a:xfrm>
            <a:off x="1460520" y="1724040"/>
            <a:ext cx="272880" cy="280800"/>
            <a:chOff x="1460520" y="1724040"/>
            <a:chExt cx="272880" cy="280800"/>
          </a:xfrm>
        </p:grpSpPr>
        <p:grpSp>
          <p:nvGrpSpPr>
            <p:cNvPr id="2207" name=""/>
            <p:cNvGrpSpPr/>
            <p:nvPr/>
          </p:nvGrpSpPr>
          <p:grpSpPr>
            <a:xfrm>
              <a:off x="1460520" y="1724040"/>
              <a:ext cx="272880" cy="280800"/>
              <a:chOff x="1460520" y="1724040"/>
              <a:chExt cx="272880" cy="280800"/>
            </a:xfrm>
          </p:grpSpPr>
          <p:sp>
            <p:nvSpPr>
              <p:cNvPr id="2208" name=""/>
              <p:cNvSpPr/>
              <p:nvPr/>
            </p:nvSpPr>
            <p:spPr>
              <a:xfrm>
                <a:off x="1460520" y="1754280"/>
                <a:ext cx="241200" cy="2505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465200" y="1758960"/>
                <a:ext cx="23040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460520" y="17240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460520" y="17240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701720" y="17240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701720" y="17240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4" name=""/>
            <p:cNvGrpSpPr/>
            <p:nvPr/>
          </p:nvGrpSpPr>
          <p:grpSpPr>
            <a:xfrm>
              <a:off x="1474920" y="1765440"/>
              <a:ext cx="220680" cy="231480"/>
              <a:chOff x="1474920" y="1765440"/>
              <a:chExt cx="220680" cy="231480"/>
            </a:xfrm>
          </p:grpSpPr>
          <p:grpSp>
            <p:nvGrpSpPr>
              <p:cNvPr id="2215" name=""/>
              <p:cNvGrpSpPr/>
              <p:nvPr/>
            </p:nvGrpSpPr>
            <p:grpSpPr>
              <a:xfrm>
                <a:off x="1474920" y="1765440"/>
                <a:ext cx="217440" cy="228600"/>
                <a:chOff x="1474920" y="1765440"/>
                <a:chExt cx="217440" cy="228600"/>
              </a:xfrm>
            </p:grpSpPr>
            <p:sp>
              <p:nvSpPr>
                <p:cNvPr id="2216" name=""/>
                <p:cNvSpPr/>
                <p:nvPr/>
              </p:nvSpPr>
              <p:spPr>
                <a:xfrm>
                  <a:off x="1515960" y="17654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1515960" y="17654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1581120" y="18064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1581120" y="18064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1589040" y="187956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589040" y="187956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1474920" y="18892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1474920" y="18892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1541520" y="183348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5" name=""/>
              <p:cNvGrpSpPr/>
              <p:nvPr/>
            </p:nvGrpSpPr>
            <p:grpSpPr>
              <a:xfrm>
                <a:off x="1477800" y="1768320"/>
                <a:ext cx="217800" cy="228600"/>
                <a:chOff x="1477800" y="1768320"/>
                <a:chExt cx="217800" cy="228600"/>
              </a:xfrm>
            </p:grpSpPr>
            <p:sp>
              <p:nvSpPr>
                <p:cNvPr id="2226" name=""/>
                <p:cNvSpPr/>
                <p:nvPr/>
              </p:nvSpPr>
              <p:spPr>
                <a:xfrm>
                  <a:off x="1519200" y="17683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1519200" y="17683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1584360" y="18097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1584360" y="18097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1592280" y="18828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1592280" y="18828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1477800" y="18921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1477800" y="18921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1544760" y="183672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5" name=""/>
          <p:cNvSpPr/>
          <p:nvPr/>
        </p:nvSpPr>
        <p:spPr>
          <a:xfrm>
            <a:off x="1701720" y="1962000"/>
            <a:ext cx="38124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366920" y="3517920"/>
            <a:ext cx="668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2035080" y="351936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286000" y="282096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2276640" y="3198960"/>
            <a:ext cx="390240" cy="33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65200" y="5867280"/>
            <a:ext cx="5825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ity of traffic is asymmetrically distrib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ackbone nodes acros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1" name="" descr=""/>
          <p:cNvPicPr/>
          <p:nvPr/>
        </p:nvPicPr>
        <p:blipFill>
          <a:blip r:embed="rId5"/>
          <a:stretch/>
        </p:blipFill>
        <p:spPr>
          <a:xfrm>
            <a:off x="6162840" y="3714840"/>
            <a:ext cx="331560" cy="264960"/>
          </a:xfrm>
          <a:prstGeom prst="rect">
            <a:avLst/>
          </a:prstGeom>
          <a:ln w="0">
            <a:noFill/>
          </a:ln>
        </p:spPr>
      </p:pic>
      <p:sp>
        <p:nvSpPr>
          <p:cNvPr id="2242" name=""/>
          <p:cNvSpPr/>
          <p:nvPr/>
        </p:nvSpPr>
        <p:spPr>
          <a:xfrm>
            <a:off x="6464160" y="3836880"/>
            <a:ext cx="12668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226200" y="3294000"/>
            <a:ext cx="115920" cy="4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 flipV="1">
            <a:off x="5640480" y="3776400"/>
            <a:ext cx="52236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5410080" y="4038480"/>
            <a:ext cx="274680" cy="282600"/>
            <a:chOff x="5410080" y="4038480"/>
            <a:chExt cx="274680" cy="282600"/>
          </a:xfrm>
        </p:grpSpPr>
        <p:grpSp>
          <p:nvGrpSpPr>
            <p:cNvPr id="2246" name=""/>
            <p:cNvGrpSpPr/>
            <p:nvPr/>
          </p:nvGrpSpPr>
          <p:grpSpPr>
            <a:xfrm>
              <a:off x="5410080" y="4038480"/>
              <a:ext cx="274680" cy="282600"/>
              <a:chOff x="5410080" y="4038480"/>
              <a:chExt cx="274680" cy="282600"/>
            </a:xfrm>
          </p:grpSpPr>
          <p:sp>
            <p:nvSpPr>
              <p:cNvPr id="2247" name=""/>
              <p:cNvSpPr/>
              <p:nvPr/>
            </p:nvSpPr>
            <p:spPr>
              <a:xfrm>
                <a:off x="5410080" y="406872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415120" y="4073400"/>
                <a:ext cx="231480" cy="2430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410080" y="4038480"/>
                <a:ext cx="274680" cy="3204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410080" y="4038480"/>
                <a:ext cx="274680" cy="3204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651640" y="4038480"/>
                <a:ext cx="33120" cy="281160"/>
              </a:xfrm>
              <a:custGeom>
                <a:avLst/>
                <a:gdLst/>
                <a:ahLst/>
                <a:rect l="l" t="t" r="r" b="b"/>
                <a:pathLst>
                  <a:path w="21" h="177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651640" y="4038480"/>
                <a:ext cx="33120" cy="281160"/>
              </a:xfrm>
              <a:custGeom>
                <a:avLst/>
                <a:gdLst/>
                <a:ahLst/>
                <a:rect l="l" t="t" r="r" b="b"/>
                <a:pathLst>
                  <a:path w="21" h="177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3" name=""/>
            <p:cNvGrpSpPr/>
            <p:nvPr/>
          </p:nvGrpSpPr>
          <p:grpSpPr>
            <a:xfrm>
              <a:off x="5424480" y="4079880"/>
              <a:ext cx="222120" cy="233280"/>
              <a:chOff x="5424480" y="4079880"/>
              <a:chExt cx="222120" cy="233280"/>
            </a:xfrm>
          </p:grpSpPr>
          <p:grpSp>
            <p:nvGrpSpPr>
              <p:cNvPr id="2254" name=""/>
              <p:cNvGrpSpPr/>
              <p:nvPr/>
            </p:nvGrpSpPr>
            <p:grpSpPr>
              <a:xfrm>
                <a:off x="5424480" y="4079880"/>
                <a:ext cx="219240" cy="230040"/>
                <a:chOff x="5424480" y="4079880"/>
                <a:chExt cx="219240" cy="230040"/>
              </a:xfrm>
            </p:grpSpPr>
            <p:sp>
              <p:nvSpPr>
                <p:cNvPr id="2255" name=""/>
                <p:cNvSpPr/>
                <p:nvPr/>
              </p:nvSpPr>
              <p:spPr>
                <a:xfrm>
                  <a:off x="5465880" y="40798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465880" y="40798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532480" y="41212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5532480" y="41212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540400" y="41958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5540400" y="41958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424480" y="42051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424480" y="42051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492880" y="4148280"/>
                  <a:ext cx="83880" cy="950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4" name=""/>
              <p:cNvGrpSpPr/>
              <p:nvPr/>
            </p:nvGrpSpPr>
            <p:grpSpPr>
              <a:xfrm>
                <a:off x="5427720" y="4083120"/>
                <a:ext cx="218880" cy="230040"/>
                <a:chOff x="5427720" y="4083120"/>
                <a:chExt cx="218880" cy="230040"/>
              </a:xfrm>
            </p:grpSpPr>
            <p:sp>
              <p:nvSpPr>
                <p:cNvPr id="2265" name=""/>
                <p:cNvSpPr/>
                <p:nvPr/>
              </p:nvSpPr>
              <p:spPr>
                <a:xfrm>
                  <a:off x="5468760" y="40831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5468760" y="40831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35720" y="4124160"/>
                  <a:ext cx="11088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535720" y="4124160"/>
                  <a:ext cx="11088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543640" y="419904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543640" y="419904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427720" y="42069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427720" y="42069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495760" y="4151160"/>
                  <a:ext cx="8424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4" name=""/>
          <p:cNvGrpSpPr/>
          <p:nvPr/>
        </p:nvGrpSpPr>
        <p:grpSpPr>
          <a:xfrm>
            <a:off x="6162840" y="3048120"/>
            <a:ext cx="274320" cy="280800"/>
            <a:chOff x="6162840" y="3048120"/>
            <a:chExt cx="274320" cy="280800"/>
          </a:xfrm>
        </p:grpSpPr>
        <p:grpSp>
          <p:nvGrpSpPr>
            <p:cNvPr id="2275" name=""/>
            <p:cNvGrpSpPr/>
            <p:nvPr/>
          </p:nvGrpSpPr>
          <p:grpSpPr>
            <a:xfrm>
              <a:off x="6162840" y="3048120"/>
              <a:ext cx="274320" cy="280800"/>
              <a:chOff x="6162840" y="3048120"/>
              <a:chExt cx="274320" cy="280800"/>
            </a:xfrm>
          </p:grpSpPr>
          <p:sp>
            <p:nvSpPr>
              <p:cNvPr id="2276" name=""/>
              <p:cNvSpPr/>
              <p:nvPr/>
            </p:nvSpPr>
            <p:spPr>
              <a:xfrm>
                <a:off x="6162840" y="307800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167520" y="308304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162840" y="304812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162840" y="304812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404040" y="304812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404040" y="304812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6176880" y="3089160"/>
              <a:ext cx="222480" cy="231840"/>
              <a:chOff x="6176880" y="3089160"/>
              <a:chExt cx="222480" cy="231840"/>
            </a:xfrm>
          </p:grpSpPr>
          <p:grpSp>
            <p:nvGrpSpPr>
              <p:cNvPr id="2283" name=""/>
              <p:cNvGrpSpPr/>
              <p:nvPr/>
            </p:nvGrpSpPr>
            <p:grpSpPr>
              <a:xfrm>
                <a:off x="6176880" y="3089160"/>
                <a:ext cx="219240" cy="228600"/>
                <a:chOff x="6176880" y="3089160"/>
                <a:chExt cx="219240" cy="22860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6218280" y="30891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6218280" y="30891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6284880" y="31305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6284880" y="31305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6292800" y="32036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6292800" y="32036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6176880" y="321300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6176880" y="321300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6245280" y="315756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3" name=""/>
              <p:cNvGrpSpPr/>
              <p:nvPr/>
            </p:nvGrpSpPr>
            <p:grpSpPr>
              <a:xfrm>
                <a:off x="6180120" y="3092400"/>
                <a:ext cx="219240" cy="228600"/>
                <a:chOff x="6180120" y="3092400"/>
                <a:chExt cx="219240" cy="22860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6221520" y="30924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6221520" y="30924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6288120" y="313380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6288120" y="313380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6296040" y="320688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6296040" y="320688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6180120" y="3216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180120" y="3216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6248520" y="3160800"/>
                  <a:ext cx="838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303" name="" descr=""/>
          <p:cNvPicPr/>
          <p:nvPr/>
        </p:nvPicPr>
        <p:blipFill>
          <a:blip r:embed="rId6"/>
          <a:stretch/>
        </p:blipFill>
        <p:spPr>
          <a:xfrm>
            <a:off x="6162840" y="4633920"/>
            <a:ext cx="331560" cy="264960"/>
          </a:xfrm>
          <a:prstGeom prst="rect">
            <a:avLst/>
          </a:prstGeom>
          <a:ln w="0">
            <a:noFill/>
          </a:ln>
        </p:spPr>
      </p:pic>
      <p:sp>
        <p:nvSpPr>
          <p:cNvPr id="2304" name=""/>
          <p:cNvSpPr/>
          <p:nvPr/>
        </p:nvSpPr>
        <p:spPr>
          <a:xfrm flipV="1">
            <a:off x="6464160" y="4749480"/>
            <a:ext cx="12178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294600" y="484020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6" name=""/>
          <p:cNvGrpSpPr/>
          <p:nvPr/>
        </p:nvGrpSpPr>
        <p:grpSpPr>
          <a:xfrm>
            <a:off x="6197760" y="5500800"/>
            <a:ext cx="274320" cy="280800"/>
            <a:chOff x="6197760" y="5500800"/>
            <a:chExt cx="274320" cy="280800"/>
          </a:xfrm>
        </p:grpSpPr>
        <p:grpSp>
          <p:nvGrpSpPr>
            <p:cNvPr id="2307" name=""/>
            <p:cNvGrpSpPr/>
            <p:nvPr/>
          </p:nvGrpSpPr>
          <p:grpSpPr>
            <a:xfrm>
              <a:off x="6197760" y="5500800"/>
              <a:ext cx="274320" cy="280800"/>
              <a:chOff x="6197760" y="5500800"/>
              <a:chExt cx="274320" cy="280800"/>
            </a:xfrm>
          </p:grpSpPr>
          <p:sp>
            <p:nvSpPr>
              <p:cNvPr id="2308" name=""/>
              <p:cNvSpPr/>
              <p:nvPr/>
            </p:nvSpPr>
            <p:spPr>
              <a:xfrm>
                <a:off x="6197760" y="553068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202440" y="553572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197760" y="550080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197760" y="550080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438960" y="550080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438960" y="550080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6211800" y="5541840"/>
              <a:ext cx="222480" cy="231840"/>
              <a:chOff x="6211800" y="5541840"/>
              <a:chExt cx="222480" cy="231840"/>
            </a:xfrm>
          </p:grpSpPr>
          <p:grpSp>
            <p:nvGrpSpPr>
              <p:cNvPr id="2315" name=""/>
              <p:cNvGrpSpPr/>
              <p:nvPr/>
            </p:nvGrpSpPr>
            <p:grpSpPr>
              <a:xfrm>
                <a:off x="6211800" y="5541840"/>
                <a:ext cx="219240" cy="228600"/>
                <a:chOff x="6211800" y="5541840"/>
                <a:chExt cx="219240" cy="228600"/>
              </a:xfrm>
            </p:grpSpPr>
            <p:sp>
              <p:nvSpPr>
                <p:cNvPr id="2316" name=""/>
                <p:cNvSpPr/>
                <p:nvPr/>
              </p:nvSpPr>
              <p:spPr>
                <a:xfrm>
                  <a:off x="6253200" y="55418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6253200" y="55418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6319800" y="5583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6319800" y="5583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6327720" y="565632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6327720" y="565632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6211800" y="56656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6211800" y="56656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6280200" y="561024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5" name=""/>
              <p:cNvGrpSpPr/>
              <p:nvPr/>
            </p:nvGrpSpPr>
            <p:grpSpPr>
              <a:xfrm>
                <a:off x="6215040" y="5545080"/>
                <a:ext cx="219240" cy="228600"/>
                <a:chOff x="6215040" y="5545080"/>
                <a:chExt cx="219240" cy="228600"/>
              </a:xfrm>
            </p:grpSpPr>
            <p:sp>
              <p:nvSpPr>
                <p:cNvPr id="2326" name=""/>
                <p:cNvSpPr/>
                <p:nvPr/>
              </p:nvSpPr>
              <p:spPr>
                <a:xfrm>
                  <a:off x="6256440" y="55450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6256440" y="55450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6323040" y="55864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6323040" y="55864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6330960" y="565956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6330960" y="565956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6215040" y="56689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6215040" y="56689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6283440" y="5613480"/>
                  <a:ext cx="838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5" name=""/>
          <p:cNvSpPr/>
          <p:nvPr/>
        </p:nvSpPr>
        <p:spPr>
          <a:xfrm>
            <a:off x="5194440" y="474516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4952880" y="4602240"/>
            <a:ext cx="273240" cy="282600"/>
            <a:chOff x="4952880" y="4602240"/>
            <a:chExt cx="273240" cy="282600"/>
          </a:xfrm>
        </p:grpSpPr>
        <p:grpSp>
          <p:nvGrpSpPr>
            <p:cNvPr id="2337" name=""/>
            <p:cNvGrpSpPr/>
            <p:nvPr/>
          </p:nvGrpSpPr>
          <p:grpSpPr>
            <a:xfrm>
              <a:off x="4952880" y="4602240"/>
              <a:ext cx="273240" cy="282600"/>
              <a:chOff x="4952880" y="4602240"/>
              <a:chExt cx="273240" cy="282600"/>
            </a:xfrm>
          </p:grpSpPr>
          <p:sp>
            <p:nvSpPr>
              <p:cNvPr id="2338" name=""/>
              <p:cNvSpPr/>
              <p:nvPr/>
            </p:nvSpPr>
            <p:spPr>
              <a:xfrm>
                <a:off x="4952880" y="463248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957920" y="4637160"/>
                <a:ext cx="230040" cy="24264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952880" y="460224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952880" y="460224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194440" y="4602240"/>
                <a:ext cx="31680" cy="28080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194440" y="4602240"/>
                <a:ext cx="31680" cy="28080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4967280" y="4643280"/>
              <a:ext cx="220680" cy="233640"/>
              <a:chOff x="4967280" y="4643280"/>
              <a:chExt cx="220680" cy="233640"/>
            </a:xfrm>
          </p:grpSpPr>
          <p:grpSp>
            <p:nvGrpSpPr>
              <p:cNvPr id="2345" name=""/>
              <p:cNvGrpSpPr/>
              <p:nvPr/>
            </p:nvGrpSpPr>
            <p:grpSpPr>
              <a:xfrm>
                <a:off x="4967280" y="4643280"/>
                <a:ext cx="217440" cy="230400"/>
                <a:chOff x="4967280" y="4643280"/>
                <a:chExt cx="217440" cy="230400"/>
              </a:xfrm>
            </p:grpSpPr>
            <p:sp>
              <p:nvSpPr>
                <p:cNvPr id="2346" name=""/>
                <p:cNvSpPr/>
                <p:nvPr/>
              </p:nvSpPr>
              <p:spPr>
                <a:xfrm>
                  <a:off x="5008680" y="46432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008680" y="46432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073480" y="46846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5073480" y="46846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5081760" y="47592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081760" y="47592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967280" y="47689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967280" y="47689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033880" y="471168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5" name=""/>
              <p:cNvGrpSpPr/>
              <p:nvPr/>
            </p:nvGrpSpPr>
            <p:grpSpPr>
              <a:xfrm>
                <a:off x="4970520" y="4646520"/>
                <a:ext cx="217440" cy="230400"/>
                <a:chOff x="4970520" y="4646520"/>
                <a:chExt cx="217440" cy="230400"/>
              </a:xfrm>
            </p:grpSpPr>
            <p:sp>
              <p:nvSpPr>
                <p:cNvPr id="2356" name=""/>
                <p:cNvSpPr/>
                <p:nvPr/>
              </p:nvSpPr>
              <p:spPr>
                <a:xfrm>
                  <a:off x="5011560" y="4646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011560" y="4646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076720" y="468792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076720" y="468792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084640" y="47624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084640" y="47624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4970520" y="47703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4970520" y="47703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037120" y="4714920"/>
                  <a:ext cx="85680" cy="950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65" name=""/>
          <p:cNvSpPr/>
          <p:nvPr/>
        </p:nvSpPr>
        <p:spPr>
          <a:xfrm>
            <a:off x="6294600" y="3946680"/>
            <a:ext cx="0" cy="70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6" name="" descr=""/>
          <p:cNvPicPr/>
          <p:nvPr/>
        </p:nvPicPr>
        <p:blipFill>
          <a:blip r:embed="rId7"/>
          <a:stretch/>
        </p:blipFill>
        <p:spPr>
          <a:xfrm>
            <a:off x="7682040" y="3747960"/>
            <a:ext cx="331560" cy="265320"/>
          </a:xfrm>
          <a:prstGeom prst="rect">
            <a:avLst/>
          </a:prstGeom>
          <a:ln w="0">
            <a:noFill/>
          </a:ln>
        </p:spPr>
      </p:pic>
      <p:sp>
        <p:nvSpPr>
          <p:cNvPr id="2367" name=""/>
          <p:cNvSpPr/>
          <p:nvPr/>
        </p:nvSpPr>
        <p:spPr>
          <a:xfrm flipV="1">
            <a:off x="7924680" y="3387240"/>
            <a:ext cx="2955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7985160" y="3504960"/>
            <a:ext cx="65556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8102520" y="3143160"/>
            <a:ext cx="273240" cy="281160"/>
            <a:chOff x="8102520" y="3143160"/>
            <a:chExt cx="273240" cy="281160"/>
          </a:xfrm>
        </p:grpSpPr>
        <p:grpSp>
          <p:nvGrpSpPr>
            <p:cNvPr id="2370" name=""/>
            <p:cNvGrpSpPr/>
            <p:nvPr/>
          </p:nvGrpSpPr>
          <p:grpSpPr>
            <a:xfrm>
              <a:off x="8102520" y="3143160"/>
              <a:ext cx="273240" cy="281160"/>
              <a:chOff x="8102520" y="3143160"/>
              <a:chExt cx="273240" cy="281160"/>
            </a:xfrm>
          </p:grpSpPr>
          <p:sp>
            <p:nvSpPr>
              <p:cNvPr id="2371" name=""/>
              <p:cNvSpPr/>
              <p:nvPr/>
            </p:nvSpPr>
            <p:spPr>
              <a:xfrm>
                <a:off x="8102520" y="3173400"/>
                <a:ext cx="24156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107200" y="3178080"/>
                <a:ext cx="230400" cy="2415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02520" y="314316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102520" y="314316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344080" y="314316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344080" y="314316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8116920" y="3184560"/>
              <a:ext cx="220680" cy="231840"/>
              <a:chOff x="8116920" y="3184560"/>
              <a:chExt cx="220680" cy="231840"/>
            </a:xfrm>
          </p:grpSpPr>
          <p:grpSp>
            <p:nvGrpSpPr>
              <p:cNvPr id="2378" name=""/>
              <p:cNvGrpSpPr/>
              <p:nvPr/>
            </p:nvGrpSpPr>
            <p:grpSpPr>
              <a:xfrm>
                <a:off x="8116920" y="3184560"/>
                <a:ext cx="217440" cy="228600"/>
                <a:chOff x="8116920" y="3184560"/>
                <a:chExt cx="217440" cy="228600"/>
              </a:xfrm>
            </p:grpSpPr>
            <p:sp>
              <p:nvSpPr>
                <p:cNvPr id="2379" name=""/>
                <p:cNvSpPr/>
                <p:nvPr/>
              </p:nvSpPr>
              <p:spPr>
                <a:xfrm>
                  <a:off x="8158320" y="31845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8158320" y="31845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8223120" y="322596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8223120" y="322596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8231040" y="329868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8231040" y="329868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8116920" y="330840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8116920" y="330840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8183520" y="325296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8120160" y="3187800"/>
                <a:ext cx="217440" cy="228600"/>
                <a:chOff x="8120160" y="3187800"/>
                <a:chExt cx="217440" cy="22860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8161200" y="31878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8161200" y="31878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8226360" y="32288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8226360" y="32288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8234280" y="330192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8234280" y="330192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8120160" y="331164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8120160" y="331164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8186760" y="325584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98" name=""/>
          <p:cNvGrpSpPr/>
          <p:nvPr/>
        </p:nvGrpSpPr>
        <p:grpSpPr>
          <a:xfrm>
            <a:off x="8640720" y="3324240"/>
            <a:ext cx="274680" cy="280800"/>
            <a:chOff x="8640720" y="3324240"/>
            <a:chExt cx="274680" cy="280800"/>
          </a:xfrm>
        </p:grpSpPr>
        <p:grpSp>
          <p:nvGrpSpPr>
            <p:cNvPr id="2399" name=""/>
            <p:cNvGrpSpPr/>
            <p:nvPr/>
          </p:nvGrpSpPr>
          <p:grpSpPr>
            <a:xfrm>
              <a:off x="8640720" y="3324240"/>
              <a:ext cx="274680" cy="280800"/>
              <a:chOff x="8640720" y="3324240"/>
              <a:chExt cx="274680" cy="280800"/>
            </a:xfrm>
          </p:grpSpPr>
          <p:sp>
            <p:nvSpPr>
              <p:cNvPr id="2400" name=""/>
              <p:cNvSpPr/>
              <p:nvPr/>
            </p:nvSpPr>
            <p:spPr>
              <a:xfrm>
                <a:off x="8640720" y="3354480"/>
                <a:ext cx="241200" cy="2505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645400" y="335916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640720" y="33242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8640720" y="33242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8881920" y="3324240"/>
                <a:ext cx="3348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8881920" y="3324240"/>
                <a:ext cx="3348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6" name=""/>
            <p:cNvGrpSpPr/>
            <p:nvPr/>
          </p:nvGrpSpPr>
          <p:grpSpPr>
            <a:xfrm>
              <a:off x="8655120" y="3365640"/>
              <a:ext cx="222120" cy="231480"/>
              <a:chOff x="8655120" y="3365640"/>
              <a:chExt cx="222120" cy="231480"/>
            </a:xfrm>
          </p:grpSpPr>
          <p:grpSp>
            <p:nvGrpSpPr>
              <p:cNvPr id="2407" name=""/>
              <p:cNvGrpSpPr/>
              <p:nvPr/>
            </p:nvGrpSpPr>
            <p:grpSpPr>
              <a:xfrm>
                <a:off x="8655120" y="3365640"/>
                <a:ext cx="218880" cy="228600"/>
                <a:chOff x="8655120" y="3365640"/>
                <a:chExt cx="218880" cy="22860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8696160" y="33656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8696160" y="33656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8763120" y="340668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8763120" y="340668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771040" y="34797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771040" y="34797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655120" y="34894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8655120" y="34894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8723160" y="343368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7" name=""/>
              <p:cNvGrpSpPr/>
              <p:nvPr/>
            </p:nvGrpSpPr>
            <p:grpSpPr>
              <a:xfrm>
                <a:off x="8658360" y="3368520"/>
                <a:ext cx="218880" cy="228600"/>
                <a:chOff x="8658360" y="3368520"/>
                <a:chExt cx="218880" cy="228600"/>
              </a:xfrm>
            </p:grpSpPr>
            <p:sp>
              <p:nvSpPr>
                <p:cNvPr id="2418" name=""/>
                <p:cNvSpPr/>
                <p:nvPr/>
              </p:nvSpPr>
              <p:spPr>
                <a:xfrm>
                  <a:off x="8699400" y="3368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8699400" y="3368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8766000" y="34099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8766000" y="34099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8774280" y="34830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8774280" y="34830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8658360" y="349236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8658360" y="349236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8726400" y="343692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427" name="" descr=""/>
          <p:cNvPicPr/>
          <p:nvPr/>
        </p:nvPicPr>
        <p:blipFill>
          <a:blip r:embed="rId8"/>
          <a:stretch/>
        </p:blipFill>
        <p:spPr>
          <a:xfrm>
            <a:off x="7682040" y="4667400"/>
            <a:ext cx="331560" cy="264960"/>
          </a:xfrm>
          <a:prstGeom prst="rect">
            <a:avLst/>
          </a:prstGeom>
          <a:ln w="0">
            <a:noFill/>
          </a:ln>
        </p:spPr>
      </p:pic>
      <p:grpSp>
        <p:nvGrpSpPr>
          <p:cNvPr id="2428" name=""/>
          <p:cNvGrpSpPr/>
          <p:nvPr/>
        </p:nvGrpSpPr>
        <p:grpSpPr>
          <a:xfrm>
            <a:off x="7802640" y="5394240"/>
            <a:ext cx="272880" cy="281160"/>
            <a:chOff x="7802640" y="5394240"/>
            <a:chExt cx="272880" cy="281160"/>
          </a:xfrm>
        </p:grpSpPr>
        <p:grpSp>
          <p:nvGrpSpPr>
            <p:cNvPr id="2429" name=""/>
            <p:cNvGrpSpPr/>
            <p:nvPr/>
          </p:nvGrpSpPr>
          <p:grpSpPr>
            <a:xfrm>
              <a:off x="7802640" y="5394240"/>
              <a:ext cx="272880" cy="281160"/>
              <a:chOff x="7802640" y="5394240"/>
              <a:chExt cx="272880" cy="281160"/>
            </a:xfrm>
          </p:grpSpPr>
          <p:sp>
            <p:nvSpPr>
              <p:cNvPr id="2430" name=""/>
              <p:cNvSpPr/>
              <p:nvPr/>
            </p:nvSpPr>
            <p:spPr>
              <a:xfrm>
                <a:off x="7802640" y="542448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807320" y="5429160"/>
                <a:ext cx="230040" cy="2415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802640" y="53942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802640" y="53942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043840" y="53942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043840" y="53942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6" name=""/>
            <p:cNvGrpSpPr/>
            <p:nvPr/>
          </p:nvGrpSpPr>
          <p:grpSpPr>
            <a:xfrm>
              <a:off x="7816680" y="5435640"/>
              <a:ext cx="220680" cy="231840"/>
              <a:chOff x="7816680" y="5435640"/>
              <a:chExt cx="220680" cy="231840"/>
            </a:xfrm>
          </p:grpSpPr>
          <p:grpSp>
            <p:nvGrpSpPr>
              <p:cNvPr id="2437" name=""/>
              <p:cNvGrpSpPr/>
              <p:nvPr/>
            </p:nvGrpSpPr>
            <p:grpSpPr>
              <a:xfrm>
                <a:off x="7816680" y="5435640"/>
                <a:ext cx="217800" cy="228600"/>
                <a:chOff x="7816680" y="5435640"/>
                <a:chExt cx="217800" cy="228600"/>
              </a:xfrm>
            </p:grpSpPr>
            <p:sp>
              <p:nvSpPr>
                <p:cNvPr id="2438" name=""/>
                <p:cNvSpPr/>
                <p:nvPr/>
              </p:nvSpPr>
              <p:spPr>
                <a:xfrm>
                  <a:off x="7858080" y="54356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7858080" y="54356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7923240" y="547704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7923240" y="547704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7931160" y="55497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7931160" y="55497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7816680" y="55594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7816680" y="55594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7883640" y="550404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7" name=""/>
              <p:cNvGrpSpPr/>
              <p:nvPr/>
            </p:nvGrpSpPr>
            <p:grpSpPr>
              <a:xfrm>
                <a:off x="7819920" y="5438880"/>
                <a:ext cx="217440" cy="228600"/>
                <a:chOff x="7819920" y="5438880"/>
                <a:chExt cx="217440" cy="228600"/>
              </a:xfrm>
            </p:grpSpPr>
            <p:sp>
              <p:nvSpPr>
                <p:cNvPr id="2448" name=""/>
                <p:cNvSpPr/>
                <p:nvPr/>
              </p:nvSpPr>
              <p:spPr>
                <a:xfrm>
                  <a:off x="7861320" y="54388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7861320" y="54388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7926480" y="547992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7926480" y="547992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7934400" y="55530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7934400" y="55530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7819920" y="556272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7819920" y="556272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7886880" y="550692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57" name=""/>
          <p:cNvGrpSpPr/>
          <p:nvPr/>
        </p:nvGrpSpPr>
        <p:grpSpPr>
          <a:xfrm>
            <a:off x="8435880" y="5060880"/>
            <a:ext cx="273240" cy="282600"/>
            <a:chOff x="8435880" y="5060880"/>
            <a:chExt cx="273240" cy="282600"/>
          </a:xfrm>
        </p:grpSpPr>
        <p:grpSp>
          <p:nvGrpSpPr>
            <p:cNvPr id="2458" name=""/>
            <p:cNvGrpSpPr/>
            <p:nvPr/>
          </p:nvGrpSpPr>
          <p:grpSpPr>
            <a:xfrm>
              <a:off x="8435880" y="5060880"/>
              <a:ext cx="273240" cy="282600"/>
              <a:chOff x="8435880" y="5060880"/>
              <a:chExt cx="273240" cy="282600"/>
            </a:xfrm>
          </p:grpSpPr>
          <p:sp>
            <p:nvSpPr>
              <p:cNvPr id="2459" name=""/>
              <p:cNvSpPr/>
              <p:nvPr/>
            </p:nvSpPr>
            <p:spPr>
              <a:xfrm>
                <a:off x="8435880" y="509112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8440560" y="5095800"/>
                <a:ext cx="230400" cy="2430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8435880" y="50608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8435880" y="50608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8677440" y="506088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8677440" y="506088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5" name=""/>
            <p:cNvGrpSpPr/>
            <p:nvPr/>
          </p:nvGrpSpPr>
          <p:grpSpPr>
            <a:xfrm>
              <a:off x="8450280" y="5102280"/>
              <a:ext cx="220680" cy="233280"/>
              <a:chOff x="8450280" y="5102280"/>
              <a:chExt cx="220680" cy="233280"/>
            </a:xfrm>
          </p:grpSpPr>
          <p:grpSp>
            <p:nvGrpSpPr>
              <p:cNvPr id="2466" name=""/>
              <p:cNvGrpSpPr/>
              <p:nvPr/>
            </p:nvGrpSpPr>
            <p:grpSpPr>
              <a:xfrm>
                <a:off x="8450280" y="5102280"/>
                <a:ext cx="217440" cy="230040"/>
                <a:chOff x="8450280" y="5102280"/>
                <a:chExt cx="217440" cy="23004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8491680" y="51022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8491680" y="51022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8556480" y="51436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8556480" y="51436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8564400" y="521820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8564400" y="521820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8450280" y="52275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8450280" y="52275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8516880" y="517032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6" name=""/>
              <p:cNvGrpSpPr/>
              <p:nvPr/>
            </p:nvGrpSpPr>
            <p:grpSpPr>
              <a:xfrm>
                <a:off x="8453520" y="5105520"/>
                <a:ext cx="217440" cy="230040"/>
                <a:chOff x="8453520" y="5105520"/>
                <a:chExt cx="217440" cy="230040"/>
              </a:xfrm>
            </p:grpSpPr>
            <p:sp>
              <p:nvSpPr>
                <p:cNvPr id="2477" name=""/>
                <p:cNvSpPr/>
                <p:nvPr/>
              </p:nvSpPr>
              <p:spPr>
                <a:xfrm>
                  <a:off x="8494560" y="5105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8494560" y="5105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8559720" y="514656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8559720" y="514656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8567640" y="52214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8567640" y="52214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8453520" y="522936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8453520" y="522936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8520120" y="517356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86" name=""/>
          <p:cNvGrpSpPr/>
          <p:nvPr/>
        </p:nvGrpSpPr>
        <p:grpSpPr>
          <a:xfrm>
            <a:off x="8521560" y="4545000"/>
            <a:ext cx="273240" cy="282600"/>
            <a:chOff x="8521560" y="4545000"/>
            <a:chExt cx="273240" cy="282600"/>
          </a:xfrm>
        </p:grpSpPr>
        <p:grpSp>
          <p:nvGrpSpPr>
            <p:cNvPr id="2487" name=""/>
            <p:cNvGrpSpPr/>
            <p:nvPr/>
          </p:nvGrpSpPr>
          <p:grpSpPr>
            <a:xfrm>
              <a:off x="8521560" y="4545000"/>
              <a:ext cx="273240" cy="282600"/>
              <a:chOff x="8521560" y="4545000"/>
              <a:chExt cx="273240" cy="282600"/>
            </a:xfrm>
          </p:grpSpPr>
          <p:sp>
            <p:nvSpPr>
              <p:cNvPr id="2488" name=""/>
              <p:cNvSpPr/>
              <p:nvPr/>
            </p:nvSpPr>
            <p:spPr>
              <a:xfrm>
                <a:off x="8521560" y="457524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8526600" y="4579920"/>
                <a:ext cx="230040" cy="2430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8521560" y="454500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8521560" y="454500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8763120" y="454500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763120" y="454500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8535960" y="4586400"/>
              <a:ext cx="220680" cy="233280"/>
              <a:chOff x="8535960" y="4586400"/>
              <a:chExt cx="220680" cy="233280"/>
            </a:xfrm>
          </p:grpSpPr>
          <p:grpSp>
            <p:nvGrpSpPr>
              <p:cNvPr id="2495" name=""/>
              <p:cNvGrpSpPr/>
              <p:nvPr/>
            </p:nvGrpSpPr>
            <p:grpSpPr>
              <a:xfrm>
                <a:off x="8535960" y="4586400"/>
                <a:ext cx="217440" cy="230040"/>
                <a:chOff x="8535960" y="4586400"/>
                <a:chExt cx="217440" cy="230040"/>
              </a:xfrm>
            </p:grpSpPr>
            <p:sp>
              <p:nvSpPr>
                <p:cNvPr id="2496" name=""/>
                <p:cNvSpPr/>
                <p:nvPr/>
              </p:nvSpPr>
              <p:spPr>
                <a:xfrm>
                  <a:off x="8577360" y="458640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8577360" y="458640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8642520" y="462744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8642520" y="462744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8650440" y="470232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8650440" y="470232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8535960" y="471168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8535960" y="471168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8602560" y="465444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8539200" y="4589640"/>
                <a:ext cx="217440" cy="230040"/>
                <a:chOff x="8539200" y="4589640"/>
                <a:chExt cx="217440" cy="23004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8580600" y="4589640"/>
                  <a:ext cx="61920" cy="11556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8580600" y="4589640"/>
                  <a:ext cx="61920" cy="11556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8645400" y="463068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8645400" y="463068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8653320" y="47052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8653320" y="47052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8539200" y="471312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8539200" y="471312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8605800" y="465768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15" name=""/>
          <p:cNvSpPr/>
          <p:nvPr/>
        </p:nvSpPr>
        <p:spPr>
          <a:xfrm>
            <a:off x="7866000" y="4911840"/>
            <a:ext cx="11736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985160" y="4851360"/>
            <a:ext cx="450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7985160" y="4727520"/>
            <a:ext cx="53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7813800" y="3979800"/>
            <a:ext cx="0" cy="70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9" name=""/>
          <p:cNvGrpSpPr/>
          <p:nvPr/>
        </p:nvGrpSpPr>
        <p:grpSpPr>
          <a:xfrm>
            <a:off x="8675640" y="3743280"/>
            <a:ext cx="273240" cy="281160"/>
            <a:chOff x="8675640" y="3743280"/>
            <a:chExt cx="273240" cy="281160"/>
          </a:xfrm>
        </p:grpSpPr>
        <p:grpSp>
          <p:nvGrpSpPr>
            <p:cNvPr id="2520" name=""/>
            <p:cNvGrpSpPr/>
            <p:nvPr/>
          </p:nvGrpSpPr>
          <p:grpSpPr>
            <a:xfrm>
              <a:off x="8675640" y="3743280"/>
              <a:ext cx="273240" cy="281160"/>
              <a:chOff x="8675640" y="3743280"/>
              <a:chExt cx="273240" cy="281160"/>
            </a:xfrm>
          </p:grpSpPr>
          <p:sp>
            <p:nvSpPr>
              <p:cNvPr id="2521" name=""/>
              <p:cNvSpPr/>
              <p:nvPr/>
            </p:nvSpPr>
            <p:spPr>
              <a:xfrm>
                <a:off x="8675640" y="377352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680320" y="3778200"/>
                <a:ext cx="23040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675640" y="37432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75640" y="37432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8916840" y="3743280"/>
                <a:ext cx="3204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916840" y="3743280"/>
                <a:ext cx="3204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7" name=""/>
            <p:cNvGrpSpPr/>
            <p:nvPr/>
          </p:nvGrpSpPr>
          <p:grpSpPr>
            <a:xfrm>
              <a:off x="8690040" y="3784680"/>
              <a:ext cx="220680" cy="231840"/>
              <a:chOff x="8690040" y="3784680"/>
              <a:chExt cx="220680" cy="231840"/>
            </a:xfrm>
          </p:grpSpPr>
          <p:grpSp>
            <p:nvGrpSpPr>
              <p:cNvPr id="2528" name=""/>
              <p:cNvGrpSpPr/>
              <p:nvPr/>
            </p:nvGrpSpPr>
            <p:grpSpPr>
              <a:xfrm>
                <a:off x="8690040" y="3784680"/>
                <a:ext cx="217440" cy="228600"/>
                <a:chOff x="8690040" y="3784680"/>
                <a:chExt cx="217440" cy="228600"/>
              </a:xfrm>
            </p:grpSpPr>
            <p:sp>
              <p:nvSpPr>
                <p:cNvPr id="2529" name=""/>
                <p:cNvSpPr/>
                <p:nvPr/>
              </p:nvSpPr>
              <p:spPr>
                <a:xfrm>
                  <a:off x="8731080" y="37846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8731080" y="37846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8796240" y="38257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8796240" y="38257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8804160" y="38988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8804160" y="38988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8690040" y="39085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8690040" y="39085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8756640" y="385272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8693280" y="3787920"/>
                <a:ext cx="217440" cy="228600"/>
                <a:chOff x="8693280" y="3787920"/>
                <a:chExt cx="217440" cy="228600"/>
              </a:xfrm>
            </p:grpSpPr>
            <p:sp>
              <p:nvSpPr>
                <p:cNvPr id="2539" name=""/>
                <p:cNvSpPr/>
                <p:nvPr/>
              </p:nvSpPr>
              <p:spPr>
                <a:xfrm>
                  <a:off x="8734320" y="3787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8734320" y="3787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8799480" y="38289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8799480" y="38289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8807400" y="39020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8807400" y="39020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8693280" y="391176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8693280" y="391176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8759880" y="385596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48" name=""/>
          <p:cNvGrpSpPr/>
          <p:nvPr/>
        </p:nvGrpSpPr>
        <p:grpSpPr>
          <a:xfrm>
            <a:off x="5575320" y="3095640"/>
            <a:ext cx="272880" cy="280800"/>
            <a:chOff x="5575320" y="3095640"/>
            <a:chExt cx="272880" cy="280800"/>
          </a:xfrm>
        </p:grpSpPr>
        <p:grpSp>
          <p:nvGrpSpPr>
            <p:cNvPr id="2549" name=""/>
            <p:cNvGrpSpPr/>
            <p:nvPr/>
          </p:nvGrpSpPr>
          <p:grpSpPr>
            <a:xfrm>
              <a:off x="5575320" y="3095640"/>
              <a:ext cx="272880" cy="280800"/>
              <a:chOff x="5575320" y="3095640"/>
              <a:chExt cx="272880" cy="280800"/>
            </a:xfrm>
          </p:grpSpPr>
          <p:sp>
            <p:nvSpPr>
              <p:cNvPr id="2550" name=""/>
              <p:cNvSpPr/>
              <p:nvPr/>
            </p:nvSpPr>
            <p:spPr>
              <a:xfrm>
                <a:off x="5575320" y="3125880"/>
                <a:ext cx="241200" cy="2505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580000" y="3130560"/>
                <a:ext cx="23040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75320" y="30956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575320" y="30956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816520" y="30956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816520" y="30956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6" name=""/>
            <p:cNvGrpSpPr/>
            <p:nvPr/>
          </p:nvGrpSpPr>
          <p:grpSpPr>
            <a:xfrm>
              <a:off x="5589720" y="3137040"/>
              <a:ext cx="220680" cy="231480"/>
              <a:chOff x="5589720" y="3137040"/>
              <a:chExt cx="220680" cy="231480"/>
            </a:xfrm>
          </p:grpSpPr>
          <p:grpSp>
            <p:nvGrpSpPr>
              <p:cNvPr id="2557" name=""/>
              <p:cNvGrpSpPr/>
              <p:nvPr/>
            </p:nvGrpSpPr>
            <p:grpSpPr>
              <a:xfrm>
                <a:off x="5589720" y="3137040"/>
                <a:ext cx="217440" cy="228600"/>
                <a:chOff x="5589720" y="3137040"/>
                <a:chExt cx="217440" cy="228600"/>
              </a:xfrm>
            </p:grpSpPr>
            <p:sp>
              <p:nvSpPr>
                <p:cNvPr id="2558" name=""/>
                <p:cNvSpPr/>
                <p:nvPr/>
              </p:nvSpPr>
              <p:spPr>
                <a:xfrm>
                  <a:off x="5630760" y="3137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5630760" y="3137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5695920" y="3178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5695920" y="3178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5703840" y="325116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5703840" y="325116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5589720" y="32608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5589720" y="32608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5656320" y="320508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7" name=""/>
              <p:cNvGrpSpPr/>
              <p:nvPr/>
            </p:nvGrpSpPr>
            <p:grpSpPr>
              <a:xfrm>
                <a:off x="5592600" y="3139920"/>
                <a:ext cx="217800" cy="228600"/>
                <a:chOff x="5592600" y="3139920"/>
                <a:chExt cx="217800" cy="22860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5634000" y="3139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5634000" y="3139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5699160" y="3181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5699160" y="3181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5707080" y="32544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5707080" y="32544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5592600" y="32637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5592600" y="32637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5659560" y="320832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77" name=""/>
          <p:cNvSpPr/>
          <p:nvPr/>
        </p:nvSpPr>
        <p:spPr>
          <a:xfrm>
            <a:off x="5816520" y="3333600"/>
            <a:ext cx="38124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5481720" y="4889520"/>
            <a:ext cx="668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149880" y="489096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flipH="1">
            <a:off x="6391440" y="4192560"/>
            <a:ext cx="9360" cy="414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 flipH="1">
            <a:off x="6391440" y="4570560"/>
            <a:ext cx="390240" cy="33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3851280" y="2557440"/>
            <a:ext cx="2295360" cy="1308240"/>
          </a:xfrm>
          <a:custGeom>
            <a:avLst/>
            <a:gdLst/>
            <a:ahLst/>
            <a:rect l="l" t="t" r="r" b="b"/>
            <a:pathLst>
              <a:path w="1446" h="824">
                <a:moveTo>
                  <a:pt x="0" y="0"/>
                </a:moveTo>
                <a:lnTo>
                  <a:pt x="739" y="381"/>
                </a:lnTo>
                <a:lnTo>
                  <a:pt x="637" y="406"/>
                </a:lnTo>
                <a:lnTo>
                  <a:pt x="1445" y="823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876920" y="2209680"/>
            <a:ext cx="1144440" cy="916200"/>
          </a:xfrm>
          <a:custGeom>
            <a:avLst/>
            <a:gdLst/>
            <a:ahLst/>
            <a:rect l="l" t="t" r="r" b="b"/>
            <a:pathLst>
              <a:path w="721" h="577">
                <a:moveTo>
                  <a:pt x="206" y="576"/>
                </a:moveTo>
                <a:lnTo>
                  <a:pt x="411" y="384"/>
                </a:lnTo>
                <a:lnTo>
                  <a:pt x="309" y="384"/>
                </a:lnTo>
                <a:lnTo>
                  <a:pt x="309" y="192"/>
                </a:lnTo>
                <a:lnTo>
                  <a:pt x="720" y="192"/>
                </a:lnTo>
                <a:lnTo>
                  <a:pt x="720" y="0"/>
                </a:lnTo>
                <a:lnTo>
                  <a:pt x="103" y="0"/>
                </a:lnTo>
                <a:lnTo>
                  <a:pt x="103" y="384"/>
                </a:lnTo>
                <a:lnTo>
                  <a:pt x="0" y="384"/>
                </a:lnTo>
                <a:lnTo>
                  <a:pt x="206" y="576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247800" y="213372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N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809880" y="25146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pac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T =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/(2N - 1), if solve for 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ields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- 2NT + T = 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ues of N are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If T = 120 pps, c = 100 pp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.69,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0.7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8" name=""/>
              <p:cNvSpPr txBox="1"/>
              <p:nvPr/>
            </p:nvSpPr>
            <p:spPr>
              <a:xfrm>
                <a:off x="4168800" y="3484440"/>
                <a:ext cx="38955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pac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 of s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1.69 =&gt; let N =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0.71 =&gt; let N =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N = 2, then T = 133 pps &gt; 120 p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N = 1, then T = 100 pps &lt; 120 p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use N = 2 to obtain required capa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ffic consolid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iminate multiple paths for different traffic typ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location sharing of equipment and facili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routing and redundanc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-bandwidth switched-services platfor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c switched-data networks can be us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CP/IP most common backbone network and inter-network protoc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lf-duplex protocols generate large amounts of overhe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bone network must be faster than access devices on maximum burst bas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term planning allows integration of capacity additions and technology chang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 use of connection-oriented or connectless serv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 service imp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ure user understands service imp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Lay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 focuses 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s should be transpar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transparent to access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standar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tform interfa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 user features, functions,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56240" y="2827440"/>
            <a:ext cx="2201760" cy="15922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93920" y="3429000"/>
            <a:ext cx="46404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93920" y="3360600"/>
            <a:ext cx="4640400" cy="10591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214720" y="2824200"/>
            <a:ext cx="2125440" cy="14400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572000" y="2824200"/>
            <a:ext cx="0" cy="2201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0240" y="3436920"/>
            <a:ext cx="2201760" cy="18208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14720" y="3510000"/>
            <a:ext cx="4564080" cy="9828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0240" y="4572000"/>
            <a:ext cx="433548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957920" y="4424040"/>
            <a:ext cx="1820880" cy="6778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7600" y="4351320"/>
            <a:ext cx="2049480" cy="7542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284640"/>
            <a:ext cx="0" cy="1058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367000" y="2595600"/>
            <a:ext cx="1973160" cy="5256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60800" y="2598840"/>
            <a:ext cx="1820880" cy="6015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284640"/>
            <a:ext cx="0" cy="1058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vate Line Backbon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24360" y="22590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24360" y="4849920"/>
            <a:ext cx="1368360" cy="874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33440" y="28684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515280" y="29448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7480" y="40114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515280" y="4087800"/>
            <a:ext cx="1368360" cy="874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44480" y="5396040"/>
            <a:ext cx="2981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 = N*(N-1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 - Number of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- Number of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7760" y="1508040"/>
            <a:ext cx="12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60440" y="3589200"/>
            <a:ext cx="1744920" cy="13636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8400" y="5740560"/>
            <a:ext cx="2849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ully me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ully redund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56240" y="2827440"/>
            <a:ext cx="2201760" cy="15922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14720" y="2824200"/>
            <a:ext cx="2125440" cy="14400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72000" y="2824200"/>
            <a:ext cx="0" cy="2201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957920" y="4424040"/>
            <a:ext cx="1820880" cy="6778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17600" y="4351320"/>
            <a:ext cx="2049480" cy="7542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284640"/>
            <a:ext cx="0" cy="1058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367000" y="2595600"/>
            <a:ext cx="1973160" cy="5256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60800" y="2598840"/>
            <a:ext cx="1820880" cy="6015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3284640"/>
            <a:ext cx="0" cy="1058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vate Line Backbon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22590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24360" y="4849920"/>
            <a:ext cx="1368360" cy="87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3440" y="28684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515280" y="29448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257480" y="40114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515280" y="4087800"/>
            <a:ext cx="1368360" cy="874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6600" y="5562720"/>
            <a:ext cx="3522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or “seriou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outage du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7760" y="1508040"/>
            <a:ext cx="12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7320" y="5740560"/>
            <a:ext cx="249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emi-me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27840" y="4808520"/>
            <a:ext cx="1668240" cy="5256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874840" y="3970440"/>
            <a:ext cx="1668600" cy="5252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579920" y="1989000"/>
            <a:ext cx="982800" cy="9828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6920" y="1989000"/>
            <a:ext cx="1135080" cy="11350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60400" y="3894120"/>
            <a:ext cx="1440000" cy="6015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04880" y="4652640"/>
            <a:ext cx="1363680" cy="7542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9920" y="3132000"/>
            <a:ext cx="1211400" cy="1287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208320" y="3132000"/>
            <a:ext cx="982800" cy="1440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60600" y="4724280"/>
            <a:ext cx="21258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tched Service Backbon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81360" y="1573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68640" y="2565360"/>
            <a:ext cx="1104840" cy="1092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97040" y="4089240"/>
            <a:ext cx="1104840" cy="1092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264280" y="4089240"/>
            <a:ext cx="1104840" cy="109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991040" y="1573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952560" y="35542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876240" y="5002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7048440" y="35542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7048440" y="5002200"/>
            <a:ext cx="1368360" cy="874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23320" y="5775480"/>
            <a:ext cx="12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76160" y="5241960"/>
            <a:ext cx="163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9T20:43:30Z</dcterms:created>
  <dc:creator/>
  <dc:description/>
  <dc:language>en-US</dc:language>
  <cp:lastModifiedBy>NCR User</cp:lastModifiedBy>
  <cp:lastPrinted>1999-04-07T17:12:47Z</cp:lastPrinted>
  <dcterms:modified xsi:type="dcterms:W3CDTF">2003-03-31T18:03:39Z</dcterms:modified>
  <cp:revision>38</cp:revision>
  <dc:subject/>
  <dc:title>Calculating Response Time</dc:title>
</cp:coreProperties>
</file>